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EE620-6D90-4C3E-A595-5EFB3FBA4885}"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9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EC51C-D997-4E88-A6BC-95449128023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2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F66F5-6DCD-4053-9CA1-A15096FA7611}"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2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204EF-C0C7-4448-A1EF-21BE5B3C2462}"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3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19251-670E-454D-B0CB-45150C01F271}"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3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3E322-4762-4184-A82E-0810ABB18EC2}"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3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37BDB-F4E8-469B-8D45-0921085BA1BB}"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4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E9C27-22E5-444C-8629-E5D8D0F6C5BB}"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4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41EFA-EB78-472D-A3F1-CC477E5F5CC5}"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4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C0061-14DC-4EC8-904D-2AEEDE1AC78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4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BA471-C88E-4894-A1C4-3F5DE45D8B96}"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5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B6887-0DAD-4BF1-90F4-4C2F8B26EF4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0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A3ABC-BAEB-436A-B056-4CBDB501280C}"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5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8AF98-3D3E-4361-BEEC-0E42F858281B}"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5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12A0A-964F-447E-B98C-8E11ED249A10}"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6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97A03-DB3D-4D22-9C15-85EB051A0F5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6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5E1A1-1708-4141-A09D-D21EB2C311F5}"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6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41DD9-3AD3-4B89-BA71-44BCB21730AF}"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7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954DD-49EC-4ACD-9CD9-FE7EB8F8196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7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377EF-F9F3-4ACE-B374-C4F3B4E8F7EE}"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7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36044-80D7-4AF4-9DC0-861762D1B18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7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92DE0-F4DE-4778-BF81-77FD0D87B6F1}"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8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E621A-CEF8-46FD-809A-E547B7D2637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0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53C83-A9FD-426A-9866-703AE2754FAB}"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8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E9AE5-0F3A-4431-B579-FA3E95B08891}"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8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5316A-6521-42FF-A03B-EBEB4E7228FB}"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9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8A93F-86FB-4175-AE85-8C0B3EAF017C}"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9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64979-E32E-47E4-A658-1C26AD85C35E}"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9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CB629-2CF9-4E44-BDAB-5A3A0B1C262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0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800CB-9C41-418F-8C21-6144252F5F95}"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0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2079E-3926-4565-9AFA-42295E7871C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0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A440B-CC4B-45A7-A506-B90401DDE700}"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0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4FA97-1A4C-4D39-8883-8DF57623B120}"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1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E4F99-3774-45A3-B150-1A6C86897D72}"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0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D716A-B99D-4B25-92A3-BCA40F069CF5}"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1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080DD-5EB7-4AF1-B0D3-EC5B2F96BB0A}"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1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19553-A319-485D-8249-3AACC98F1D3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2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0C873-A3E6-4255-BD4F-10ECC9ED57AE}"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2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F1443-5B12-4742-B44B-BFA6B73A55B0}"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2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EFC40-02B1-4194-A4EB-ABECA0C4415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3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C4404-70FF-4F63-9FEB-6765325B1A2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3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1D05A-68D9-427D-A797-23FBE0258C8A}"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3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44588-F15D-4801-AA8B-3A352ADC6D2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1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7684A-E1A9-418F-BAAA-88495BA78F41}"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1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73238-994D-402E-B22E-53B97BF459EF}"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1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CCD8F-5540-4CA3-9F8F-4B20EDBBBCE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1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C3B8E-F037-43CF-BA14-5B5440B70D13}"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2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9BA44-E093-4344-B3A7-9810E8B6D98A}"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79A6C2-D0C1-4049-974C-72E5516FAA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C9EB3-75C2-47FF-8698-03D462477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A614D0-76D5-4C8F-8B65-5B96208B3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6028F8-CCD9-4AE2-AF5B-A86393817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F73830-EDF4-4B36-AB1B-9AD551DF9C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4129D2-287B-4FB2-9FB3-CDA60474E9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9BC448-E9E1-42F0-94D6-416E5B1D57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A0659-02C7-43CB-A07D-41A41D665D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3D03A0-D030-4008-B5D0-FE52E59E6E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8654F0-2E7E-4C94-93F9-854A11A8C1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59995-067B-44ED-86DC-83F53376A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82193-EB6C-4C65-9A79-C7E7223D2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63AD0-03C4-43AF-A5E6-EF7FB73F1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64392-3ACE-4ED8-9F23-456C4FEA2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1D1DF4-ACFF-4248-B11F-53489A80BD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6B8029-B1D4-4881-9829-682053CD7E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E1538B-D82E-45DA-9624-8ADEFE5E21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39B41A-CBBC-44C0-8527-E2FA241516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17EC4A-4B28-47D5-BE8A-A00AB20DF2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B4A430-2852-4F63-AE75-449FE08503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DB030D-4430-4D05-83C5-3751CF3004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A7ABF6-2E76-4884-B1DC-3960534DA5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CCBBE-F149-4E58-868D-EB1B264D2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581366-98B3-46EB-B08E-B9F8ECBAF6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062896-050B-46CB-90D0-647AA1F6BF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396421-6C76-4A38-828B-A3FA040BD2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CBB032-C2AE-465C-8938-3097D52A95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C46C20-A0A5-4C33-8B53-3D1B559B23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238D45-24D4-45B9-A900-DD2D00ADD9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C087BD-0814-4B5F-AC31-B3E503750C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22161C-7BF3-4DD1-B1B4-274EC1D9BA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F0F004-08E4-45C9-ADBF-E8DA5D32C4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7EA4D0-BD34-4936-AFD8-5371DEC559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36366-F9EF-4C13-B111-67EF54C05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A65B18-8916-41AE-9FEE-35E11CAD8C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1BDA79-E0B6-47B2-A203-2D83FAD835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361CA0-FA02-4631-8BA4-0918923CF3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0D1CBF-9366-4EAE-9487-7365798A59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56C590-8967-4724-9A91-FA6238A724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1436EA-6C3B-4BC8-A3D7-7A82758E40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CDEB2D-E75F-4B07-BCA4-028CC349D8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71DF20-C4F5-42BE-A1E8-5B513D137B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2A5309-4A01-41A0-9DF1-EEEAD069ED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DC197-1E54-40C2-8D30-F58544E7F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34A01-AEFD-47B5-9DDE-183D6AF78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02E5A-DA0F-490D-B950-AE42C6218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3E063-58EC-4FBC-80CB-4D01AAC57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41331-2AA6-4EB0-B6E8-43FDD5E7D3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Dowolny kształt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Dowolny kształt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67C43-EF56-40C4-8D34-24945EE0EA57}" type="slidenum">
              <a:rPr b="0" lang="pl-PL"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upa 1"/>
          <p:cNvGrpSpPr/>
          <p:nvPr/>
        </p:nvGrpSpPr>
        <p:grpSpPr>
          <a:xfrm>
            <a:off x="-19080" y="203040"/>
            <a:ext cx="9181080" cy="648000"/>
            <a:chOff x="-19080" y="203040"/>
            <a:chExt cx="9181080" cy="648000"/>
          </a:xfrm>
        </p:grpSpPr>
        <p:grpSp>
          <p:nvGrpSpPr>
            <p:cNvPr id="8" name="Dowolny kształt 11"/>
            <p:cNvGrpSpPr/>
            <p:nvPr/>
          </p:nvGrpSpPr>
          <p:grpSpPr>
            <a:xfrm>
              <a:off x="-19080" y="203040"/>
              <a:ext cx="9156600" cy="648000"/>
              <a:chOff x="-19080" y="203040"/>
              <a:chExt cx="9156600" cy="648000"/>
            </a:xfrm>
          </p:grpSpPr>
          <p:pic>
            <p:nvPicPr>
              <p:cNvPr id="9" name="Dowolny kształt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Dowolny kształt 12"/>
            <p:cNvGrpSpPr/>
            <p:nvPr/>
          </p:nvGrpSpPr>
          <p:grpSpPr>
            <a:xfrm>
              <a:off x="-19080" y="248040"/>
              <a:ext cx="9181080" cy="561600"/>
              <a:chOff x="-19080" y="248040"/>
              <a:chExt cx="9181080" cy="561600"/>
            </a:xfrm>
          </p:grpSpPr>
          <p:pic>
            <p:nvPicPr>
              <p:cNvPr id="12" name="Dowolny kształt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Dowolny kształt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Dowolny kształt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upa 1"/>
          <p:cNvGrpSpPr/>
          <p:nvPr/>
        </p:nvGrpSpPr>
        <p:grpSpPr>
          <a:xfrm>
            <a:off x="-19080" y="203040"/>
            <a:ext cx="9181080" cy="648000"/>
            <a:chOff x="-19080" y="203040"/>
            <a:chExt cx="9181080" cy="648000"/>
          </a:xfrm>
        </p:grpSpPr>
        <p:grpSp>
          <p:nvGrpSpPr>
            <p:cNvPr id="53" name="Dowolny kształt 11"/>
            <p:cNvGrpSpPr/>
            <p:nvPr/>
          </p:nvGrpSpPr>
          <p:grpSpPr>
            <a:xfrm>
              <a:off x="-19080" y="203040"/>
              <a:ext cx="9156600" cy="648000"/>
              <a:chOff x="-19080" y="203040"/>
              <a:chExt cx="9156600" cy="648000"/>
            </a:xfrm>
          </p:grpSpPr>
          <p:pic>
            <p:nvPicPr>
              <p:cNvPr id="54" name="Dowolny kształt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Dowolny kształt 12"/>
            <p:cNvGrpSpPr/>
            <p:nvPr/>
          </p:nvGrpSpPr>
          <p:grpSpPr>
            <a:xfrm>
              <a:off x="-19080" y="248040"/>
              <a:ext cx="9181080" cy="561600"/>
              <a:chOff x="-19080" y="248040"/>
              <a:chExt cx="9181080" cy="561600"/>
            </a:xfrm>
          </p:grpSpPr>
          <p:pic>
            <p:nvPicPr>
              <p:cNvPr id="57" name="Dowolny kształt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67222-2A29-42CF-B3AA-71142EACF40F}" type="slidenum">
              <a:rPr b="0" lang="pl-PL"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Dowolny kształt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Dowolny kształt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upa 1"/>
          <p:cNvGrpSpPr/>
          <p:nvPr/>
        </p:nvGrpSpPr>
        <p:grpSpPr>
          <a:xfrm>
            <a:off x="-19080" y="203040"/>
            <a:ext cx="9181080" cy="648000"/>
            <a:chOff x="-19080" y="203040"/>
            <a:chExt cx="9181080" cy="648000"/>
          </a:xfrm>
        </p:grpSpPr>
        <p:grpSp>
          <p:nvGrpSpPr>
            <p:cNvPr id="103" name="Dowolny kształt 11"/>
            <p:cNvGrpSpPr/>
            <p:nvPr/>
          </p:nvGrpSpPr>
          <p:grpSpPr>
            <a:xfrm>
              <a:off x="-19080" y="203040"/>
              <a:ext cx="9156600" cy="648000"/>
              <a:chOff x="-19080" y="203040"/>
              <a:chExt cx="9156600" cy="648000"/>
            </a:xfrm>
          </p:grpSpPr>
          <p:pic>
            <p:nvPicPr>
              <p:cNvPr id="104" name="Dowolny kształt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Dowolny kształt 12"/>
            <p:cNvGrpSpPr/>
            <p:nvPr/>
          </p:nvGrpSpPr>
          <p:grpSpPr>
            <a:xfrm>
              <a:off x="-19080" y="248040"/>
              <a:ext cx="9181080" cy="561600"/>
              <a:chOff x="-19080" y="248040"/>
              <a:chExt cx="9181080" cy="561600"/>
            </a:xfrm>
          </p:grpSpPr>
          <p:pic>
            <p:nvPicPr>
              <p:cNvPr id="107" name="Dowolny kształt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9D07A-2144-4522-9F36-AC9F3257032A}" type="slidenum">
              <a:rPr b="0" lang="pl-PL"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Prostokąt ze ściętym i zaokrąglonym rogiem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Trójkąt prostokątny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Dowolny kształt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Dowolny kształt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52EC1-E5E6-4267-B1EE-BB108F290EBD}" type="slidenum">
              <a:rPr b="0" lang="pl-PL"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AutoShape 2" descr=""/>
          <p:cNvPicPr/>
          <p:nvPr/>
        </p:nvPicPr>
        <p:blipFill>
          <a:blip r:embed="rId1"/>
          <a:stretch/>
        </p:blipFill>
        <p:spPr>
          <a:xfrm>
            <a:off x="542880" y="1127160"/>
            <a:ext cx="8113680" cy="223848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ffffff"/>
                </a:solidFill>
                <a:latin typeface="Constantia"/>
              </a:rPr>
              <a:t>dr hab. Krzysztof Ślebzak</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000" spc="-1" strike="noStrike">
                <a:solidFill>
                  <a:srgbClr val="04617b"/>
                </a:solidFill>
                <a:latin typeface="Calibri"/>
              </a:rPr>
              <a:t>Zakres podmiotowy</a:t>
            </a:r>
            <a:endParaRPr b="0" lang="en-US" sz="50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onstantia"/>
              </a:rPr>
              <a:t>Spółka kapitałowa oznacza spółkę z o.o. oraz akcyjną (art. 4 ksh)</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onstantia"/>
              </a:rPr>
              <a:t>Odpowiedzialność z art. 116 k.s.h. może dotyczyć:</a:t>
            </a:r>
            <a:endParaRPr b="0" lang="en-US" sz="2600" spc="-1" strike="noStrike">
              <a:solidFill>
                <a:srgbClr val="000000"/>
              </a:solidFill>
              <a:latin typeface="Constantia"/>
            </a:endParaRPr>
          </a:p>
          <a:p>
            <a:pPr marL="253440" indent="-253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onstantia"/>
              </a:rPr>
              <a:t>	</a:t>
            </a:r>
            <a:r>
              <a:rPr b="0" lang="pl-PL" sz="2600" spc="-1" strike="noStrike">
                <a:solidFill>
                  <a:srgbClr val="000000"/>
                </a:solidFill>
                <a:latin typeface="Constantia"/>
              </a:rPr>
              <a:t>- członków zarządu spółek, a także tych spółek w organizacji</a:t>
            </a:r>
            <a:endParaRPr b="0" lang="en-US" sz="2600" spc="-1" strike="noStrike">
              <a:solidFill>
                <a:srgbClr val="000000"/>
              </a:solidFill>
              <a:latin typeface="Constantia"/>
            </a:endParaRPr>
          </a:p>
          <a:p>
            <a:pPr marL="253440" indent="-253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onstantia"/>
              </a:rPr>
              <a:t>	</a:t>
            </a:r>
            <a:r>
              <a:rPr b="0" lang="pl-PL" sz="2600" spc="-1" strike="noStrike">
                <a:solidFill>
                  <a:srgbClr val="000000"/>
                </a:solidFill>
                <a:latin typeface="Constantia"/>
              </a:rPr>
              <a:t>- pełnomocników spółek w organizacji, a jeżeli pełnomocnik nie został powołany – wspólników spółki w organizacji (gdy wskazane spółki nie posiadają zarządu)</a:t>
            </a:r>
            <a:endParaRPr b="0" lang="en-US" sz="2600" spc="-1" strike="noStrike">
              <a:solidFill>
                <a:srgbClr val="000000"/>
              </a:solidFill>
              <a:latin typeface="Constantia"/>
            </a:endParaRPr>
          </a:p>
          <a:p>
            <a:pPr marL="253440" indent="-253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onstantia"/>
              </a:rPr>
              <a:t>	</a:t>
            </a:r>
            <a:r>
              <a:rPr b="0" lang="pl-PL" sz="2600" spc="-1" strike="noStrike">
                <a:solidFill>
                  <a:srgbClr val="000000"/>
                </a:solidFill>
                <a:latin typeface="Constantia"/>
              </a:rPr>
              <a:t>- byłych członków zarządu spółki lub byłych pełnomocników lub wspólników spółki w organizacji</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000" spc="-1" strike="noStrike">
                <a:solidFill>
                  <a:srgbClr val="04617b"/>
                </a:solidFill>
                <a:latin typeface="Calibri"/>
              </a:rPr>
              <a:t>Członek zarządu</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Decydujące jest rzeczywiste posiadanie statusu członka zarządu – za zaległości, które powstały przed wygaśnięciem mandatu (wyrok SN z dnia 2 czerwca 2010 r., I UK 47/10) – (aktualnie, których termin płatności…)</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Odpowiedzialność może ponosić osoba niewpisana do rejestru</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Gdy zarząd został powołany niezgodnie z przepisami, faktyczne pełnienie obowiązków nie przesądza o odpowiedzialności (wyrok z dnia 6 stycznia 2009 r., I UK 123/0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Złożenie mandatu następuje z chwilą dojścia do adresata (art. 61 par. 1 k.c.) – wyrok SN z dnia 12 maja 2011 r., II UK 157/09</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Członkiem jest również członek rady nadzorczej spółki akcyjnej delegowany do czasowego wykonywania czasowego wykonywania czynności członka zarządu (art. 383 par 1 k.s.h.) – wyrok SN z dnia 12 maja 2011, II UK 308/10</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000" spc="-1" strike="noStrike">
                <a:solidFill>
                  <a:srgbClr val="04617b"/>
                </a:solidFill>
                <a:latin typeface="Calibri"/>
              </a:rPr>
              <a:t>Członek zarządu c.d.</a:t>
            </a:r>
            <a:endParaRPr b="0" lang="en-US" sz="50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nstantia"/>
              </a:rPr>
              <a:t>Członkiem zarządu jest zatem ten kto został prawidłowo powołany, natomiast członkowstwo w organie wygasa w następstwie okoliczności skutkujących ustaniem mandatu</a:t>
            </a:r>
            <a:endParaRPr b="0" lang="en-US" sz="2400" spc="-1" strike="noStrike">
              <a:solidFill>
                <a:srgbClr val="000000"/>
              </a:solidFill>
              <a:latin typeface="Constantia"/>
            </a:endParaRPr>
          </a:p>
          <a:p>
            <a:pPr marL="253440" indent="-25344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nstantia"/>
              </a:rPr>
              <a:t>Niekoniecznie osoba wpisana do rejestru jest faktycznym członkiem zarządu (jak i odwrotnie)</a:t>
            </a:r>
            <a:endParaRPr b="0" lang="en-US" sz="2400" spc="-1" strike="noStrike">
              <a:solidFill>
                <a:srgbClr val="000000"/>
              </a:solidFill>
              <a:latin typeface="Constantia"/>
            </a:endParaRPr>
          </a:p>
          <a:p>
            <a:pPr marL="253440" indent="-25344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nstantia"/>
              </a:rPr>
              <a:t>Oddalenie wniosku o wpis do rejestru nie może rozstrzygnąć, kto jest członkiem organu (odmowa dokonania wpisu nie oznacza, że dane nie są prawdziwe , ale że nie mogą korzystać z domniemania prawdziwości, na które mogą się powoływać osoby trzecie</a:t>
            </a:r>
            <a:endParaRPr b="0" lang="en-US" sz="2400" spc="-1" strike="noStrike">
              <a:solidFill>
                <a:srgbClr val="000000"/>
              </a:solidFill>
              <a:latin typeface="Constantia"/>
            </a:endParaRPr>
          </a:p>
          <a:p>
            <a:pPr marL="253440" indent="-25344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nstantia"/>
              </a:rPr>
              <a:t>Charakter wpisu – deklaratoryjny (sąd nie jest uprawniony  do rozstrzygania, kto jest a kto nie jest członkiem zarządu), w razie wątpliwości powództwo o ustalenie (art. 189 k.p.c.)</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500" spc="-1" strike="noStrike">
                <a:solidFill>
                  <a:srgbClr val="04617b"/>
                </a:solidFill>
                <a:latin typeface="Calibri"/>
              </a:rPr>
              <a:t>Bezskuteczność egzekucji – zagadnienia ogólne</a:t>
            </a:r>
            <a:endParaRPr b="0" lang="en-US" sz="45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nstantia"/>
              </a:rPr>
              <a:t>Początkowo sprawa sporna (formalne stwierdzenie bezskuteczności vs  stanowisko judykatury i piśmiennictwa na gruncie 299 ksh)</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nstantia"/>
              </a:rPr>
              <a:t>Ale uchwała NSA (II FPS 6/08)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nstantia"/>
              </a:rPr>
              <a:t>	</a:t>
            </a:r>
            <a:r>
              <a:rPr b="0" lang="pl-PL" sz="2400" spc="-1" strike="noStrike">
                <a:solidFill>
                  <a:srgbClr val="000000"/>
                </a:solidFill>
                <a:latin typeface="Constantia"/>
              </a:rPr>
              <a:t>- po przeprowadzeniu postępowania egzekucyjnego, ale dopuszczalny, ale dopuszczalny każdy dowó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nstantia"/>
              </a:rPr>
              <a:t>	</a:t>
            </a:r>
            <a:r>
              <a:rPr b="0" lang="pl-PL" sz="2400" spc="-1" strike="noStrike">
                <a:solidFill>
                  <a:srgbClr val="000000"/>
                </a:solidFill>
                <a:latin typeface="Constantia"/>
              </a:rPr>
              <a:t>- bezskuteczności nie można stwierdzić poza postępowaniem egzekucyjnym</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nstantia"/>
              </a:rPr>
              <a:t>	</a:t>
            </a:r>
            <a:r>
              <a:rPr b="0" lang="pl-PL" sz="2400" spc="-1" strike="noStrike">
                <a:solidFill>
                  <a:srgbClr val="000000"/>
                </a:solidFill>
                <a:latin typeface="Constantia"/>
              </a:rPr>
              <a:t>- argument dotyczący częściowej egzekucji, która może być stwierdzona tylko w postępowaniu egzekucyjnym</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000" spc="-1" strike="noStrike">
                <a:solidFill>
                  <a:srgbClr val="04617b"/>
                </a:solidFill>
                <a:latin typeface="Calibri"/>
              </a:rPr>
              <a:t>Bezskuteczność - definicja</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Najpełniej pojęcie bezskuteczności jest uregulowane w przepisach o wyjawieniu majątku (art. 71 par 1 upea oraz art. 913 par 1 k.p.c.)</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Zajęty w egzekucji majątek dłużnika nie rokuje na zaspokojenie egzekwowanych należności lub jeżeli wierzyciel wskaże, że nie uzyskał w pełni zaspokojenia</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Zajęty majątek: np. wierzytelności z rachunków bankowych, praw z instrumentów finansowych, papiery wartościowe, ruchomości etc</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Użycie przez ustawodawcę  określenia „zajęcie nie rokuje zaspokojenia”, wskazuje, że jest to najwcześniejszy moment, w którym organ egzekucyjny może zorientować się w możliwości zaspokojenia wierzyciela</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Konsekwencją stanu bezskuteczności, jest zatem możliwość żądania wyjawienia majątku</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Bezskuteczność jest zatem stanem po wszczęciu egzekucji</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500" spc="-1" strike="noStrike">
                <a:solidFill>
                  <a:srgbClr val="04617b"/>
                </a:solidFill>
                <a:latin typeface="Calibri"/>
              </a:rPr>
              <a:t>Bezskuteczność w kontekście adm. postęp. egzekucyjnego </a:t>
            </a:r>
            <a:endParaRPr b="0" lang="en-US" sz="45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onstantia"/>
              </a:rPr>
              <a:t>Trzy stadia postępowania: poprzedzające wszczęcie, stosowania egzekucji oraz następujące po przeprowadzeniu egezkucji</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onstantia"/>
              </a:rPr>
              <a:t>Zasadniczo nie jest dopuszczalne stwierdzenie bezskuteczności w post poprzedzającym (sądownictwo administracyjne: wyjątek – gdyby przeciwko spółce była wcześniej przeprowadzona egzekucja, w tym również należności innych niż publicznoprawne i okazała się bezskuteczna, a następnie pojawiłyby się zaległości publicznoprawne) – powielanie byłoby zbędne, I UZP 4/09</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500" spc="-1" strike="noStrike">
                <a:solidFill>
                  <a:srgbClr val="04617b"/>
                </a:solidFill>
                <a:latin typeface="Calibri"/>
              </a:rPr>
              <a:t>Bezskuteczność w kontekście adm. postęp. egzekucyjnego </a:t>
            </a:r>
            <a:endParaRPr b="0" lang="en-US" sz="4500" spc="-1" strike="noStrike">
              <a:solidFill>
                <a:srgbClr val="04617b"/>
              </a:solidFill>
              <a:latin typeface="Calibri"/>
            </a:endParaRPr>
          </a:p>
        </p:txBody>
      </p:sp>
      <p:sp>
        <p:nvSpPr>
          <p:cNvPr id="233"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nstantia"/>
              </a:rPr>
              <a:t>W trakcie stosowania egzekucji stwierdzenie bezskuteczności jest związane ze stosowanymi środkami egzekucyjnymi (art. 71 par. 1 upea)</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nstantia"/>
              </a:rPr>
              <a:t>Wierzyciel ma obowiązek badać jaka jest wysokość należności (art. 27 upae oraz rozp. w sprawie wykonania upae), a także dokonać aktualizacji tytułu wykonawczego</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nstantia"/>
              </a:rPr>
              <a:t>Dowodem może być protokół sporządzony przez poborcę bezskutecznego zajęcia ruchomości czy praw majątkowych, albo stwierdzający, że dłużnik posiada tylko szczegółowo wskazane ruchomości wolne od egzekucji</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500" spc="-1" strike="noStrike">
                <a:solidFill>
                  <a:srgbClr val="04617b"/>
                </a:solidFill>
                <a:latin typeface="Calibri"/>
              </a:rPr>
              <a:t>Bezskuteczność w kontekście adm. postęp. egzekucyjnego </a:t>
            </a:r>
            <a:endParaRPr b="0" lang="en-US" sz="45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onstantia"/>
              </a:rPr>
              <a:t>W trzecim stadiu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onstantia"/>
              </a:rPr>
              <a:t>Nie ma możliwości stwierdzenia bezskuteczności w przypadku wyegzekwowania należnośc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onstantia"/>
              </a:rPr>
              <a:t>Problem, czy aktem procesowym stwierdzającym zakończenie egzekucji administracyjnej może być postanowienie o ustaleniu kosztów egzekucyjnych (art. 64 c par. 7 upae, art. 770 k.p.c) – w przypadku egzekucji w adm zależy to od żądania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000" spc="-1" strike="noStrike">
                <a:solidFill>
                  <a:srgbClr val="04617b"/>
                </a:solidFill>
                <a:latin typeface="Calibri"/>
              </a:rPr>
              <a:t>Bezskuteczność egzekucji c.d.</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fontScale="98000"/>
          </a:bodyPr>
          <a:p>
            <a:pPr marL="267120" indent="-267120">
              <a:lnSpc>
                <a:spcPct val="6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onstantia"/>
              </a:rPr>
              <a:t>Musi być stwierdzona wyłącznie w postępowaniu w sprawie egzekucji należności z tytułu składek na ubezpieczenia społeczne</a:t>
            </a:r>
            <a:endParaRPr b="0" lang="en-US" sz="2600" spc="-1" strike="noStrike">
              <a:solidFill>
                <a:srgbClr val="000000"/>
              </a:solidFill>
              <a:latin typeface="Constantia"/>
            </a:endParaRPr>
          </a:p>
          <a:p>
            <a:pPr marL="267120" indent="-267120">
              <a:lnSpc>
                <a:spcPct val="6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onstantia"/>
              </a:rPr>
              <a:t>	</a:t>
            </a:r>
            <a:r>
              <a:rPr b="0" lang="pl-PL" sz="2600" spc="-1" strike="noStrike">
                <a:solidFill>
                  <a:srgbClr val="000000"/>
                </a:solidFill>
                <a:latin typeface="Constantia"/>
              </a:rPr>
              <a:t>- wszczęcie postępowania nie jest  wymagane w chwili, która umożliwia najwyższe zaspokojenie (wyrok SN z dnia 2 grudnia 2010 r., III UK 146/10)</a:t>
            </a:r>
            <a:endParaRPr b="0" lang="en-US" sz="2600" spc="-1" strike="noStrike">
              <a:solidFill>
                <a:srgbClr val="000000"/>
              </a:solidFill>
              <a:latin typeface="Constantia"/>
            </a:endParaRPr>
          </a:p>
          <a:p>
            <a:pPr marL="267120" indent="-267120">
              <a:lnSpc>
                <a:spcPct val="6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onstantia"/>
              </a:rPr>
              <a:t>Dopiero wówczas może zostać wydana decyzja o odpowiedzialności członka zarządu (uchwała 7 sędziów SN z dnia 13 maja 2009 r., I UZP 4/09)</a:t>
            </a:r>
            <a:endParaRPr b="0" lang="en-US" sz="2600" spc="-1" strike="noStrike">
              <a:solidFill>
                <a:srgbClr val="000000"/>
              </a:solidFill>
              <a:latin typeface="Constantia"/>
            </a:endParaRPr>
          </a:p>
          <a:p>
            <a:pPr marL="267120" indent="-267120">
              <a:lnSpc>
                <a:spcPct val="6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onstantia"/>
              </a:rPr>
              <a:t>Zastosowanie znajduje art. 59 ustawy o postępowaniu egzekucyjnym w administracji i art. 824 k.p.c. – konieczne wydanie postanowienia o umorzeniu postępowania z uwagi na bezskuteczność egzekucji</a:t>
            </a:r>
            <a:endParaRPr b="0" lang="en-US" sz="2600" spc="-1" strike="noStrike">
              <a:solidFill>
                <a:srgbClr val="000000"/>
              </a:solidFill>
              <a:latin typeface="Constantia"/>
            </a:endParaRPr>
          </a:p>
          <a:p>
            <a:pPr marL="267120" indent="-267120">
              <a:lnSpc>
                <a:spcPct val="6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onstantia"/>
              </a:rPr>
              <a:t>Nie doszło zatem do przymusowego zaspokojenia wierzyciela i wyczerpano wszystkie możliwe sposoby egzekucji</a:t>
            </a:r>
            <a:endParaRPr b="0" lang="en-US" sz="2600" spc="-1" strike="noStrike">
              <a:solidFill>
                <a:srgbClr val="000000"/>
              </a:solidFill>
              <a:latin typeface="Constantia"/>
            </a:endParaRPr>
          </a:p>
          <a:p>
            <a:pPr marL="267120" indent="-2671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000" spc="-1" strike="noStrike">
                <a:solidFill>
                  <a:srgbClr val="04617b"/>
                </a:solidFill>
                <a:latin typeface="Calibri"/>
              </a:rPr>
              <a:t>Bezskuteczność egzekucj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nstantia"/>
              </a:rPr>
              <a:t>	</a:t>
            </a:r>
            <a:r>
              <a:rPr b="0" lang="pl-PL" sz="2000" spc="-1" strike="noStrike">
                <a:solidFill>
                  <a:srgbClr val="000000"/>
                </a:solidFill>
                <a:latin typeface="Constantia"/>
              </a:rPr>
              <a:t>Bezskuteczność egzekucji należy również przyjąć w przypadku:</a:t>
            </a:r>
            <a:r>
              <a:rPr b="0" lang="pl-PL" sz="2000" spc="-1" strike="noStrike">
                <a:solidFill>
                  <a:srgbClr val="000000"/>
                </a:solidFill>
                <a:latin typeface="Constantia"/>
              </a:rPr>
              <a:t>	</a:t>
            </a:r>
            <a:endParaRPr b="0" lang="en-US" sz="2000" spc="-1" strike="noStrike">
              <a:solidFill>
                <a:srgbClr val="000000"/>
              </a:solidFill>
              <a:latin typeface="Constantia"/>
            </a:endParaRPr>
          </a:p>
          <a:p>
            <a:pPr lvl="1" marL="601200" indent="-23112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postanowienia o umorzeniu postępowania upadłościowego (art. 361 pkt 1 – P.u.i n.)</a:t>
            </a:r>
            <a:endParaRPr b="0" lang="en-US" sz="2000" spc="-1" strike="noStrike">
              <a:solidFill>
                <a:srgbClr val="000000"/>
              </a:solidFill>
              <a:latin typeface="Constantia"/>
            </a:endParaRPr>
          </a:p>
          <a:p>
            <a:pPr lvl="1" marL="601200" indent="-23112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oddaleniu wniosku o ogłoszeniu upadłości (art. 13 ust. 1 i 2 – P.u. i n.)</a:t>
            </a:r>
            <a:endParaRPr b="0" lang="en-US" sz="2000" spc="-1" strike="noStrike">
              <a:solidFill>
                <a:srgbClr val="000000"/>
              </a:solidFill>
              <a:latin typeface="Constantia"/>
            </a:endParaRPr>
          </a:p>
          <a:p>
            <a:pPr lvl="1" marL="601200" indent="-23112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stwierdzenia w toku egzekucji np. wskutek nakazania dłużnikowi wyjawienia majątku</a:t>
            </a:r>
            <a:endParaRPr b="0" lang="en-US" sz="2000" spc="-1" strike="noStrike">
              <a:solidFill>
                <a:srgbClr val="000000"/>
              </a:solidFill>
              <a:latin typeface="Constantia"/>
            </a:endParaRPr>
          </a:p>
          <a:p>
            <a:pPr lvl="1" marL="601200" indent="-23112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niezaspokojenia należności składkowych w postępowaniu upadłościowym zakończonym likwidacją spółki (wyrok SN z dnia 19 sierpnia 2009 r., III UK 14/09)</a:t>
            </a:r>
            <a:endParaRPr b="0" lang="en-US" sz="2000" spc="-1" strike="noStrike">
              <a:solidFill>
                <a:srgbClr val="000000"/>
              </a:solidFill>
              <a:latin typeface="Constantia"/>
            </a:endParaRPr>
          </a:p>
          <a:p>
            <a:pPr lvl="1" marL="601200" indent="-23112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częściowego zaspokojenia wierzytelności (wyrok SN z dnia 14 kwietnia 2010, III UK 83/09)</a:t>
            </a:r>
            <a:endParaRPr b="0" lang="en-US" sz="2000" spc="-1" strike="noStrike">
              <a:solidFill>
                <a:srgbClr val="000000"/>
              </a:solidFill>
              <a:latin typeface="Constantia"/>
            </a:endParaRPr>
          </a:p>
          <a:p>
            <a:pPr lvl="1" marL="601200" indent="-23112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Nawet gdy brak zaspokojenia na etapie postępowania egzekucyjnego związany jest z biernością wierzyciela publicznoprawnego (wyrok SN z dnia 12 maja 2011 r., II UK 308/10)</a:t>
            </a:r>
            <a:endParaRPr b="0" lang="en-US" sz="2000" spc="-1" strike="noStrike">
              <a:solidFill>
                <a:srgbClr val="000000"/>
              </a:solidFill>
              <a:latin typeface="Constantia"/>
            </a:endParaRPr>
          </a:p>
          <a:p>
            <a:pPr lvl="1" marL="601200" indent="-23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000" spc="-1" strike="noStrike">
                <a:solidFill>
                  <a:srgbClr val="04617b"/>
                </a:solidFill>
                <a:latin typeface="Calibri"/>
              </a:rPr>
              <a:t>Ordynacja podatkow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onstantia"/>
              </a:rPr>
              <a:t>	</a:t>
            </a:r>
            <a:r>
              <a:rPr b="1" lang="pl-PL" sz="1200" spc="-1" strike="noStrike">
                <a:solidFill>
                  <a:srgbClr val="000000"/>
                </a:solidFill>
                <a:latin typeface="Constantia"/>
              </a:rPr>
              <a:t>Art. 116.</a:t>
            </a:r>
            <a:r>
              <a:rPr b="0" lang="pl-PL" sz="1200" spc="-1" strike="noStrike">
                <a:solidFill>
                  <a:srgbClr val="000000"/>
                </a:solidFill>
                <a:latin typeface="Constantia"/>
              </a:rPr>
              <a:t> § 1. Za zaległości podatkowe spółki z ograniczoną odpowiedzialnością, spółki z ograniczoną odpowiedzialnością w organizacji, spółki akcyjnej lub spółki akcyjnej w organizacji odpowiadają solidarnie całym swoim majątkiem członkowie jej zarządu, jeżeli egzekucja z majątku spółki okazała się w całości lub w części bezskuteczna, a członek zarządu:</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onstantia"/>
              </a:rPr>
              <a:t>	</a:t>
            </a:r>
            <a:r>
              <a:rPr b="0" lang="pl-PL" sz="1200" spc="-1" strike="noStrike">
                <a:solidFill>
                  <a:srgbClr val="000000"/>
                </a:solidFill>
                <a:latin typeface="Constantia"/>
              </a:rPr>
              <a:t>1)</a:t>
            </a:r>
            <a:r>
              <a:rPr b="0" lang="pl-PL" sz="1200" spc="-1" strike="noStrike">
                <a:solidFill>
                  <a:srgbClr val="000000"/>
                </a:solidFill>
                <a:latin typeface="Constantia"/>
              </a:rPr>
              <a:t>	</a:t>
            </a:r>
            <a:r>
              <a:rPr b="0" lang="pl-PL" sz="1200" spc="-1" strike="noStrike">
                <a:solidFill>
                  <a:srgbClr val="000000"/>
                </a:solidFill>
                <a:latin typeface="Constantia"/>
              </a:rPr>
              <a:t>nie wykazał, że:</a:t>
            </a:r>
            <a:endParaRPr b="0" lang="en-US" sz="1200" spc="-1" strike="noStrike">
              <a:solidFill>
                <a:srgbClr val="000000"/>
              </a:solidFill>
              <a:latin typeface="Constantia"/>
            </a:endParaRPr>
          </a:p>
          <a:p>
            <a:pPr lvl="1" marL="639720" indent="-245880">
              <a:lnSpc>
                <a:spcPct val="80000"/>
              </a:lnSpc>
              <a:spcBef>
                <a:spcPts val="3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onstantia"/>
              </a:rPr>
              <a:t>a)</a:t>
            </a:r>
            <a:r>
              <a:rPr b="0" lang="pl-PL" sz="1200" spc="-1" strike="noStrike">
                <a:solidFill>
                  <a:srgbClr val="000000"/>
                </a:solidFill>
                <a:latin typeface="Constantia"/>
              </a:rPr>
              <a:t>	</a:t>
            </a:r>
            <a:r>
              <a:rPr b="0" lang="pl-PL" sz="1200" spc="-1" strike="noStrike">
                <a:solidFill>
                  <a:srgbClr val="000000"/>
                </a:solidFill>
                <a:latin typeface="Constantia"/>
              </a:rPr>
              <a:t>we właściwym czasie zgłoszono wniosek o ogłoszenie upadłości lub wszczęto postępowanie zapobiegające ogłoszeniu upadłości (postępowanie układowe) albo</a:t>
            </a:r>
            <a:endParaRPr b="0" lang="en-US" sz="1200" spc="-1" strike="noStrike">
              <a:solidFill>
                <a:srgbClr val="000000"/>
              </a:solidFill>
              <a:latin typeface="Constantia"/>
            </a:endParaRPr>
          </a:p>
          <a:p>
            <a:pPr lvl="1" marL="639720" indent="-245880">
              <a:lnSpc>
                <a:spcPct val="80000"/>
              </a:lnSpc>
              <a:spcBef>
                <a:spcPts val="3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onstantia"/>
              </a:rPr>
              <a:t>b)</a:t>
            </a:r>
            <a:r>
              <a:rPr b="0" lang="pl-PL" sz="1200" spc="-1" strike="noStrike">
                <a:solidFill>
                  <a:srgbClr val="000000"/>
                </a:solidFill>
                <a:latin typeface="Constantia"/>
              </a:rPr>
              <a:t>	</a:t>
            </a:r>
            <a:r>
              <a:rPr b="0" lang="pl-PL" sz="1200" spc="-1" strike="noStrike">
                <a:solidFill>
                  <a:srgbClr val="000000"/>
                </a:solidFill>
                <a:latin typeface="Constantia"/>
              </a:rPr>
              <a:t>niezgłoszenie wniosku o ogłoszenie upadłości lub niewszczęcie postępowania zapobiegającego ogłoszeniu upadłości (postępowania układowego) nastąpiło bez jego winy;</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onstantia"/>
              </a:rPr>
              <a:t>	</a:t>
            </a:r>
            <a:r>
              <a:rPr b="0" lang="pl-PL" sz="1200" spc="-1" strike="noStrike">
                <a:solidFill>
                  <a:srgbClr val="000000"/>
                </a:solidFill>
                <a:latin typeface="Constantia"/>
              </a:rPr>
              <a:t>2)</a:t>
            </a:r>
            <a:r>
              <a:rPr b="0" lang="pl-PL" sz="1200" spc="-1" strike="noStrike">
                <a:solidFill>
                  <a:srgbClr val="000000"/>
                </a:solidFill>
                <a:latin typeface="Constantia"/>
              </a:rPr>
              <a:t>	</a:t>
            </a:r>
            <a:r>
              <a:rPr b="0" lang="pl-PL" sz="1200" spc="-1" strike="noStrike">
                <a:solidFill>
                  <a:srgbClr val="000000"/>
                </a:solidFill>
                <a:latin typeface="Constantia"/>
              </a:rPr>
              <a:t>nie wskazuje mienia spółki, z którego egzekucja umożliwi zaspokojenie zaległości podatkowych spółki w znacznej części.</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onstantia"/>
              </a:rPr>
              <a:t>	</a:t>
            </a:r>
            <a:r>
              <a:rPr b="0" lang="pl-PL" sz="1200" spc="-1" strike="noStrike">
                <a:solidFill>
                  <a:srgbClr val="000000"/>
                </a:solidFill>
                <a:latin typeface="Constantia"/>
              </a:rPr>
              <a:t>§ 2. Odpowiedzialność członków zarządu obejmuje zaległości podatkowe z tytułu zobowiązań, których termin płatności upływał w czasie pełnienia przez nich obowiązków członka zarządu, oraz zaległości wymienione w art. 52 powstałe w czasie pełnienia obowiązków członka zarządu.</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onstantia"/>
              </a:rPr>
              <a:t>	</a:t>
            </a:r>
            <a:r>
              <a:rPr b="0" lang="pl-PL" sz="1200" spc="-1" strike="noStrike">
                <a:solidFill>
                  <a:srgbClr val="000000"/>
                </a:solidFill>
                <a:latin typeface="Constantia"/>
              </a:rPr>
              <a:t>§ 3. W przypadku gdy spółka z ograniczoną odpowiedzialnością w organizacji lub spółka akcyjna w organizacji nie posiada zarządu, za zaległości podatkowe spółki odpowiada jej pełnomocnik albo odpowiadają wspólnicy, jeżeli pełnomocnik nie został powołany. Przepisy § 1 i 2 stosuje się odpowiednio.</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onstantia"/>
              </a:rPr>
              <a:t>	</a:t>
            </a:r>
            <a:r>
              <a:rPr b="0" lang="pl-PL" sz="1200" spc="-1" strike="noStrike">
                <a:solidFill>
                  <a:srgbClr val="000000"/>
                </a:solidFill>
                <a:latin typeface="Constantia"/>
              </a:rPr>
              <a:t>§ 4. Przepisy § 1-3 stosuje się również do byłego członka zarządu oraz byłego pełnomocnika lub wspólnika spółki w organizacji.</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4617b"/>
                </a:solidFill>
                <a:latin typeface="Calibri"/>
              </a:rPr>
              <a:t>Zwolnienie się od odpowiedzialności</a:t>
            </a:r>
            <a:br>
              <a:rPr sz="3600"/>
            </a:br>
            <a:r>
              <a:rPr b="0" lang="pl-PL" sz="3600" spc="-1" strike="noStrike">
                <a:solidFill>
                  <a:srgbClr val="04617b"/>
                </a:solidFill>
                <a:latin typeface="Calibri"/>
              </a:rPr>
              <a:t>przesłanka pierwsza</a:t>
            </a:r>
            <a:endParaRPr b="0" lang="en-US" sz="36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onstantia"/>
              </a:rPr>
              <a:t>We właściwym czasie złożono wniosek o ogłoszenie upadłości lub wszczęto postępowania zapobiegające upadłości (postępowanie układowe) albo niezgłoszenie wniosku nastąpiło bez jego winy</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onstantia"/>
              </a:rPr>
              <a:t>Istotny sam fakt złożenia wniosku we właściwym czasie – wniosek ten musi być jednak rozpoznany (nie chodzi zatem o samo złożenie)</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onstantia"/>
              </a:rPr>
              <a:t>Nie ma znaczenia kto złożył wniosek – byleby w terminie</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onstantia"/>
              </a:rPr>
              <a:t>Po trzecie musi być złożony we właściwym czasi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4617b"/>
                </a:solidFill>
                <a:latin typeface="Calibri"/>
              </a:rPr>
              <a:t>Zwolnienie się od odpowiedzialności</a:t>
            </a:r>
            <a:endParaRPr b="0" lang="en-US" sz="3200" spc="-1" strike="noStrike">
              <a:solidFill>
                <a:srgbClr val="04617b"/>
              </a:solidFill>
              <a:latin typeface="Calibri"/>
            </a:endParaRPr>
          </a:p>
        </p:txBody>
      </p:sp>
      <p:sp>
        <p:nvSpPr>
          <p:cNvPr id="24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Konieczność wykazania należytej staranności w działaniach zmierzających do wszczęcia postępowania</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Nie jest wystarczające:</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	</a:t>
            </a:r>
            <a:r>
              <a:rPr b="0" lang="pl-PL" sz="2000" spc="-1" strike="noStrike">
                <a:solidFill>
                  <a:srgbClr val="000000"/>
                </a:solidFill>
                <a:latin typeface="Constantia"/>
              </a:rPr>
              <a:t>- samo wystąpienie o ogłoszenie upadłości (wyrok SN z dnia 18 kwietnia 2007, I UK 349/06; z dnia 10 grudnia 2009 r., III UK 51/09)</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	</a:t>
            </a:r>
            <a:r>
              <a:rPr b="0" lang="pl-PL" sz="2000" spc="-1" strike="noStrike">
                <a:solidFill>
                  <a:srgbClr val="000000"/>
                </a:solidFill>
                <a:latin typeface="Constantia"/>
              </a:rPr>
              <a:t>(a zatem nie chodzi o złożenie, ale o zgłoszenie)</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	</a:t>
            </a:r>
            <a:r>
              <a:rPr b="0" lang="pl-PL" sz="2000" spc="-1" strike="noStrike">
                <a:solidFill>
                  <a:srgbClr val="000000"/>
                </a:solidFill>
                <a:latin typeface="Constantia"/>
              </a:rPr>
              <a:t>- Brak po stronie członka zarządu wiedzy o kondycji finansowej nie jest okolicznością świadczącą o tym, że niezłożenie wniosku o ogłoszenie upadłości lub niewszczęcie postępowania układowego nastąpiło bez jego winy (wyrok SN z dnia 19 lutyego 2008 r., II UK 100/07)</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	</a:t>
            </a:r>
            <a:r>
              <a:rPr b="0" lang="pl-PL" sz="2000" spc="-1" strike="noStrike">
                <a:solidFill>
                  <a:srgbClr val="000000"/>
                </a:solidFill>
                <a:latin typeface="Constantia"/>
              </a:rPr>
              <a:t>- oczekiwanie na pomoc ze strony udziałowców (wyrok z dnia 10 lutego 2011 r., II UK 265/10)</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4617b"/>
                </a:solidFill>
                <a:latin typeface="Calibri"/>
              </a:rPr>
              <a:t>Zwolnienie od odpowiedzialności </a:t>
            </a:r>
            <a:br>
              <a:rPr sz="3200"/>
            </a:br>
            <a:r>
              <a:rPr b="0" lang="pl-PL" sz="3200" spc="-1" strike="noStrike">
                <a:solidFill>
                  <a:srgbClr val="04617b"/>
                </a:solidFill>
                <a:latin typeface="Calibri"/>
              </a:rPr>
              <a:t>c.d.</a:t>
            </a:r>
            <a:endParaRPr b="0" lang="en-US" sz="32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fontScale="98000"/>
          </a:bodyPr>
          <a:p>
            <a:pPr marL="267120" indent="-267120">
              <a:lnSpc>
                <a:spcPct val="80000"/>
              </a:lnSpc>
              <a:spcBef>
                <a:spcPts val="4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niezgłoszenie wniosku, ale rezygnacja z członkostwa w zarządzie</a:t>
            </a:r>
            <a:endParaRPr b="0" lang="en-US" sz="2000" spc="-1" strike="noStrike">
              <a:solidFill>
                <a:srgbClr val="000000"/>
              </a:solidFill>
              <a:latin typeface="Constantia"/>
            </a:endParaRPr>
          </a:p>
          <a:p>
            <a:pPr marL="267120" indent="-267120">
              <a:lnSpc>
                <a:spcPct val="80000"/>
              </a:lnSpc>
              <a:spcBef>
                <a:spcPts val="4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obowiązek zgłoszenia wniosku, nie może być wyłączony uchwałami zgromadzenia wspólników wyrażającymi sprzeciw (wyrok SN z 24 sierpnia 2009, I UK 75/09)</a:t>
            </a:r>
            <a:endParaRPr b="0" lang="en-US" sz="2000" spc="-1" strike="noStrike">
              <a:solidFill>
                <a:srgbClr val="000000"/>
              </a:solidFill>
              <a:latin typeface="Constantia"/>
            </a:endParaRPr>
          </a:p>
          <a:p>
            <a:pPr marL="267120" indent="-267120">
              <a:lnSpc>
                <a:spcPct val="80000"/>
              </a:lnSpc>
              <a:spcBef>
                <a:spcPts val="4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przekonanie członka zarządu o niemożliwości zgłoszenia wniosku o upadłość lub wszczęcia postępowania układowego (wyrok SN z dnia 27 maja 2009, II UK 373/08)</a:t>
            </a:r>
            <a:endParaRPr b="0" lang="en-US" sz="2000" spc="-1" strike="noStrike">
              <a:solidFill>
                <a:srgbClr val="000000"/>
              </a:solidFill>
              <a:latin typeface="Constantia"/>
            </a:endParaRPr>
          </a:p>
          <a:p>
            <a:pPr marL="267120" indent="-267120">
              <a:lnSpc>
                <a:spcPct val="80000"/>
              </a:lnSpc>
              <a:spcBef>
                <a:spcPts val="4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Wyjątkowo może dojść do zwolnienia jeśli z okoliczności wynika podział obowiązków pomiędzy członkami zarządu (wyrok SN z 15 września 2009, II UK 406/08)</a:t>
            </a:r>
            <a:endParaRPr b="0" lang="en-US" sz="2000" spc="-1" strike="noStrike">
              <a:solidFill>
                <a:srgbClr val="000000"/>
              </a:solidFill>
              <a:latin typeface="Constantia"/>
            </a:endParaRPr>
          </a:p>
          <a:p>
            <a:pPr marL="267120" indent="-267120">
              <a:lnSpc>
                <a:spcPct val="80000"/>
              </a:lnSpc>
              <a:spcBef>
                <a:spcPts val="4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ale świadome oddanie zarządzania osobie spoza zarządu nie zwalnia od odpowiedzialności (wyrok SN z dnia 20 stycznia 2011 r., II UK 174/10)</a:t>
            </a:r>
            <a:endParaRPr b="0" lang="en-US" sz="2000" spc="-1" strike="noStrike">
              <a:solidFill>
                <a:srgbClr val="000000"/>
              </a:solidFill>
              <a:latin typeface="Constantia"/>
            </a:endParaRPr>
          </a:p>
          <a:p>
            <a:pPr marL="267120" indent="-267120">
              <a:lnSpc>
                <a:spcPct val="80000"/>
              </a:lnSpc>
              <a:spcBef>
                <a:spcPts val="4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brak możliwości wyłączenia w przypadku choroby, ciąży i urlopu – w przypadku gdy zarząd był jednoosobowy (wyrok z dnia 2 października 2008 r., I UK 39/08)</a:t>
            </a:r>
            <a:endParaRPr b="0" lang="en-US" sz="2000" spc="-1" strike="noStrike">
              <a:solidFill>
                <a:srgbClr val="000000"/>
              </a:solidFill>
              <a:latin typeface="Constantia"/>
            </a:endParaRPr>
          </a:p>
          <a:p>
            <a:pPr marL="267120" indent="-267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7120" indent="-267120">
              <a:lnSpc>
                <a:spcPct val="80000"/>
              </a:lnSpc>
              <a:spcBef>
                <a:spcPts val="4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000" spc="-1" strike="noStrike">
                <a:solidFill>
                  <a:srgbClr val="04617b"/>
                </a:solidFill>
                <a:latin typeface="Calibri"/>
              </a:rPr>
              <a:t>Wyłącznie odpowiedzialnośc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onstantia"/>
              </a:rPr>
              <a:t>Wpływ na wyłącznie może mieć stan zdrowia psychicznego (wyrok SN z 4 lutego 2011 r., II UK 225/10) oraz poczytalności (wyrok SN z dnia 6 grudnia 2010, II UK 136/10)</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000" spc="-1" strike="noStrike">
                <a:solidFill>
                  <a:srgbClr val="04617b"/>
                </a:solidFill>
                <a:latin typeface="Calibri"/>
              </a:rPr>
              <a:t>„</a:t>
            </a:r>
            <a:r>
              <a:rPr b="0" lang="pl-PL" sz="5000" spc="-1" strike="noStrike">
                <a:solidFill>
                  <a:srgbClr val="04617b"/>
                </a:solidFill>
                <a:latin typeface="Calibri"/>
              </a:rPr>
              <a:t>Właściwy czas”</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a:t>
            </a:r>
            <a:r>
              <a:rPr b="0" lang="pl-PL" sz="2000" spc="-1" strike="noStrike">
                <a:solidFill>
                  <a:srgbClr val="000000"/>
                </a:solidFill>
                <a:latin typeface="Constantia"/>
              </a:rPr>
              <a:t>Właściwy czas” nie może być utożsamiany z przepisami prawa upadłościowego, bo przepisy Ordynacji do nich nie odsyłają (wyrok SN z dnia 22 czerwca 2006 r.; z 1 września 2009 r., I UK 95/09) – aczkolwiek regulacje te powinny być miarodajne</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Nie może być wczesniejszy niż upływ terminów w prawie upadłościowym, ale może być późniejszy (wyrok SN z dnia 19 marca 2010 r., II UK 258/09)</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Elastycznie w zależności od konkretnego przypadku (24 września 2008, II CSK 142/08</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Nie jest właściwym czasem ogłoszenie gdy spółka jest już bankrutem (I UK 324/05)</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Nie ma znaczenia kto zgłosił wniosek (wyrok SN, III UK 89/10)</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000" spc="-1" strike="noStrike">
                <a:solidFill>
                  <a:srgbClr val="04617b"/>
                </a:solidFill>
                <a:latin typeface="Calibri"/>
              </a:rPr>
              <a:t>„</a:t>
            </a:r>
            <a:r>
              <a:rPr b="0" lang="pl-PL" sz="5000" spc="-1" strike="noStrike">
                <a:solidFill>
                  <a:srgbClr val="04617b"/>
                </a:solidFill>
                <a:latin typeface="Calibri"/>
              </a:rPr>
              <a:t>Właściwy czas”</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nstantia"/>
              </a:rPr>
              <a:t>Zgłoszenie we właściwym czasie wniosku o wszczęcie postępowania zapobiegającego upadłości (problem definicyjny)</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nstantia"/>
              </a:rPr>
              <a:t>	</a:t>
            </a:r>
            <a:r>
              <a:rPr b="0" lang="pl-PL" sz="1800" spc="-1" strike="noStrike">
                <a:solidFill>
                  <a:srgbClr val="000000"/>
                </a:solidFill>
                <a:latin typeface="Constantia"/>
              </a:rPr>
              <a:t>- czy jest to postępowanie układowe sensu stricto czy wszczęcie każdego postępowania, którego celem jest zapobieżenie upadłości (np. postępowanie restrukturyzacyjne)</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nstantia"/>
              </a:rPr>
              <a:t>	</a:t>
            </a:r>
            <a:r>
              <a:rPr b="0" lang="pl-PL" sz="1800" spc="-1" strike="noStrike">
                <a:solidFill>
                  <a:srgbClr val="000000"/>
                </a:solidFill>
                <a:latin typeface="Constantia"/>
              </a:rPr>
              <a:t>- w orzecznictwie wyrażono pogląd, że wszczęcie postępowania układowego stanowi przesłankę zwalniającą członka zarządu, pod warunkiem wszczęcia w takim czasie, że zaspokojenie przez spółkę należności z tytułu składek pozostaje realne. Ocena powinna być dokonywan ex ante (wyrok SN z 8 stycznia 2008 r., I UK 172/07 i z 5 maja 2010 r., II UK 351/09)</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nstantia"/>
              </a:rPr>
              <a:t>	</a:t>
            </a:r>
            <a:r>
              <a:rPr b="0" lang="pl-PL" sz="1800" spc="-1" strike="noStrike">
                <a:solidFill>
                  <a:srgbClr val="000000"/>
                </a:solidFill>
                <a:latin typeface="Constantia"/>
              </a:rPr>
              <a:t>- jeżeli sytuacja nie pozwalała na pokrycie należności, to dłużnik powinien rozważyć ubieganie się o odroczenie terminu płatności (wyrok z 12 maja 2011 r., II UK 308/10)</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nstantia"/>
              </a:rPr>
              <a:t>	</a:t>
            </a:r>
            <a:r>
              <a:rPr b="0" lang="pl-PL" sz="1800" spc="-1" strike="noStrike">
                <a:solidFill>
                  <a:srgbClr val="000000"/>
                </a:solidFill>
                <a:latin typeface="Constantia"/>
              </a:rPr>
              <a:t>- nie złożył bo i tak było za późno (II FSK 587/10, z 25 października 2011)</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nstantia"/>
              </a:rPr>
              <a:t>	</a:t>
            </a:r>
            <a:r>
              <a:rPr b="0" lang="pl-PL" sz="1800" spc="-1" strike="noStrike">
                <a:solidFill>
                  <a:srgbClr val="000000"/>
                </a:solidFill>
                <a:latin typeface="Constantia"/>
              </a:rPr>
              <a:t>- wniosek o upadłość złożony przez inny podmiot przed powołaniem do pełnienia funkcji ( I FSK 637/10)</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500" spc="-1" strike="noStrike">
                <a:solidFill>
                  <a:srgbClr val="04617b"/>
                </a:solidFill>
                <a:latin typeface="Calibri"/>
              </a:rPr>
              <a:t>„</a:t>
            </a:r>
            <a:r>
              <a:rPr b="0" lang="pl-PL" sz="4500" spc="-1" strike="noStrike">
                <a:solidFill>
                  <a:srgbClr val="04617b"/>
                </a:solidFill>
                <a:latin typeface="Calibri"/>
              </a:rPr>
              <a:t>Właściwy czas”</a:t>
            </a:r>
            <a:br>
              <a:rPr sz="4500"/>
            </a:br>
            <a:r>
              <a:rPr b="0" lang="pl-PL" sz="4500" spc="-1" strike="noStrike">
                <a:solidFill>
                  <a:srgbClr val="04617b"/>
                </a:solidFill>
                <a:latin typeface="Calibri"/>
              </a:rPr>
              <a:t>wnioski</a:t>
            </a:r>
            <a:endParaRPr b="0" lang="en-US" sz="45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onstantia"/>
              </a:rPr>
              <a:t>Chodzi o ograniczenie do niezbędnego minimum okresu, w którym dłużnik może rozporządzać swoim majątkiem w sposób odmienny, niż czyniłby to syndyk po ogłoszeniu upadłości</a:t>
            </a:r>
            <a:endParaRPr b="0" lang="en-US" sz="2200" spc="-1" strike="noStrike">
              <a:solidFill>
                <a:srgbClr val="000000"/>
              </a:solidFill>
              <a:latin typeface="Constantia"/>
            </a:endParaRPr>
          </a:p>
          <a:p>
            <a:pPr marL="256320" indent="-2563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onstantia"/>
              </a:rPr>
              <a:t>Nie spełnia tego warunku podjęcie czynności w warunkach niweczących cały sens postępowania upadłościowego</a:t>
            </a:r>
            <a:endParaRPr b="0" lang="en-US" sz="2200" spc="-1" strike="noStrike">
              <a:solidFill>
                <a:srgbClr val="000000"/>
              </a:solidFill>
              <a:latin typeface="Constantia"/>
            </a:endParaRPr>
          </a:p>
          <a:p>
            <a:pPr marL="256320" indent="-2563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onstantia"/>
              </a:rPr>
              <a:t>Odpowiedzialność nie może mieć miejsca, jeżeli zaistniały przesłanki gdy członek zarządu nie miał już wpływu na podjęcie kroków zmierzających do ogłoszenia upadłości</a:t>
            </a:r>
            <a:endParaRPr b="0" lang="en-US" sz="2200" spc="-1" strike="noStrike">
              <a:solidFill>
                <a:srgbClr val="000000"/>
              </a:solidFill>
              <a:latin typeface="Constantia"/>
            </a:endParaRPr>
          </a:p>
          <a:p>
            <a:pPr marL="256320" indent="-2563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onstantia"/>
              </a:rPr>
              <a:t>„</a:t>
            </a:r>
            <a:r>
              <a:rPr b="0" lang="pl-PL" sz="2200" spc="-1" strike="noStrike">
                <a:solidFill>
                  <a:srgbClr val="000000"/>
                </a:solidFill>
                <a:latin typeface="Constantia"/>
              </a:rPr>
              <a:t>Nie z jego winy” należy rozumieć w ten sposób, że jedynie gdy członek zarządu miał wpływ na dokonanie we właściwym czasie  zgłoszenia wniosku o ogłoszenie upadłości, a nie nastąpiło to w tym czasie, od odpowiedzialności może się wyłączyć jeśli wykaże, że nie nastąpiło to z jego winy</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500" spc="-1" strike="noStrike">
                <a:solidFill>
                  <a:srgbClr val="04617b"/>
                </a:solidFill>
                <a:latin typeface="Calibri"/>
              </a:rPr>
              <a:t>Druga przesłanka wyłączająca wskazanie mienia</a:t>
            </a:r>
            <a:endParaRPr b="0" lang="en-US" sz="45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nstantia"/>
              </a:rPr>
              <a:t>Wskazanie, które realnie umożliwi zaspokojenie zaległości spółki w znacznej części</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nstantia"/>
              </a:rPr>
              <a:t>W przypadku wierzytelności – konieczne wykazanie, że można z tych wierzytelności prowadzić egzekucję (wyrok SN z dnia 5 października 2007, II UK 40/07)</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nstantia"/>
              </a:rPr>
              <a:t>Nie chodzi o ujawnienie majątku w toku egzekucji, ale po jej zakończeniu (wyrok z dnia 6 września 2011, I UK 61/11)</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000" spc="-1" strike="noStrike">
                <a:solidFill>
                  <a:srgbClr val="04617b"/>
                </a:solidFill>
                <a:latin typeface="Calibri"/>
              </a:rPr>
              <a:t>Postępowanie</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nstantia"/>
              </a:rPr>
              <a:t>Postępowanie wobec wszystkich członków zarządu</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nstantia"/>
              </a:rPr>
              <a:t>Wynika to z charakteru odpowiedzialności osób trzecich </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nstantia"/>
              </a:rPr>
              <a:t>Decyzja ma charakter konstytutywny i dopiero po wydaniu decyzji o odpowiedzialności osób trzecich może powstać odpowiedzialność solidarna</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nstantia"/>
              </a:rPr>
              <a:t>Organ nie ma na tym etapie możliwości dyskrecjonalnego wyboru tylko określonych członków zarządu</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nstantia"/>
              </a:rPr>
              <a:t>Powstaje problem czy powinno się toczyć jedno postępowanie: zasadniczo jest to kwestia techniczna: powinno się toczyć jedno postępowanie wobec wszystkich, lecz nie jest błędem prowadzenie postępowa</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4617b"/>
                </a:solidFill>
                <a:latin typeface="Calibri"/>
              </a:rPr>
              <a:t>Postępowanie - orzecznictwo</a:t>
            </a:r>
            <a:endParaRPr b="0" lang="en-US" sz="32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nstantia"/>
              </a:rPr>
              <a:t>Organ zobowiązany jest wszcząć postępowanie wobec wszystkich członków zarządu (uchwała z dnia 15 października 2009 r., I UZP 3/09), podobnie orzecznictwo NSA (I FSP 4/0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nstantia"/>
              </a:rPr>
              <a:t>Organ może dokonać wyboru dłużnika dopiero powstaniu solidarnego zobowiązania</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nstantia"/>
              </a:rPr>
              <a:t>Problem decyzji negatywnych:</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nstantia"/>
              </a:rPr>
              <a:t>	</a:t>
            </a:r>
            <a:r>
              <a:rPr b="0" lang="pl-PL" sz="1800" spc="-1" strike="noStrike">
                <a:solidFill>
                  <a:srgbClr val="000000"/>
                </a:solidFill>
                <a:latin typeface="Constantia"/>
              </a:rPr>
              <a:t>- możliwość odwołania się w zakresie w jakim nieobjęto innych członków zarządu (wyrok SN z dnia 16 lipca 2008 r., I UK 9/08)</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nstantia"/>
              </a:rPr>
              <a:t>	</a:t>
            </a:r>
            <a:r>
              <a:rPr b="0" lang="pl-PL" sz="1800" spc="-1" strike="noStrike">
                <a:solidFill>
                  <a:srgbClr val="000000"/>
                </a:solidFill>
                <a:latin typeface="Constantia"/>
              </a:rPr>
              <a:t>- brak wskazania osoby nie jest rozstrzygnięciem negatywnym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nstantia"/>
              </a:rPr>
              <a:t>	</a:t>
            </a:r>
            <a:r>
              <a:rPr b="0" lang="pl-PL" sz="1800" spc="-1" strike="noStrike">
                <a:solidFill>
                  <a:srgbClr val="000000"/>
                </a:solidFill>
                <a:latin typeface="Constantia"/>
              </a:rPr>
              <a:t>- zasadniczo powinna zostać decyzja o odpowiedzialności określonych osób i umorzeniu wobec innych (art. 105 par. 1 k.p.a. w zw. z art. 123 usus)</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nstantia"/>
              </a:rPr>
              <a:t>	</a:t>
            </a:r>
            <a:r>
              <a:rPr b="0" lang="pl-PL" sz="1800" spc="-1" strike="noStrike">
                <a:solidFill>
                  <a:srgbClr val="000000"/>
                </a:solidFill>
                <a:latin typeface="Constantia"/>
              </a:rPr>
              <a:t>- w takiej sytuacji właściwe byłoby prowadzenie jednego postępowania wobec wszystkich potencjalnie odpowiedzialnych (ale uchwała SN z dnia 15 października 2009, I UZP 3/09 – nie jest błędem prowadzenie odrębnych postępowań pod warunkiem że obejmą wszystkich zobowiązanych)</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000" spc="-1" strike="noStrike">
                <a:solidFill>
                  <a:srgbClr val="04617b"/>
                </a:solidFill>
                <a:latin typeface="Calibri"/>
              </a:rPr>
              <a:t>Ustawa o s.u.s.</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onstantia"/>
              </a:rPr>
              <a:t>	</a:t>
            </a:r>
            <a:r>
              <a:rPr b="1" lang="pl-PL" sz="1600" spc="-1" strike="noStrike">
                <a:solidFill>
                  <a:srgbClr val="000000"/>
                </a:solidFill>
                <a:latin typeface="Constantia"/>
              </a:rPr>
              <a:t>Art. 31.</a:t>
            </a:r>
            <a:r>
              <a:rPr b="0" lang="pl-PL" sz="1600" spc="-1" strike="noStrike">
                <a:solidFill>
                  <a:srgbClr val="000000"/>
                </a:solidFill>
                <a:latin typeface="Constantia"/>
              </a:rPr>
              <a:t> Do należności z tytułu składek stosuje się odpowiednio: art. 12, art. 26, art. 29 § 1 i 2, art. 33, art. 33a, art. 33b, art. 51 § 1, art. 55, art. 59 § 1 pkt 1, 3, 4, 8 i 9, art. 60 § 1, art. 61 § 1, art. 62 § 1, 3-5, art. 72 § 1 pkt 1 i 4 i § 2, art. 73 § 1 pkt 1 i 5, art. 77b § 1 i 2, art. 91, art. 93, art. 93a-93c, art. 93e, art. 94, art. 97 § 1, art. 98 § 1 i 2 pkt 1, 2, 5 i 7, art. 100, art. 101, art. 105 § 1 i 2, art. 106 § 1 i 2, art. 107 § 1, 1a, i 2 pkt 2 i 4, art. 108 § 1 i 4, art. 110 § 1, § 2 pkt 2, § 3, art. 111 § 1-4 i 5 pkt 1, art. 112, art. 113, art. 114, art. 115, art. 116, art. 116a, art. 117, art. 118 § 1 i 2 oraz art. 119 ustawy z dnia 29 sierpnia 1997 r. - Ordynacja podatkowa.</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onstantia"/>
              </a:rPr>
              <a:t>	</a:t>
            </a:r>
            <a:r>
              <a:rPr b="1" lang="pl-PL" sz="1600" spc="-1" strike="noStrike">
                <a:solidFill>
                  <a:srgbClr val="000000"/>
                </a:solidFill>
                <a:latin typeface="Constantia"/>
              </a:rPr>
              <a:t>Art. 32.</a:t>
            </a:r>
            <a:r>
              <a:rPr b="0" lang="pl-PL" sz="1600" spc="-1" strike="noStrike">
                <a:solidFill>
                  <a:srgbClr val="000000"/>
                </a:solidFill>
                <a:latin typeface="Constantia"/>
              </a:rPr>
              <a:t> Do składek na Fundusz Pracy, Fundusz Gwarantowanych Świadczeń Pracowniczych i Fundusz Emerytur Pomostowych oraz na ubezpieczenie zdrowotne w zakresie: ich poboru, egzekucji, wymierzania odsetek za zwłokę i dodatkowej opłaty, przepisów karnych, dokonywania zabezpieczeń na wszystkich nieruchomościach, ruchomościach i prawach zbywalnych dłużnika, odpowiedzialności osób trzecich i spadkobierców oraz stosowania ulg i umorzeń stosuje się odpowiednio przepisy dotyczące składek na ubezpieczenia społeczne.</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000" spc="-1" strike="noStrike">
                <a:solidFill>
                  <a:srgbClr val="04617b"/>
                </a:solidFill>
                <a:latin typeface="Calibri"/>
              </a:rPr>
              <a:t>Przedawnienie</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onstantia"/>
              </a:rPr>
              <a:t>5 l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onstantia"/>
              </a:rPr>
              <a:t>W pojęciu wydania nie mieści się jej doręczenie (I UK 85/09, II UK 111/09)</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onstantia"/>
              </a:rPr>
              <a:t>Zarzut przedawnienia dopiero na etapie postępowania egzekucyjneg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4617b"/>
                </a:solidFill>
                <a:latin typeface="Calibri"/>
              </a:rPr>
              <a:t>Ściąganie składek w postępowaniu z elementem zagranicznym</a:t>
            </a:r>
            <a:endParaRPr b="0" lang="en-US" sz="32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onstantia"/>
              </a:rPr>
              <a:t>Art. 84 rozp. 883/2004</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onstantia"/>
              </a:rPr>
              <a:t>Rozdział III rozp. 987/2009</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onstantia"/>
              </a:rPr>
              <a:t> </a:t>
            </a:r>
            <a:r>
              <a:rPr b="0" lang="pl-PL" sz="2600" spc="-1" strike="noStrike">
                <a:solidFill>
                  <a:srgbClr val="000000"/>
                </a:solidFill>
                <a:latin typeface="Constantia"/>
              </a:rPr>
              <a:t>I UK 117/10</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onstantia"/>
              </a:rPr>
              <a:t>	</a:t>
            </a:r>
            <a:r>
              <a:rPr b="0" lang="pl-PL" sz="2600" spc="-1" strike="noStrike">
                <a:solidFill>
                  <a:srgbClr val="000000"/>
                </a:solidFill>
                <a:latin typeface="Constantia"/>
              </a:rPr>
              <a:t>- obywatel państwa trzeciego może być obciążony odpowiedzialnością za niezapłacone składki</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onstantia"/>
              </a:rPr>
              <a:t>	</a:t>
            </a:r>
            <a:r>
              <a:rPr b="0" lang="pl-PL" sz="2600" spc="-1" strike="noStrike">
                <a:solidFill>
                  <a:srgbClr val="000000"/>
                </a:solidFill>
                <a:latin typeface="Constantia"/>
              </a:rPr>
              <a:t>- odpowiedzialność wykracza poza przedmiot regulacji p.p.m.</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000" spc="-1" strike="noStrike">
                <a:solidFill>
                  <a:srgbClr val="04617b"/>
                </a:solidFill>
                <a:latin typeface="Calibri"/>
              </a:rPr>
              <a:t>Pojęcie należności</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onstantia"/>
              </a:rPr>
              <a:t>	</a:t>
            </a:r>
            <a:r>
              <a:rPr b="0" lang="pl-PL" sz="2600" spc="-1" strike="noStrike">
                <a:solidFill>
                  <a:srgbClr val="000000"/>
                </a:solidFill>
                <a:latin typeface="Constantia"/>
              </a:rPr>
              <a:t>Wszelkie należności z tytułu składek lub z tytułu wypłaconych lub nienależnie udzielonych świadczeń, w tym odsetki, grzywny, sankcje administracyjnej oraz wszystkie inne opłaty i koszty związane z należnością zgodnie z ustawodawstwem państwa członkowskiego występującego o zwrot należności (art. 75 rozp. 987/2009).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4617b"/>
                </a:solidFill>
                <a:latin typeface="Calibri"/>
              </a:rPr>
              <a:t>Ściąganie należności a ustalenie prawa właściwego</a:t>
            </a:r>
            <a:endParaRPr b="0" lang="en-US" sz="3200" spc="-1" strike="noStrike">
              <a:solidFill>
                <a:srgbClr val="04617b"/>
              </a:solidFill>
              <a:latin typeface="Calibri"/>
            </a:endParaRPr>
          </a:p>
        </p:txBody>
      </p:sp>
      <p:sp>
        <p:nvSpPr>
          <p:cNvPr id="26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onstantia"/>
              </a:rPr>
              <a:t>Art. 84 ust. 1 rozp. 883/2004</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onstantia"/>
              </a:rPr>
              <a:t>Zbieranie składek należnych oraz odzyskiwanie świadczeń nienależnych może być wykonywane w innym państwie członkowskim, zgodnie z procedurą administracyjną oraz z zachowaniem gwarancji i przywilejów związanych z tego typu działaniami w tym państwie członkowskim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000" spc="-1" strike="noStrike">
                <a:solidFill>
                  <a:srgbClr val="04617b"/>
                </a:solidFill>
                <a:latin typeface="Calibri"/>
              </a:rPr>
              <a:t>Przykład</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nstantia"/>
              </a:rPr>
              <a:t>	</a:t>
            </a:r>
            <a:r>
              <a:rPr b="0" lang="pl-PL" sz="2400" spc="-1" strike="noStrike">
                <a:solidFill>
                  <a:srgbClr val="000000"/>
                </a:solidFill>
                <a:latin typeface="Constantia"/>
              </a:rPr>
              <a:t>Prawem właściwym w związku z podleganiem ubezpieczeniu społecznemu jest ustawodawstwo państwa A, a płatnik składek znajduje się w państwie B. Dotyczy to również sytuacji, w której osoba pobierające świadczenia na terytorium jednego państwa członkowskiego zmieniła miejsce zamieszkania, wskutek czego domaganie się zwrotu nienależnych świadczeń musi nastąpić w państwie miejsca zamieszkania.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000" spc="-1" strike="noStrike">
                <a:solidFill>
                  <a:srgbClr val="04617b"/>
                </a:solidFill>
                <a:latin typeface="Calibri"/>
              </a:rPr>
              <a:t>c.d.</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Art. 84 wskazuje wyłącznie na prawo właściwe dotyczące procedury odzyskiwania składek czy należności, a zatem nie przesądza w ogóle o materialnoprawnej podstawie roszczenia</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Pozostawione to zostało ustawodawstwu państw członkowskich. Nie oznacza to jednak, że instytucja właściwa nie może prowadzić postępowania wyłącznie na podstawie swoich przepisów.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Do tego momentu instytucja właściwa prowadzi postępowanie według swojego prawa, a instytucja innego państwa (gdzie płatnik ma siedzibę bądź zobowiązany do zwrotu świadczeń miejsce zamieszkania) może odgrywać wyłącznie rolę pośredniczącą. Dopiero, gdy instytucja innego państwa będzie posiadała prawomocny tytuł może, na podstawie omawianych regulacji, egzekwować należności na rzecz instytucji właściwej według swojego prawa, zgodnie z procedurą obowiązującą dla należności krajowych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000" spc="-1" strike="noStrike">
                <a:solidFill>
                  <a:srgbClr val="04617b"/>
                </a:solidFill>
                <a:latin typeface="Calibri"/>
              </a:rPr>
              <a:t>Ściąganie należności - strony</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nstantia"/>
              </a:rPr>
              <a:t>Miarodajne są przepisy rozporządzenia wykonawczego, które wskazują na istnienie: strony występującej (art. 75 ust. 1 tiret 2), strony wezwanej (art. 75 ust. 1 tiret 3) oraz strony zainteresowanej (art. 81).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nstantia"/>
              </a:rPr>
              <a:t>Niezależnie od tego w komentowanych przepisach rozporządzenia wykonawczego mowa jest o zainteresowanej osobie fizycznej (art. 71) czy zainteresowanym (np. art. 72).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000" spc="-1" strike="noStrike">
                <a:solidFill>
                  <a:srgbClr val="04617b"/>
                </a:solidFill>
                <a:latin typeface="Calibri"/>
              </a:rPr>
              <a:t>Ściąganie - postępowanie</a:t>
            </a:r>
            <a:endParaRPr b="0" lang="en-US" sz="50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onstantia"/>
              </a:rPr>
              <a:t>Wystąpienie z wnioskiem o odzyskanie należności (art. 78) dopuszczalne jest co do zasady w oparciu o tytuł wykonawczy (art. 79), którym jest ostateczne rozstrzygnięcie instytucji właściwej bądź orzeczenie właściwego sądu wydane wskutek kwestionowania należności  (art. 81 ust. 4); chyba że możliwe jest złożenie skargi od rozstrzygnięcia instytucji właściwej na podstawie art. 81 ust. 1 i 2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onstantia"/>
              </a:rPr>
              <a:t>do czasu wystąpienia z wnioskiem (art. 78) postępowanie w przedmiocie zapłaty należności toczy się przed instytucją właściwą, aż do wyczerpania wszystkich środków prawnych służących odzyskaniu należności (art. 78 ust. 2);</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onstantia"/>
              </a:rPr>
              <a:t>kwestionowanie należności w rozumieniu art. 81 ust. 1 rozp. 987/2009 dotyczy wyłącznie przypadków, kiedy została wydane zostało rozstrzygnięcie przez instytucję właściwą, przy czym nie będąc ostateczne zostało ono przesłane do strony występującej oraz strony zainteresowanej;</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onstantia"/>
              </a:rPr>
              <a:t>do czasu rozstrzygnięcia skargi wniesionej na podstawie art. 81 ust. 1 rozp. 987/2009 egzekucja jest zawieszona (art. 81 ust. 3), po rozstrzygnięciu przez sąd odzyskiwanie należności jest kontynuowane (art. 81 ust. 4);</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000" spc="-1" strike="noStrike">
                <a:solidFill>
                  <a:srgbClr val="04617b"/>
                </a:solidFill>
                <a:latin typeface="Calibri"/>
              </a:rPr>
              <a:t>Ściąganie należności – c.d.</a:t>
            </a:r>
            <a:endParaRPr b="0" lang="en-US"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onstantia"/>
              </a:rPr>
              <a:t>Powyższe ustalenia tracą na znaczeniu, gdy strony występująca (instytucja właściwa) nie wzywa lub nie powiadamia strony zainteresowanej za pośrednictwem strony występującej na etapie postępowania przed instytucją właściwą. Jeśli bowiem przedmiotowe postępowanie kończy się ostatecznym rozstrzygnięciem, to wówczas w państwie strony występującej prowadzona jest wyłącznie egzekucja składek (należności), a kwestionowanie tytułu wykonawczego, wprawdzie dozwolone na podstawie art. 81 rozp. 987/2009, prowadzi na terytorium instytucji wezwanej do zawieszenia postępowania egzekucyjnego, natomiast na terytorium strony występującej do rozpatrzenia środka odwoławczego. Z reguły jego powodzenie będzie niewielkie skoro będą to nadzwyczajnie środki odwoławcze, co wynika z faktu posiadania tytułu wykonawczego.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onstantia"/>
              </a:rPr>
              <a:t>Jednocześnie w rozporządzeniu dopuszcza się również kwestionowanie środków egzekucyjnych zastosowanych w państwie członkowskim strony wezwanej (art. 81 ust. 3 rozp. 987/2009). W takiej sytuacji sprawa zostaje wniesiona do właściwej władzy państwa członkowskiego strony wezwanej.</a:t>
            </a:r>
            <a:r>
              <a:rPr b="0" lang="pl-PL" sz="1400" spc="-1" strike="noStrike">
                <a:solidFill>
                  <a:srgbClr val="000000"/>
                </a:solidFill>
                <a:latin typeface="Constantia"/>
              </a:rPr>
              <a:t> </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4617b"/>
                </a:solidFill>
                <a:latin typeface="Calibri"/>
              </a:rPr>
              <a:t>Ściąganie – obowiązki i uprawnienia strony wezwanej</a:t>
            </a:r>
            <a:endParaRPr b="0" lang="en-US" sz="32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nstantia"/>
              </a:rPr>
              <a:t>obowiązek udzielenia stronie wzywanej wszelkich informacji użytecznych do dla strony występującej w ramach odzyskiwania należności (art. 76 ust. 1 i 2), wraz z prawem odmowy udzielenia informacji (art. 76 ust. 3 i 4);</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nstantia"/>
              </a:rPr>
              <a:t>obowiązek powiadomienia na wniosek strony występującej adresata o wszystkich instrumentach i decyzjach, w tym o charakterze sądowym, które odnoszą się do należności lub jej odzyskania i zostały wydane w państwie członkowskim (art. 77). W tym przypadku strona wezwana występuje w roli przekazującego informację. Z punktu widzenia dochowania terminów wynikających z ustawodawstwa właściwego trzeba wówczas przyjąć, że czynność dokonana przed instytucją występującą wywołuje takie same skutki, jak przed instytucją właściwą, co wynika z zasad ogólnych;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nstantia"/>
              </a:rPr>
              <a:t>obowiązek uznania tytułu wykonawczego wydanego w innym państwie członkowskim (art. 79);</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000" spc="-1" strike="noStrike">
                <a:solidFill>
                  <a:srgbClr val="04617b"/>
                </a:solidFill>
                <a:latin typeface="Calibri"/>
              </a:rPr>
              <a:t>Charakter odpowiedzialnośc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onstantia"/>
              </a:rPr>
              <a:t>Odpowiedzialność składkowa osób trzecich </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onstantia"/>
              </a:rPr>
              <a:t>Odpowiedzialność solidarna na zasadach cywilnoprawnych całym majątkiem solidarnie ze spółką (art. 91 Ordynacji w związku z art. 31 usu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onstantia"/>
              </a:rPr>
              <a:t>De facto mamy do czynienia z podwójną odpowiedzialnością solidarną: osób trzecich ze spółką oraz osób trzecich względem siebie</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onstantia"/>
              </a:rPr>
              <a:t>Brak możliwości odpowiedzialności następców prawnych osób trzecich (NSA z 24 czerwca 2003, I SA/Łd 1528/02)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4617b"/>
                </a:solidFill>
                <a:latin typeface="Calibri"/>
              </a:rPr>
              <a:t>Ściąganie należności – obowiązki i uprawnienia strony wezwanej c.d.</a:t>
            </a:r>
            <a:endParaRPr b="0" lang="en-US" sz="32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uprawnienie do podjęcia środków zapobiegawczych gwarantujących odzyskanie należności w zakresie, w jakim przepisy ustawowe lub wykonawcze obowiązujące we własnym państwie  pozwalają na takie postępowanie w przypadkach podobnych należności (art. 81 ust. 2 zdanie 2 oraz art. 8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uprawnienie do odmowy udzielania pomocy, jeśli zostały spełnione przesłanki wynikające z art. 82 rozp. 987/2009; chodzi tutaj o przypadku, gdy odzyskiwanie należności spowodowałoby poważne trudności gospodarcze lub społeczne w państwie członkowskim strony wezwanej oraz jeżeli pierwotny wniosek oparty na art. 76-78 odnosi się do należności starszych niż pięcioletnie, licząc od momentu, w którym tytuł wykonawczy został ustanowiony.</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4617b"/>
                </a:solidFill>
                <a:latin typeface="Calibri"/>
              </a:rPr>
              <a:t>Ściąganie należności – określenie waluty oraz warunki płatności</a:t>
            </a:r>
            <a:endParaRPr b="0" lang="en-US" sz="32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onstantia"/>
              </a:rPr>
              <a:t>W przypadku odzyskiwania należności przez państwo wzywane, należności odzyskiwanie są walucie tego państwa (art. 80 ust. 1 rozp. 987/2009).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onstantia"/>
              </a:rPr>
              <a:t>W sposób szczególny uregulowano też problem ewentualnego odroczenia płatności. W ust. 2 art. 85 rozp. 987/2009 stwierdza się, że jeżeli zezwalają na to przepisy ustawowe, wykonawcze lub administracyjne obowiązujące w państwie członkowskim strony wezwanej, to strona ta może po zasięgnięciu opinii strony występującej przyznać dłużnikowi odroczenie spłaty lub możliwość spłaty w ratach. Jakiekolwiek odsetki naliczane przez stronę wezwaną w związku z odroczeniem spłaty również są przekazywane stronie występującej.</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onstantia"/>
              </a:rPr>
              <a:t>Od dnia, w którym tytuł wykonawczy został bezpośrednio uznany zgodnie z art. 79 ust. 1 rozporządzenia wykonawczego lub przyjęty, uznany, uzupełniony lub zastąpiony zgodnie z art. 79 ust. 2 rozporządzenia wykonawczego, odsetki za zwłokę naliczane są zgodnie z przepisami ustawowymi, wykonawczymi i administracyjnymi obowiązującymi w państwie członkowskim strony wezwanej i również są przekazywane stronie występującej.</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000" spc="-1" strike="noStrike">
                <a:solidFill>
                  <a:srgbClr val="04617b"/>
                </a:solidFill>
                <a:latin typeface="Calibri"/>
              </a:rPr>
              <a:t>Przedawnienie</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Zgodnie z art. 83 ust. 1 rozp. 987/2009 terminy przedawnienia ustalane są na podstawie ustawodawstwa państwa członkowskiego strony występującej w zakresie, w jakim dotyczą one należności lub tytułu wykonawczego oraz na podstawie ustawodawstwa państwa członkowskiego strony wezwanej, w zakresie w jakim dotyczą one środków egzekucyjnych w wezwanym państwie członkowskim. </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Bieg terminów przedawnienia zgodnie z przepisami obowiązującymi w państwie członkowskim strony wezwanej rozpoczyna się w dniu bezpośredniego uznania lub w dniu przejęcia, uznania, uzupełnienia lub zastąpienie, zgodnie z art. 79 rozp. 987/2009.</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000" spc="-1" strike="noStrike">
                <a:solidFill>
                  <a:srgbClr val="04617b"/>
                </a:solidFill>
                <a:latin typeface="Calibri"/>
              </a:rPr>
              <a:t>Wyrównanie należności</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nstantia"/>
              </a:rPr>
              <a:t>Alternatywna forma ściągania należności</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nstantia"/>
              </a:rPr>
              <a:t>Art. 72-74 rozp. 987/2009</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nstantia"/>
              </a:rPr>
              <a:t>Jeżeli instytucja państwa członkowskiego wypłaciła danej osobie nienależne świadczenia, instytucja ta może, na warunkach i w granicach przewidzianych w stosowanym przez tę instytucję ustawodawstwie, wystąpić do instytucji każdego innego państwa członkowskiego odpowiedzialnej za wypłatę świadczeń zainteresowanemu o potrącenie nienależnej kwoty z kwot zaległych lub bieżących płatności należnych tej osobie niezależnie od działu zabezpieczenia społecznego, w ramach którego świadczenie jest wypłacane. Instytucja tego ostatniego państwa członkowskiego potrąca odnośną kwotę na warunkach i w granicach przewidzianych w stosowanym przez nią ustawodawstwie dla takiej procedury wyrównawczej, w taki sam sposób, jak w przypadku gdyby sama dokonała nadpłaty, oraz przekazuje potrąconą kwotę instytucji, która wypłaciła nienależne świadczenia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000" spc="-1" strike="noStrike">
                <a:solidFill>
                  <a:srgbClr val="04617b"/>
                </a:solidFill>
                <a:latin typeface="Calibri"/>
              </a:rPr>
              <a:t>Wyrównanie należności c.d.</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nstantia"/>
              </a:rPr>
              <a:t>	</a:t>
            </a:r>
            <a:r>
              <a:rPr b="0" lang="pl-PL" sz="1800" spc="-1" strike="noStrike">
                <a:solidFill>
                  <a:srgbClr val="000000"/>
                </a:solidFill>
                <a:latin typeface="Constantia"/>
              </a:rPr>
              <a:t>Podstawowy problem związany jest z ustaleniem określonego świadczenia za nienależne. Wymaga to bowiem istnienia w państwie właściwym stosownego rozstrzygnięcia (np. decyzji), która może być kwestionowana. W moim przekonaniu możliwość wyrównania należności w rozumieniu art. 72-74 rozp. 987/2009 nie może naruszać autonomii państw członkowskich w zakresie stanowionego prawa krajowego, zatem mógłby mieć zastosowanie wyłącznie wówczas, gdyby uznanie określonego świadczenia za niezależne nie wymagało wydania decyzji bądź nie przewidywało żadnego środka odwoławczego. Stąd też, moim zdaniem, aby nastąpiło wyrównanie, musi zakończyć się procedura uznawania określonego świadczenia według ustawodawstwa państwa właściwego. Do tego czasu domaganie się potrącenia trzeba uznać za nieuprawnione. A zatem procedura wyrównania należności dotyczy tylko ostatecznie zakończonych postępowań krajowych, w których strona występująca dysponuje prawomocnym tytułem egzekucyjnym.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000" spc="-1" strike="noStrike">
                <a:solidFill>
                  <a:srgbClr val="04617b"/>
                </a:solidFill>
                <a:latin typeface="Calibri"/>
              </a:rPr>
              <a:t>Wyrównanie należności c.d.</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nstantia"/>
              </a:rPr>
              <a:t>	</a:t>
            </a:r>
            <a:r>
              <a:rPr b="0" lang="pl-PL" sz="1800" spc="-1" strike="noStrike">
                <a:solidFill>
                  <a:srgbClr val="000000"/>
                </a:solidFill>
                <a:latin typeface="Constantia"/>
              </a:rPr>
              <a:t>Potrącenie dopuszczalne jest również w przypadku realizacji świadczeń tymczasowych w rozumieniu art. 6 rozp. 987/2009. Jest to zrozumiałe i nie wywołuje wątpliwości, tym bardziej, że osoba pobierająca świadczenie od samego początku ma świadomość powstania możliwości, że zostanie ono uznane za nieprzysługujące (w odniesieniu do instytucji wypłacającej). Okoliczność ta może również przemawiać za argumentacją wskazaną wyżej w zakresie braku możliwości potrącania, zanim zgodnie z ustawodawstwem określonego państwa członkowskiego dane świadczenie nie zostanie uznane za niezależne. Tymczasowość świadczeń zakłada bowiem istnienie również rozstrzygnięcia (decyzji) właściwego organu o takim charakterze. Zanim zatem problem tymczasowości świadczeń nie zostanie rozstrzygnięty potrącenie na podstawie art. 73 rozp. 987/2009 nie jest możliwe.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000" spc="-1" strike="noStrike">
                <a:solidFill>
                  <a:srgbClr val="04617b"/>
                </a:solidFill>
                <a:latin typeface="Calibri"/>
              </a:rPr>
              <a:t>Zwrot kosztów</a:t>
            </a:r>
            <a:endParaRPr b="0" lang="en-US" sz="5000" spc="-1" strike="noStrike">
              <a:solidFill>
                <a:srgbClr val="04617b"/>
              </a:solidFill>
              <a:latin typeface="Calibri"/>
            </a:endParaRPr>
          </a:p>
        </p:txBody>
      </p:sp>
      <p:sp>
        <p:nvSpPr>
          <p:cNvPr id="293" name=""/>
          <p:cNvSpPr txBox="1"/>
          <p:nvPr/>
        </p:nvSpPr>
        <p:spPr>
          <a:xfrm>
            <a:off x="457200" y="1341000"/>
            <a:ext cx="8229600" cy="478476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Zasadniczo zwrot kosztów został uzależniony od tego, czy mamy do czynienia z odzyskiwaniem należności w ramach tzw. procedury wyrównawczej (art. 72-74), czy na podstawie procedury wynikającej z art. 75-85 rozp. 987/2009. Tylko w tym drugim przypadku instytucji wzywanej przysługuje zwrot kosztów (art. 74 i art. 85 rozporządzenia podstawowego).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Strona wezwana odzyskuje od zainteresowanej osoby fizycznej lub prawnej, i zatrzymuje, wszelkie związane z odzyskiwaniem należności koszty, które ponosi, zgodnie z przepisami ustawowymi i wykonawczymi państwa członkowskiego strony wezwanej, mającymi zastosowanie do podobnych należności.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000" spc="-1" strike="noStrike">
                <a:solidFill>
                  <a:srgbClr val="04617b"/>
                </a:solidFill>
                <a:latin typeface="Calibri"/>
              </a:rPr>
              <a:t>Zwrot kosztów c.d.</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nstantia"/>
              </a:rPr>
              <a:t>Odrębnie uregulowano kwestię kosztów udzielania pomocy, co dotyczy w szczególności sytuacji, o której mowa w art. 76. Zgodnie z art. 85 ust.2 rozp. 987/2009 wzajemna pomoc udzielana na mocy sekcji 3 rozdziału III jest co do zasady wolna od opłat. Jednakże w przypadku gdy odzyskiwanie należności sprawia szczególne trudności lub wiąże się z bardzo wysokimi kosztami, strona występująca i strona wezwana mogą w danych przypadkach uzgodnić odrębne zasady zwrotu kosztów.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nstantia"/>
              </a:rPr>
              <a:t>Jednocześnie wprowadza się odpowiedzialność państwa członkowskiego strony występującej za wszelkie koszty i straty spowodowane działaniami uznanymi za bezpodstawne w odniesieniu do podstawy roszczenia lub ważności instrumentu wydanego przez stronę występującą (art. 85 ust. 3 rozp. 987/2009)</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000" spc="-1" strike="noStrike">
                <a:solidFill>
                  <a:srgbClr val="04617b"/>
                </a:solidFill>
                <a:latin typeface="Calibri"/>
              </a:rPr>
              <a:t>Charakter odpowiedzialności</a:t>
            </a:r>
            <a:endParaRPr b="0" lang="en-US" sz="50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onstantia"/>
              </a:rPr>
              <a:t>Akcesoryjny: wygaśnięcie zobowiązania wobec spółki powoduje wygaśnięcie zobowiązania wobec osoby trzeciej</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onstantia"/>
              </a:rPr>
              <a:t>Problem: utrata bytu prawnego przez spółkę – nie powoduje wygaśnięcia zobowiązania składkowego (uchwała 7 sędziów SN z dnia 15 października 2009 r., I UZP 3/09)</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000" spc="-1" strike="noStrike">
                <a:solidFill>
                  <a:srgbClr val="04617b"/>
                </a:solidFill>
                <a:latin typeface="Calibri"/>
              </a:rPr>
              <a:t>Powstanie odpowiedzialnośc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nstantia"/>
              </a:rPr>
              <a:t>Nie jest wymagane uprzednie wydanie przez organ ubezpieczeń społecznych decyzji ustalającej zobowiązanie płatnika składek</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nstantia"/>
              </a:rPr>
              <a:t>Art. 31 usus nie odsyła do odpowiedniego stosowania art. 108 par. 2 (wyrok SN z dnia 30 stycznia 2008 r., I UK 187/07 i z dnia 25 lutego 2010 r., II UK 226/09)</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nstantia"/>
              </a:rPr>
              <a:t>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nstantia"/>
              </a:rPr>
              <a:t>	</a:t>
            </a:r>
            <a:r>
              <a:rPr b="0" lang="pl-PL" sz="1400" spc="-1" strike="noStrike">
                <a:solidFill>
                  <a:srgbClr val="000000"/>
                </a:solidFill>
                <a:latin typeface="Constantia"/>
              </a:rPr>
              <a:t>§ 2. Postępowanie w sprawie odpowiedzialności podatkowej osoby trzeciej nie może zostać wszczęte przed:</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nstantia"/>
              </a:rPr>
              <a:t>	</a:t>
            </a:r>
            <a:r>
              <a:rPr b="0" lang="pl-PL" sz="1400" spc="-1" strike="noStrike">
                <a:solidFill>
                  <a:srgbClr val="000000"/>
                </a:solidFill>
                <a:latin typeface="Constantia"/>
              </a:rPr>
              <a:t>1)</a:t>
            </a:r>
            <a:r>
              <a:rPr b="0" lang="pl-PL" sz="1400" spc="-1" strike="noStrike">
                <a:solidFill>
                  <a:srgbClr val="000000"/>
                </a:solidFill>
                <a:latin typeface="Constantia"/>
              </a:rPr>
              <a:t>	</a:t>
            </a:r>
            <a:r>
              <a:rPr b="0" lang="pl-PL" sz="1400" spc="-1" strike="noStrike">
                <a:solidFill>
                  <a:srgbClr val="000000"/>
                </a:solidFill>
                <a:latin typeface="Constantia"/>
              </a:rPr>
              <a:t>upływem terminu płatności ustalonego zobowiązania;</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nstantia"/>
              </a:rPr>
              <a:t>	</a:t>
            </a:r>
            <a:r>
              <a:rPr b="0" lang="pl-PL" sz="1400" spc="-1" strike="noStrike">
                <a:solidFill>
                  <a:srgbClr val="000000"/>
                </a:solidFill>
                <a:latin typeface="Constantia"/>
              </a:rPr>
              <a:t>2)</a:t>
            </a:r>
            <a:r>
              <a:rPr b="0" lang="pl-PL" sz="1400" spc="-1" strike="noStrike">
                <a:solidFill>
                  <a:srgbClr val="000000"/>
                </a:solidFill>
                <a:latin typeface="Constantia"/>
              </a:rPr>
              <a:t>	</a:t>
            </a:r>
            <a:r>
              <a:rPr b="0" lang="pl-PL" sz="1400" spc="-1" strike="noStrike">
                <a:solidFill>
                  <a:srgbClr val="000000"/>
                </a:solidFill>
                <a:latin typeface="Constantia"/>
              </a:rPr>
              <a:t>dniem doręczenia decyzji:</a:t>
            </a:r>
            <a:endParaRPr b="0" lang="en-US" sz="1400" spc="-1" strike="noStrike">
              <a:solidFill>
                <a:srgbClr val="000000"/>
              </a:solidFill>
              <a:latin typeface="Constantia"/>
            </a:endParaRPr>
          </a:p>
          <a:p>
            <a:pPr lvl="1" marL="639720" indent="-24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nstantia"/>
              </a:rPr>
              <a:t>a)</a:t>
            </a:r>
            <a:r>
              <a:rPr b="0" lang="pl-PL" sz="1400" spc="-1" strike="noStrike">
                <a:solidFill>
                  <a:srgbClr val="000000"/>
                </a:solidFill>
                <a:latin typeface="Constantia"/>
              </a:rPr>
              <a:t>	</a:t>
            </a:r>
            <a:r>
              <a:rPr b="0" lang="pl-PL" sz="1400" spc="-1" strike="noStrike">
                <a:solidFill>
                  <a:srgbClr val="000000"/>
                </a:solidFill>
                <a:latin typeface="Constantia"/>
              </a:rPr>
              <a:t>określającej wysokość zobowiązania podatkowego,</a:t>
            </a:r>
            <a:endParaRPr b="0" lang="en-US" sz="1400" spc="-1" strike="noStrike">
              <a:solidFill>
                <a:srgbClr val="000000"/>
              </a:solidFill>
              <a:latin typeface="Constantia"/>
            </a:endParaRPr>
          </a:p>
          <a:p>
            <a:pPr lvl="1" marL="639720" indent="-24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nstantia"/>
              </a:rPr>
              <a:t>b)</a:t>
            </a:r>
            <a:r>
              <a:rPr b="0" lang="pl-PL" sz="1400" spc="-1" strike="noStrike">
                <a:solidFill>
                  <a:srgbClr val="000000"/>
                </a:solidFill>
                <a:latin typeface="Constantia"/>
              </a:rPr>
              <a:t>	</a:t>
            </a:r>
            <a:r>
              <a:rPr b="0" lang="pl-PL" sz="1400" spc="-1" strike="noStrike">
                <a:solidFill>
                  <a:srgbClr val="000000"/>
                </a:solidFill>
                <a:latin typeface="Constantia"/>
              </a:rPr>
              <a:t>o odpowiedzialności podatkowej płatnika lub inkasenta,</a:t>
            </a:r>
            <a:endParaRPr b="0" lang="en-US" sz="1400" spc="-1" strike="noStrike">
              <a:solidFill>
                <a:srgbClr val="000000"/>
              </a:solidFill>
              <a:latin typeface="Constantia"/>
            </a:endParaRPr>
          </a:p>
          <a:p>
            <a:pPr lvl="1" marL="639720" indent="-24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nstantia"/>
              </a:rPr>
              <a:t>c)</a:t>
            </a:r>
            <a:r>
              <a:rPr b="0" lang="pl-PL" sz="1400" spc="-1" strike="noStrike">
                <a:solidFill>
                  <a:srgbClr val="000000"/>
                </a:solidFill>
                <a:latin typeface="Constantia"/>
              </a:rPr>
              <a:t>	</a:t>
            </a:r>
            <a:r>
              <a:rPr b="0" lang="pl-PL" sz="1400" spc="-1" strike="noStrike">
                <a:solidFill>
                  <a:srgbClr val="000000"/>
                </a:solidFill>
                <a:latin typeface="Constantia"/>
              </a:rPr>
              <a:t>w sprawie zwrotu zaliczki naliczonego podatku od towarów i usług,</a:t>
            </a:r>
            <a:endParaRPr b="0" lang="en-US" sz="1400" spc="-1" strike="noStrike">
              <a:solidFill>
                <a:srgbClr val="000000"/>
              </a:solidFill>
              <a:latin typeface="Constantia"/>
            </a:endParaRPr>
          </a:p>
          <a:p>
            <a:pPr lvl="1" marL="639720" indent="-24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nstantia"/>
              </a:rPr>
              <a:t>d)</a:t>
            </a:r>
            <a:r>
              <a:rPr b="0" lang="pl-PL" sz="1400" spc="-1" strike="noStrike">
                <a:solidFill>
                  <a:srgbClr val="000000"/>
                </a:solidFill>
                <a:latin typeface="Constantia"/>
              </a:rPr>
              <a:t>	</a:t>
            </a:r>
            <a:r>
              <a:rPr b="0" lang="pl-PL" sz="1400" spc="-1" strike="noStrike">
                <a:solidFill>
                  <a:srgbClr val="000000"/>
                </a:solidFill>
                <a:latin typeface="Constantia"/>
              </a:rPr>
              <a:t>określającej wysokość należnych odsetek za zwłokę;</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nstantia"/>
              </a:rPr>
              <a:t>	</a:t>
            </a:r>
            <a:r>
              <a:rPr b="0" lang="pl-PL" sz="1400" spc="-1" strike="noStrike">
                <a:solidFill>
                  <a:srgbClr val="000000"/>
                </a:solidFill>
                <a:latin typeface="Constantia"/>
              </a:rPr>
              <a:t>3)</a:t>
            </a:r>
            <a:r>
              <a:rPr b="0" lang="pl-PL" sz="1400" spc="-1" strike="noStrike">
                <a:solidFill>
                  <a:srgbClr val="000000"/>
                </a:solidFill>
                <a:latin typeface="Constantia"/>
              </a:rPr>
              <a:t>	</a:t>
            </a:r>
            <a:r>
              <a:rPr b="0" lang="pl-PL" sz="1400" spc="-1" strike="noStrike">
                <a:solidFill>
                  <a:srgbClr val="000000"/>
                </a:solidFill>
                <a:latin typeface="Constantia"/>
              </a:rPr>
              <a:t>dniem wszczęcia postępowania egzekucyjnego - w przypadku, o którym mowa w § 3.</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onstantia"/>
              </a:rPr>
              <a:t>Ale: konieczność wydania decyzji wobec osoby trzeciej, która ma charakter konstytutywny (wyrok SN z dnia 23 października 2006 r., I UK 126/06)</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000" spc="-1" strike="noStrike">
                <a:solidFill>
                  <a:srgbClr val="04617b"/>
                </a:solidFill>
                <a:latin typeface="Calibri"/>
              </a:rPr>
              <a:t>Przesłanki odpowiedzialności</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609480" indent="-609480">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Członek zarządu odpowiada za zaległości składkowe, które powstały w czasie pełnienia przez niego w czasie pełnienie funkcji w zarządzie, jeżeli</a:t>
            </a:r>
            <a:endParaRPr b="0" lang="en-US" sz="2000" spc="-1" strike="noStrike">
              <a:solidFill>
                <a:srgbClr val="000000"/>
              </a:solidFill>
              <a:latin typeface="Constantia"/>
            </a:endParaRPr>
          </a:p>
          <a:p>
            <a:pPr marL="609480" indent="-609480">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Egzekucja z majątku spółki okazała się w całości lub w części bezskuteczna, chyba że wykaże, że</a:t>
            </a:r>
            <a:endParaRPr b="0" lang="en-US" sz="2000" spc="-1" strike="noStrike">
              <a:solidFill>
                <a:srgbClr val="000000"/>
              </a:solidFill>
              <a:latin typeface="Constantia"/>
            </a:endParaRPr>
          </a:p>
          <a:p>
            <a:pPr marL="609480" indent="-609480">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Zgłoszono we właściwym czasie wniosek o ogłoszenie upadłości lub o wszczęcie postępowania zapobiegającego upadłości (układowego) bądź że</a:t>
            </a:r>
            <a:endParaRPr b="0" lang="en-US" sz="2000" spc="-1" strike="noStrike">
              <a:solidFill>
                <a:srgbClr val="000000"/>
              </a:solidFill>
              <a:latin typeface="Constantia"/>
            </a:endParaRPr>
          </a:p>
          <a:p>
            <a:pPr marL="609480" indent="-609480">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Niezgłoszenie tych wniosków we właściwym czasie nastąpiło bez jego winy, a także gdy</a:t>
            </a:r>
            <a:endParaRPr b="0" lang="en-US" sz="2000" spc="-1" strike="noStrike">
              <a:solidFill>
                <a:srgbClr val="000000"/>
              </a:solidFill>
              <a:latin typeface="Constantia"/>
            </a:endParaRPr>
          </a:p>
          <a:p>
            <a:pPr marL="609480" indent="-609480">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nstantia"/>
              </a:rPr>
              <a:t>Wskaże mienie spółki, z którego egzekucja umożliwi zaspokojenie zaległości składkowch</a:t>
            </a:r>
            <a:endParaRPr b="0" lang="en-US" sz="2000" spc="-1" strike="noStrike">
              <a:solidFill>
                <a:srgbClr val="000000"/>
              </a:solidFill>
              <a:latin typeface="Constantia"/>
            </a:endParaRPr>
          </a:p>
          <a:p>
            <a:pPr marL="609480" indent="-609480">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000" spc="-1" strike="noStrike">
                <a:solidFill>
                  <a:srgbClr val="04617b"/>
                </a:solidFill>
                <a:latin typeface="Calibri"/>
              </a:rPr>
              <a:t>Ciężar dowodu</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onstantia"/>
              </a:rPr>
              <a:t>Organ: przesłanki odpowiedzialności osób zobowiązanych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onstantia"/>
              </a:rPr>
              <a:t>Osoby zainteresowane: przesłanki zwalniające z odpowiedzialności (wyrok SN z dnia 16 lipca 2008 r., I UK 126/06)</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000" spc="-1" strike="noStrike">
                <a:solidFill>
                  <a:srgbClr val="04617b"/>
                </a:solidFill>
                <a:latin typeface="Calibri"/>
              </a:rPr>
              <a:t>Zaległość składkowa</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fontScale="99000"/>
          </a:bodyPr>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nstantia"/>
              </a:rPr>
              <a:t>Zaległość składkowa – każda składka nie zapłacona w terminie przez zobowiązany podmiot (tutaj płatnika działające w formie spółki kapitałowej)</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nstantia"/>
              </a:rPr>
              <a:t>Odpowiedzialność tylko z tytułu zobowiązań, których termin płatności upływał w czasie pełnienia przez nich obowiązków członków zarządu (poprzednio, które powstały w czasie pełnienia obowiązków) – nowe ma zastosowanie również do dotychczasowych</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onstantia"/>
              </a:rPr>
              <a:t>Chodzi o rzeczywiste (czynne, faktyczne ich wykonywanie), a nie tylko o piastowanie bierne (problem)</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4T12:46:30Z</dcterms:created>
  <dc:creator>astaks</dc:creator>
  <dc:description/>
  <dc:language>en-US</dc:language>
  <cp:lastModifiedBy>SN</cp:lastModifiedBy>
  <dcterms:modified xsi:type="dcterms:W3CDTF">2013-04-22T15:12:25Z</dcterms:modified>
  <cp:revision>11</cp:revision>
  <dc:subject/>
  <dc:title>Odpowiedzialność członków zarządu spółek kapitałowych za zaległości składkowe</dc:title>
</cp:coreProperties>
</file>