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F145-1C48-4621-93D1-2F5DDDAE25D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C062-A3B0-43D7-A455-C000AA0F62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8B01-2C85-450A-9A4B-81A8AAAEDD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DA6-6D34-4964-BD1B-AF0CB9CE48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DE1A-D193-4CE4-A446-6E9C128261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5853-A2AC-4D32-8F92-425ECADDFD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9F5-15E2-4618-9B24-35B21B8BE6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912F-D8BF-4E92-8C46-49B0D30144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C2C8-BCE7-457A-9248-CEDF64E4CF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8BDC-9804-4454-B777-AA76FE85AE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84BA-B021-42FE-B9BF-B7A349C438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54AB-CF47-4806-80D1-C750ED2DBE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F6E7-3120-4FF5-AF72-93F798FC40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759D-ED3B-410F-8880-146CDADE62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DB0D-0543-48BC-B799-0FEF8F3691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3D5-41F5-4468-8BA2-D66DF28946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B892-7E2D-4BDE-89B5-E757B7E0C9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2AA0-6CA3-4C7E-8F94-2E133B2302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9D4-8A50-44FF-9F9F-2CA7A0961B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11A9-3997-4C9C-8B7F-6781946B3D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A923-852F-456B-9D41-E480834AC1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5403-C8BE-4813-9FED-6FB83F0B76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7002-8DD1-48DF-8350-999E1C3E95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4E92-7B2C-4CC1-A85B-329948429A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47C4-D942-4C54-807B-100CB79045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786E-D01F-4572-9888-18F5D25A4D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382-8A11-4969-9BA1-BB2BDABDF3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2C95-5A44-44A8-A81D-658ECAA0196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CEE-8BD7-4696-BA23-A6DC191A32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C737-D4E0-422E-8C56-71D1F14197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C34B-CE4D-41A6-8CC4-38E7037C9C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B6E3-A2CA-4353-9BC3-0D066102D0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83C-CB92-4DEE-B880-3F7746E844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1F2D-370F-4590-B154-862A769D8E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250B-FC3A-47E1-B13D-29E0CE8564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6C88-181A-48A7-8D58-8D49B85950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F751-6DC0-4403-ACE9-F4615A6DF0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8BE-C40B-4BCC-B185-CCFEC6ED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E6B-3EEA-4919-B015-B73385E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461-BE06-4167-AE71-8537A0C4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9F0-A82C-454C-A47A-60C217FD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72F3-CC7D-46CB-A1D6-FA38621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9634-59BF-4AEE-BC0A-DCE6F86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DDDE-5265-4E4F-A6E7-AD2D0761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2DA-E2F0-4957-9104-BB2E84A5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F5C7-8E8A-4125-83A6-B7937260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F480-1423-452C-86D2-8DDE0155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F8A5-4704-4E1E-BCC5-A64C1A1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49D-6F05-4A14-B820-FE2FA12F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B0DF-46DA-41E4-819A-98E3A417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B021-6887-4DD9-A5D1-ED030938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985C-4F33-42AB-9944-1BFF2971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3B1-A651-4CE4-B621-888D576D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B158-0834-4BC8-8CCB-FB92E59E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EECE-8AE0-4DD1-B3AD-0F2D39A5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822A-4CEA-447E-816F-FC50AD39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4224-276B-4ED7-8DF0-AB0599E5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27D4-5EB1-41F6-A1A9-40891EB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77B9-6585-425D-87EE-B05C0F3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63A-139C-4B10-838E-39175517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B737-37BF-4908-9B11-5A8A3EE7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E92D-DB4D-4991-8AEA-F44773A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A7AB-B731-4C8C-BF83-2D21B1C9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20EF-CC60-4171-9DB4-DD106FB1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CC0E-947E-4A25-BD71-421E6082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6FF7-4CB5-4EC8-849F-15FCA25D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1964-0A3D-4937-B8F1-6D5645EF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3E831-1774-4319-AC9B-1F81918E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3B91-0BFF-4FC2-9DC7-D9D80439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D364-FFB4-4032-A202-340421C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D74-7E12-4215-A00F-C2C726C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C3E3-F3DC-4885-ACB1-FF32D3A0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58C9-BB61-4E47-A3CC-9EEA4786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C46D-7BBA-4EA6-AB4F-3AD5568B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5DAB-8BEA-475E-8A52-C53B7BE7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2C31-E9A9-4C37-8D7D-F013E1E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FFE7-468C-4C41-83C2-3B34F924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8C24-2B97-4944-A930-6C27C5F9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A2F3-BF0C-43CA-B622-BBE63687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7C09-672F-4A48-9380-935B0DDE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D76-A014-46CA-98B4-0479D51D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80F-619F-4C54-9008-6E21D81D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F6C-B6B4-4BF2-A1DA-CE4DA9C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2FE-4D98-4FDB-A052-D5650CC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97B-CD18-4594-8E9C-58CCFBE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5D5-30E3-4E6D-9D29-D977AD43928C}" type="slidenum"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38BC-E9CD-47D1-B273-36EF91FECF85}" type="slidenum"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1E5F-73C5-44B9-8AA6-9914D35AB9E4}" type="slidenum"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7199-2151-4942-B0D1-36FF4A63B365}" type="slidenum"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utoShape 2" descr=""/>
          <p:cNvPicPr/>
          <p:nvPr/>
        </p:nvPicPr>
        <p:blipFill>
          <a:blip r:embed="rId1"/>
          <a:stretch/>
        </p:blipFill>
        <p:spPr>
          <a:xfrm>
            <a:off x="542880" y="938160"/>
            <a:ext cx="7772400" cy="2129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dr hab. Krzysztof Ślebz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Zakres podmiotow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półka kapitałowa oznacza spółkę z o.o. oraz akcyjną (art. 4 ks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dpowiedzialność z art. 116 k.s.h. może dotyczyć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- członków zarządu spółek, a także tych spółek w organizac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- pełnomocników spółek w organizacji, a jeżeli pełnomocnik nie został powołany – wspólników spółki w organizacji (gdy wskazane spółki nie posiadają zarządu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- byłych członków zarządu spółki lub byłych pełnomocników lub wspólników spółki w organizac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Członek zarząd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Decydujące jest rzeczywiste posiadanie statusu członka zarządu – za zaległości, które powstały przed wygaśnięciem mandatu (wyrok SN z dnia 2 czerwca 2010 r., I UK 47/10) – (aktualnie, których termin płatności…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Odpowiedzialność może ponosić osoba niewpisana do rejestr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Gdy zarząd został powołany niezgodnie z przepisami, faktyczne pełnienie obowiązków nie przesądza o odpowiedzialności (wyrok z dnia 6 stycznia 2009 r., I UK 123/0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Złożenie mandatu następuje z chwilą dojścia do adresata (art. 61 par. 1 k.c.) – wyrok SN z dnia 12 maja 2011 r., II UK 157/0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Członkiem jest również członek rady nadzorczej spółki akcyjnej delegowany do czasowego wykonywania czasowego wykonywania czynności członka zarządu (art. 383 par 1 k.s.h.) – wyrok SN z dnia 12 maja 2011, II UK 308/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Członek zarządu c.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Członkiem zarządu jest zatem ten kto został prawidłowo powołany, natomiast członkowstwo w organie wygasa w następstwie okoliczności skutkujących ustaniem mandat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Niekoniecznie osoba wpisana do rejestru jest faktycznym członkiem zarządu (jak i odwrotni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Oddalenie wniosku o wpis do rejestru nie może rozstrzygnąć, kto jest członkiem organu (odmowa dokonania wpisu nie oznacza, że dane nie są prawdziwe , ale że nie mogą korzystać z domniemania prawdziwości, na które mogą się powoływać osoby trzeci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Charakter wpisu – deklaratoryjny (sąd nie jest uprawniony  do rozstrzygania, kto jest a kto nie jest członkiem zarządu), w razie wątpliwości powództwo o ustalenie (art. 189 k.p.c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Problem: członek zarządu w areszci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Bezskuteczność egzekucji – zagadnienia ogól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oczątkowo sprawa sporna (formalne stwierdzenie bezskuteczności vs  stanowisko judykatury i piśmiennictwa na gruncie 299 ksh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Ale uchwała NSA (II FPS 6/08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- po przeprowadzeniu postępowania egzekucyjnego, ale dopuszczalny, ale dopuszczalny każdy dowó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- bezskuteczności nie można stwierdzić poza postępowaniem egzekucyjny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- argument dotyczący częściowej egzekucji, która może być stwierdzona tylko w postępowaniu egzekucyjny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Bezskuteczność - definic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ajpełniej pojęcie bezskuteczności jest uregulowane w przepisach o wyjawieniu majątku (art. 71 par 1 upea oraz art. 913 par 1 k.p.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Zajęty w egzekucji majątek dłużnika nie rokuje na zaspokojenie egzekwowanych należności lub jeżeli wierzyciel wskaże, że nie uzyskał w pełni zaspokojen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Zajęty majątek: np. wierzytelności z rachunków bankowych, praw z instrumentów finansowych, papiery wartościowe, ruchomości et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Użycie przez ustawodawcę  określenia „zajęcie nie rokuje zaspokojenia”, wskazuje, że jest to najwcześniejszy moment, w którym organ egzekucyjny może zorientować się w możliwości zaspokojenia wierzyciel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Konsekwencją stanu bezskuteczności, jest zatem możliwość żądania wyjawienia majątk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Bezskuteczność jest zatem stanem po wszczęciu egzekucj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Bezskuteczność w kontekście adm. postęp. egzekucyjneg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Trzy stadia postępowania: poprzedzające wszczęcie, stosowania egzekucji oraz następujące po przeprowadzeniu egezkuc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asadniczo nie jest dopuszczalne stwierdzenie bezskuteczności w post poprzedzającym (sądownictwo administracyjne: wyjątek – gdyby przeciwko spółce była wcześniej przeprowadzona egzekucja, w tym również należności innych niż publicznoprawne i okazała się bezskuteczna, a następnie pojawiłyby się zaległości publicznoprawne) – powielanie byłoby zbędne, I UZP 4/0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Bezskuteczność w kontekście adm. postęp. egzekucyjneg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W trakcie stosowania egzekucji stwierdzenie bezskuteczności jest związane ze stosowanymi środkami egzekucyjnymi (art. 71 par. 1 upe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Wierzyciel ma obowiązek badać jaka jest wysokość należności (art. 27 upae oraz rozp. w sprawie wykonania upae), a także dokonać aktualizacji tytułu wykonawczeg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Dowodem może być protokół sporządzony przez poborcę bezskutecznego zajęcia ruchomości czy praw majątkowych, albo stwierdzający, że dłużnik posiada tylko szczegółowo wskazane ruchomości wolne od egzekucj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Bezskuteczność w kontekście adm. postęp. egzekucyjneg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 trzecim stadiu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Nie ma możliwości stwierdzenia bezskuteczności w przypadku wyegzekwowania należnoś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roblem, czy aktem procesowym stwierdzającym zakończenie egzekucji administracyjnej może być postanowienie o ustaleniu kosztów egzekucyjnych (art. 64 c par. 7 upae, art. 770 k.p.c) – w przypadku egzekucji w adm zależy to od żądan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Bezskuteczność egzekucji c.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Musi być stwierdzona wyłącznie w postępowaniu w sprawie egzekucji należności z tytułu składek na ubezpieczenia społecz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- wszczęcie postępowania nie jest  wymagane w chwili, która umożliwia najwyższe zaspokojenie (wyrok SN z dnia 2 grudnia 2010 r., III UK 146/1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Dopiero wówczas może zostać wydana decyzja o odpowiedzialności członka zarządu (uchwała 7 sędziów SN z dnia 13 maja 2009 r., I UZP 4/09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astosowanie znajduje art. 59 ustawy o postępowaniu egzekucyjnym w administracji i art. 824 k.p.c. – konieczne wydanie postanowienia o umorzeniu postępowania z uwagi na bezskuteczność egzekuc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Nie doszło zatem do przymusowego zaspokojenia wierzyciela i wyczerpano wszystkie możliwe sposoby egzekucj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Bezskuteczność egzekucj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Bezskuteczność egzekucji należy również przyjąć w przypadku:</a:t>
            </a: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postanowienia o umorzeniu postępowania upadłościowego (art. 361 pkt 1 – P.u.i n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oddaleniu wniosku o ogłoszeniu upadłości (art. 13 ust. 1 i 2 – P.u. i n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stwierdzenia w toku egzekucji np. wskutek nakazania dłużnikowi wyjawienia majątk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iezaspokojenia należności składkowych w postępowaniu upadłościowym zakończonym likwidacją spółki (wyrok SN z dnia 19 sierpnia 2009 r., III UK 14/09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częściowego zaspokojenia wierzytelności (wyrok SN z dnia 14 kwietnia 2010, III UK 83/09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awet gdy brak zaspokojenia na etapie postępowania egzekucyjnego związany jest z biernością wierzyciela publicznoprawnego (wyrok SN z dnia 12 maja 2011 r., II UK 308/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Ordynacja podatkow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Constantia"/>
              </a:rPr>
              <a:t>Art. 116.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 § 1. Za zaległości podatkowe spółki z ograniczoną odpowiedzialnością, spółki z ograniczoną odpowiedzialnością w organizacji, spółki akcyjnej lub spółki akcyjnej w organizacji odpowiadają solidarnie całym swoim majątkiem członkowie jej zarządu, jeżeli egzekucja z majątku spółki okazała się w całości lub w części bezskuteczna, a członek zarządu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nie wykazał, że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we właściwym czasie zgłoszono wniosek o ogłoszenie upadłości lub wszczęto postępowanie zapobiegające ogłoszeniu upadłości (postępowanie układowe) albo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niezgłoszenie wniosku o ogłoszenie upadłości lub niewszczęcie postępowania zapobiegającego ogłoszeniu upadłości (postępowania układowego) nastąpiło bez jego winy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nie wskazuje mienia spółki, z którego egzekucja umożliwi zaspokojenie zaległości podatkowych spółki w znacznej części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§ 2. Odpowiedzialność członków zarządu obejmuje zaległości podatkowe z tytułu zobowiązań, których termin płatności upływał w czasie pełnienia przez nich obowiązków członka zarządu, oraz zaległości wymienione w art. 52 powstałe w czasie pełnienia obowiązków członka zarządu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§ 3. W przypadku gdy spółka z ograniczoną odpowiedzialnością w organizacji lub spółka akcyjna w organizacji nie posiada zarządu, za zaległości podatkowe spółki odpowiada jej pełnomocnik albo odpowiadają wspólnicy, jeżeli pełnomocnik nie został powołany. Przepisy § 1 i 2 stosuje się odpowiednio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nstantia"/>
              </a:rPr>
              <a:t>§ 4. Przepisy § 1-3 stosuje się również do byłego członka zarządu oraz byłego pełnomocnika lub wspólnika spółki w organizacji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4617b"/>
                </a:solidFill>
                <a:latin typeface="Calibri"/>
              </a:rPr>
              <a:t>Zwolnienie się od odpowiedzialności</a:t>
            </a:r>
            <a:br>
              <a:rPr sz="3600"/>
            </a:br>
            <a:r>
              <a:rPr b="0" lang="pl-PL" sz="3600" spc="-1" strike="noStrike">
                <a:solidFill>
                  <a:srgbClr val="04617b"/>
                </a:solidFill>
                <a:latin typeface="Calibri"/>
              </a:rPr>
              <a:t>przesłanka pierws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We właściwym czasie złożono wniosek o ogłoszenie upadłości lub wszczęto postępowania zapobiegające upadłości (postępowanie układowe) albo niezgłoszenie wniosku nastąpiło bez jego win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Istotny sam fakt złożenia wniosku we właściwym czasie – wniosek ten musi być jednak rozpoznany (nie chodzi zatem o samo złożeni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Nie ma znaczenia kto złożył wniosek – byleby w termin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o trzecie musi być złożony we właściwym czas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Odpowiedzialność nie może mieć miejsca, jeżeli przesłanki do złożenia wniosku zaistniały, gdy nie miał on już wpływu na podjęcie kroków zmierzających do ogłoszenia upadłośc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4617b"/>
                </a:solidFill>
                <a:latin typeface="Calibri"/>
              </a:rPr>
              <a:t>Zwolnienie się od odpowiedzialnośc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Konieczność wykazania należytej staranności w działaniach zmierzających do wszczęcia postępowan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ie jest wystarczając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- samo wystąpienie o ogłoszenie upadłości (wyrok SN z dnia 18 kwietnia 2007, I UK 349/06; z dnia 10 grudnia 2009 r., III UK 51/09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(a zatem nie chodzi o złożenie, ale o zgłoszeni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- Brak po stronie członka zarządu wiedzy o kondycji finansowej nie jest okolicznością świadczącą o tym, że niezłożenie wniosku o ogłoszenie upadłości lub niewszczęcie postępowania układowego nastąpiło bez jego winy (wyrok SN z dnia 19 lutyego 2008 r., II UK 100/0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- oczekiwanie na pomoc ze strony udziałowców (wyrok z dnia 10 lutego 2011 r., II UK 265/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4617b"/>
                </a:solidFill>
                <a:latin typeface="Calibri"/>
              </a:rPr>
              <a:t>Zwolnienie od odpowiedzialności </a:t>
            </a:r>
            <a:br>
              <a:rPr sz="3200"/>
            </a:br>
            <a:r>
              <a:rPr b="0" lang="pl-PL" sz="3200" spc="-1" strike="noStrike">
                <a:solidFill>
                  <a:srgbClr val="04617b"/>
                </a:solidFill>
                <a:latin typeface="Calibri"/>
              </a:rPr>
              <a:t>c.d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iezgłoszenie wniosku, ale rezygnacja z członkostwa w zarządzi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obowiązek zgłoszenia wniosku, nie może być wyłączony uchwałami zgromadzenia wspólników wyrażającymi sprzeciw (wyrok SN z 24 sierpnia 2009, I UK 75/09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przekonanie członka zarządu o niemożliwości zgłoszenia wniosku o upadłość lub wszczęcia postępowania układowego (wyrok SN z dnia 27 maja 2009, II UK 373/0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Wyjątkowo może dojść do zwolnienia jeśli z okoliczności wynika podział obowiązków pomiędzy członkami zarządu (wyrok SN z 15 września 2009, II UK 406/0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ale świadome oddanie zarządzania osobie spoza zarządu nie zwalnia od odpowiedzialności (wyrok SN z dnia 20 stycznia 2011 r., II UK 174/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brak możliwości wyłączenia w przypadku choroby, ciąży i urlopu – w przypadku gdy zarząd był jednoosobowy (wyrok z dnia 2 października 2008 r., I UK 39/0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yłącznie odpowiedzialnośc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pływ na wyłącznie może mieć stan zdrowia psychicznego (wyrok SN z 4 lutego 2011 r., II UK 225/10) oraz poczytalności (wyrok SN z dnia 6 grudnia 2010, II UK 136/1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„</a:t>
            </a: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łaściwy cza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Właściwy czas” nie może być utożsamiany z przepisami prawa upadłościowego, bo przepisy Ordynacji do nich nie odsyłają (wyrok SN z dnia 22 czerwca 2006 r.; z 1 września 2009 r., I UK 95/09) – aczkolwiek regulacje te powinny być miarodaj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ie może być wczesniejszy niż upływ terminów w prawie upadłościowym, ale może być późniejszy (wyrok SN z dnia 19 marca 2010 r., II UK 258/09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Elastycznie w zależności od konkretnego przypadku (24 września 2008, II CSK 142/0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ie jest właściwym czasem ogłoszenie gdy spółka jest już bankrutem (I UK 324/0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ie ma znaczenia kto zgłosił wniosek (wyrok SN, III UK 89/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„</a:t>
            </a: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łaściwy cza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Zgłoszenie we właściwym czasie wniosku o wszczęcie postępowania zapobiegającego upadłości (problem definicyjn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- czy jest to postępowanie układowe sensu stricto czy wszczęcie każdego postępowania, którego celem jest zapobieżenie upadłości (np. postępowanie restrukturyzacyjn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- w orzecznictwie wyrażono pogląd, że wszczęcie postępowania układowego stanowi przesłankę zwalniającą członka zarządu, pod warunkiem wszczęcia w takim czasie, że zaspokojenie przez spółkę należności z tytułu składek pozostaje realne. Ocena powinna być dokonywan ex ante (wyrok SN z 8 stycznia 2008 r., I UK 172/07 i z 5 maja 2010 r., II UK 351/09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- jeżeli sytuacja nie pozwalała na pokrycie należności, to dłużnik powinien rozważyć ubieganie się o odroczenie terminu płatności (wyrok z 12 maja 2011 r., II UK 308/10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- nie złożył bo i tak było za późno (II FSK 587/10, z 25 października 2011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nstantia"/>
              </a:rPr>
              <a:t>- wniosek o upadłość złożony przez inny podmiot przed powołaniem do pełnienia funkcji ( I FSK 637/10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„</a:t>
            </a: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Właściwy czas”</a:t>
            </a:r>
            <a:br>
              <a:rPr sz="4500"/>
            </a:b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wniosk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Chodzi o ograniczenie do niezbędnego minimum okresu, w którym dłużnik może rozporządzać swoim majątkiem w sposób odmienny, niż czyniłby to syndyk po ogłoszeniu upadłośc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Nie spełnia tego warunku podjęcie czynności w warunkach niweczących cały sens postępowania upadłościoweg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Odpowiedzialność nie może mieć miejsca, jeżeli zaistniały przesłanki gdy członek zarządu nie miał już wpływu na podjęcie kroków zmierzających do ogłoszenia upadłośc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Nie z jego winy” należy rozumieć w ten sposób, że jedynie gdy członek zarządu miał wpływ na dokonanie we właściwym czasie  zgłoszenia wniosku o ogłoszenie upadłości, a nie nastąpiło to w tym czasie, od odpowiedzialności może się wyłączyć jeśli wykaże, że nie nastąpiło to z jego wi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Ocena sytuacji majątkowej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Prawo upadłościowe i naprawc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Art. 10 = upadłość w stosunku do dłużnika, który stał się niewypłacaln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Art. 21 = dłużnik w terminie dwóch tygodni od dnia w którym wystąpiła podstawa do ogłoszenia upadłości, obowiązany jest zgłosić wniose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Art. 11 – Dłużnik jest niewypłacalny, jeśli: nie wykonuje swoich zobowiązań (ust. 1) albo gdy jego zobowiązania przekroczą wartość jego majątku (ust. 2), nawet wówczas gdy na bieżąco wykonuje zobowiąza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Dokumenty księgowe stanowiące podstawę dla opin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Aktualna wycena majątku trwałego na dzień zgłoszenia wniosku o upadłość (aby była najbardziej wiarygodna powinien to zrobić rzeczoznawca majątkowy): sam zarząd nie jest w stanie wiarygodnie ocenić (np. wycena budynków, samochodów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Z ustawy o rach. wynika, że wartość składników ujmuje się historycznie (wg ceny nabycia art. 28 ust. 1 pkt 1) – ma to znaczenie dla weryfikacji danych w sprawozdaniu finansowym przez biegłeg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Sprawozdanie finansowe (bilans, rachunek zysków i strat plus informacja dodatkowa i wprowadzenie do sprawozdania – wynika z art. 45 ust. 2 ustawy o rach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Zestawienie obrotów i sald kont syntetycznych i analitycznych (na podstawie tego zestawienia sporządza się sprawozdanie finansowe – kwestia wiarygodności danych w bilansi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Dokumenty księgowe stanowiące podstawę dla opin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Oświadczenia o spłatach wierzytelności lub innych długów dokonanych w terminie 6 miesięcy przed dniem złożenia wnios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Spis podmiotów zobowiązanych majątkowo wobec dłużnika (wraz ze wskazaniem wierzytelności, daty powstania i terminów zapłaty) – chodzi o weryfikację wierzytelności, np. przedawniony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Wykaz tytułów egzekucyjnych oraz tytułów wykonawczych przeciwko dłużnikowi (może świadczyć, że część majątku jest zajęta albo że trwale zaprzestał spła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Informacje o postępowaniach dotyczących ustanowienia dla majątku dłużnika hipotek, zastawó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Właściwie wszystko, to co wynika z art. 23 pr. upadłościoweg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Ustawa o s.u.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nstantia"/>
              </a:rPr>
              <a:t>Art. 31.</a:t>
            </a:r>
            <a:r>
              <a:rPr b="0" lang="pl-PL" sz="1600" spc="-1" strike="noStrike">
                <a:solidFill>
                  <a:srgbClr val="000000"/>
                </a:solidFill>
                <a:latin typeface="Constantia"/>
              </a:rPr>
              <a:t> Do należności z tytułu składek stosuje się odpowiednio: art. 12, art. 26, art. 29 § 1 i 2, art. 33, art. 33a, art. 33b, art. 51 § 1, art. 55, art. 59 § 1 pkt 1, 3, 4, 8 i 9, art. 60 § 1, art. 61 § 1, art. 62 § 1, 3-5, art. 72 § 1 pkt 1 i 4 i § 2, art. 73 § 1 pkt 1 i 5, art. 77b § 1 i 2, art. 91, art. 93, art. 93a-93c, art. 93e, art. 94, art. 97 § 1, art. 98 § 1 i 2 pkt 1, 2, 5 i 7, art. 100, art. 101, art. 105 § 1 i 2, art. 106 § 1 i 2, art. 107 § 1, 1a, i 2 pkt 2 i 4, art. 108 § 1 i 4, art. 110 § 1, § 2 pkt 2, § 3, art. 111 § 1-4 i 5 pkt 1, art. 112, art. 113, art. 114, art. 115, art. 116, art. 116a, art. 117, art. 118 § 1 i 2 oraz art. 119 ustawy z dnia 29 sierpnia 1997 r. - Ordynacja podatkow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nstantia"/>
              </a:rPr>
              <a:t>Art. 32.</a:t>
            </a:r>
            <a:r>
              <a:rPr b="0" lang="pl-PL" sz="1600" spc="-1" strike="noStrike">
                <a:solidFill>
                  <a:srgbClr val="000000"/>
                </a:solidFill>
                <a:latin typeface="Constantia"/>
              </a:rPr>
              <a:t> Do składek na Fundusz Pracy, Fundusz Gwarantowanych Świadczeń Pracowniczych i Fundusz Emerytur Pomostowych oraz na ubezpieczenie zdrowotne w zakresie: ich poboru, egzekucji, wymierzania odsetek za zwłokę i dodatkowej opłaty, przepisów karnych, dokonywania zabezpieczeń na wszystkich nieruchomościach, ruchomościach i prawach zbywalnych dłużnika, odpowiedzialności osób trzecich i spadkobierców oraz stosowania ulg i umorzeń stosuje się odpowiednio przepisy dotyczące składek na ubezpieczenia społeczn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4617b"/>
                </a:solidFill>
                <a:latin typeface="Calibri"/>
              </a:rPr>
              <a:t>Badanie przesłanek – zobowiązania przekraczają wartość majątk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ojęcie zobowiązań – uregulowane w art. 3 pkt 20 ustawy o rachunkowości: świadczenie o wiarygodnie określonej wartości, które spowodują wykorzystanie już posiadanych lub przyszłych aktywów jednost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obowiązania ujmowane są w bilansie: pasywa, poz. B „Zobowiązania i rezerwy na zobowiązania”; rezerwy na zobowiązania są to też zobowiązania (art. 3 pkt 21 u. o rach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4617b"/>
                </a:solidFill>
                <a:latin typeface="Calibri"/>
              </a:rPr>
              <a:t>Pojęcie majątku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Brak definicji legalne majątku – miarodajny jest art. 3 pkt 12 u. o rach. definujący aktyw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Aktywa = majątek: kontrolowane przez jednostkę zasoby majątkowe o wiarygodnie określonej wartości, które spowodowują wpływ  do jednostki korzyści ekonomiczny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Aktywa w bilansie ujęte w poz. A (aktywa trwałe – mniej zbywalne) i B (aktywa obrotowe – bardziej zbywal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Zobowiązania przekraczają wartość mająt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Zawsze kiedy zobowiązania (poz. B pasywów) przewyższają wartość aktywów razem, to kapitał własny (poz. A w pasywach) jest ujem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ówczas spełniony jest warunek z art. 11 ust. 2 pr. upadłościowe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Kapitał własny = aktywa netto (zostały zdefiniowane w art. 3 pkt 29) są to aktywa jednostki pomniejszone o zobowiąza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4617b"/>
                </a:solidFill>
                <a:latin typeface="Calibri"/>
              </a:rPr>
              <a:t>Weryfikacja danych ujętych w sprawozdaniu finansowym przez biegłego w postępowaniu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prawozdanie jest sporządzane na dzień złożenia wniosku (14 dni wcześniej – okres na złożenie wniosku) – zazwyczaj na koniec miesią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ycena składników poszczególnych jest dokonywana zgodnie z art. 28 (wycena na dzień bilansowy), a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 postępowaniu konieczność weryfikacji (urealnienia) bo dane mogą być wykazane w sposób nieprawidłow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Np. pozycja w należnościach (aktywa, B. II, Należności krótkoterminowe) – wartości mogą być zaważane; wykazywanie należności przedawnionych lub niespłaconych powyżej roku (mała szanse że zostaną zapłaco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eryfikacja c.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Przykład zapasy (poz. Aktywa B, I, Zapas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Zapasy mogą być w magazynie nierotujące (przeterminowane, zepsute); niespełniają definicji aktywów bo nie przyniosą korzyści ekonomicznych; wówczas pomniejszają wyni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Ale: możliwe jest i podwyższenie wartości majątku: np. na podstawie wyceny majątku, w szczególności majątku trwałego (np. budynk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Biegły w postępowaniu dokonuje weryfikacji danych ujętych w sprawozdaniu, co może wpływa na spełnienie przesłanki złożenia wniosku „we właściwym czasie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Każda weryfikacja musi być uzasadniona i mieć odzwierciedlenie w rzeczywistośc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4617b"/>
                </a:solidFill>
                <a:latin typeface="Calibri"/>
              </a:rPr>
              <a:t>Związek post. upadłościowego z post. składkowy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Może dojść do sytuacji, że wniosek w postępowaniu upadłościowym zostanie oddalony, lec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Nie będzie możliwe pociągnięcie do odpowiedzialności osobistej, ale równie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Dojdzie do wszczęcia postępowania upadłościowego, a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Wniosek o upadłość nie będzie złożony we właściwym czas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Druga przesłan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Nie płaci wymaganych zobowiązań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Należy wziąć strukturę wiekową zobowiązań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Jeżeli są zobowiązania przeterminowane, toczą się postępowania administracyjnej (podatkowe), inne, to można przyjąć, że dłużnik nie wykonuje swoich wymagalnych zobowiązań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Nie jest istotny rozmiar zaległośc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Druga przesłan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Brak możliwości spłaty zobowiązań może wynikać ze wskaźników płynności finansowej – służą do oceny zdolności jednostki w zakresie terminowego regulowania zobowiązań bieżący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skaźniki poniżej poziomu pożądanego w analizie ekonomicznej wskazują na utratę zdolności jednostki do terminowego regulowania zobowiązań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skaźniki płynnośc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skaźnik płynności pierwszego stopnia (aktywa ogółem/zobowiązania krótkoterminowe) – najistotniejszy ponieważ wskazuje na krótkie odstępy czasu i możliwość regulacji zobowiązań (od 1,5 do 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skaźnik płynności drugiego stopnia (aktywa obrotowe ogółem/zobowiązania krótkoterminowe) – od 0,9 do 1,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skaźnik płynności trzeciego stopnia (środki pieniężne i inne aktywa pieniężne / zobowiązania krótkoterminowe) – od 0,1 do 0,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Charakter odpowiedzialnośc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dpowiedzialność składkowa osób trzecic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dpowiedzialność solidarna na zasadach cywilnoprawnych całym majątkiem solidarnie ze spółką (art. 91 Ordynacji w związku z art. 31 usu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De facto mamy do czynienia z podwójną odpowiedzialnością solidarną: osób trzecich ze spółką oraz osób trzecich względem sieb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Brak możliwości odpowiedzialności następców prawnych osób trzecich (NSA z 24 czerwca 2003, I SA/Łd 1528/02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Charakter odpowiedzialnośc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Akcesoryjny: wygaśnięcie zobowiązania wobec spółki powoduje wygaśnięcie zobowiązania wobec osoby trzecie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roblem: utrata bytu prawnego przez spółkę – nie powoduje wygaśnięcia zobowiązania składkowego (uchwała 7 sędziów SN z dnia 15 października 2009 r., I UZP 3/09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Powstanie odpowiedzialnośc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Nie jest wymagane uprzednie wydanie przez organ ubezpieczeń społecznych decyzji ustalającej zobowiązanie płatnika skład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Art. 31 usus nie odsyła do odpowiedniego stosowania art. 108 par. 2 (wyrok SN z dnia 30 stycznia 2008 r., I UK 187/07 i z dnia 25 lutego 2010 r., II UK 226/09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§ 2. Postępowanie w sprawie odpowiedzialności podatkowej osoby trzeciej nie może zostać wszczęte przed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upływem terminu płatności ustalonego zobowiązani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dniem doręczenia decyzji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określającej wysokość zobowiązania podatkoweg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b)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o odpowiedzialności podatkowej płatnika lub inkasenta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c)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w sprawie zwrotu zaliczki naliczonego podatku od towarów i usług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d)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określającej wysokość należnych odsetek za zwłokę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3)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nstantia"/>
              </a:rPr>
              <a:t>dniem wszczęcia postępowania egzekucyjnego - w przypadku, o którym mowa w § 3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nstantia"/>
              </a:rPr>
              <a:t>Ale: konieczność wydania decyzji wobec osoby trzeciej, która ma charakter konstytutywny (wyrok SN z dnia 23 października 2006 r., I UK 126/06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Przesłanki odpowiedzialnośc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Członek zarządu odpowiada za zaległości składkowe, które powstały w czasie pełnienia przez niego w czasie pełnienie funkcji w zarządzie, jeż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Egzekucja z majątku spółki okazała się w całości lub w części bezskuteczna, chyba że wykaże, ż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Zgłoszono we właściwym czasie wniosek o ogłoszenie upadłości lub o wszczęcie postępowania zapobiegającego upadłości (układowego) bądź ż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Niezgłoszenie tych wniosków we właściwym czasie nastąpiło bez jego winy, a także gd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nstantia"/>
              </a:rPr>
              <a:t>Wskaże mienie spółki, z którego egzekucja umożliwi zaspokojenie zaległości składkow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Ciężar dowod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rgan: przesłanki odpowiedzialności osób zobowiązanyc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soby zainteresowane: przesłanki zwalniające z odpowiedzialności (wyrok SN z dnia 16 lipca 2008 r., I UK 126/0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Zaległość składkow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Zaległość składkowa – każda składka nie zapłacona w terminie przez zobowiązany podmiot (tutaj płatnika działające w formie spółki kapitałowej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Odpowiedzialność tylko z tytułu zobowiązań, których termin płatności upływał w czasie pełnienia przez nich obowiązków członków zarządu (poprzednio, które powstały w czasie pełnienia obowiązków) – nowe ma zastosowanie również do dotychczasowy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Chodzi o rzeczywiste (czynne, faktyczne ich wykonywanie), a nie tylko o piastowanie bierne (proble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2:46:30Z</dcterms:created>
  <dc:creator>astaks</dc:creator>
  <dc:description/>
  <dc:language>en-US</dc:language>
  <cp:lastModifiedBy>SN</cp:lastModifiedBy>
  <dcterms:modified xsi:type="dcterms:W3CDTF">2013-03-11T07:55:38Z</dcterms:modified>
  <cp:revision>20</cp:revision>
  <dc:subject/>
  <dc:title>Odpowiedzialność członków zarządu spółek kapitałowych za zaległości składkowe</dc:title>
</cp:coreProperties>
</file>