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A571-FE28-47BD-A27C-FC44605E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73C6-FD2D-40C5-8030-72ACDE0D50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6C8C-4632-411C-9E91-3C66C9AE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375-D9DE-4509-A474-74A4C7BC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32F-93ED-4A7B-AF92-1FD946EC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848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240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848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240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FDFA-FA38-48C5-945F-54995AC9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7F8B-CB4A-4075-BA78-F6E90CF6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8E3B-CFE6-4EA1-B938-C9A7338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C761-60E8-4BFD-85A8-4D176705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B3E6-808F-4EFF-BDCF-2BFD4392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1AFB-1A71-4A22-AA30-9EECF67A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5943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A09D-07EE-4E3E-BE60-3AB43A6B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EDC9-E7D9-4F50-B95C-73595416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0D4-8B64-4542-B451-83D22DAF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972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C583-7EB7-41D5-9CA3-845B1CC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C2E2-3AC6-47DB-85EF-39AE2474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6786-AE53-415B-A9EC-AA366C8B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972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D48E-C4FC-4E02-9682-7710DE36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3848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2400" y="144756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3848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2400" y="3875400"/>
            <a:ext cx="26985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C695-D1BF-41FC-AAE5-660A055D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902-A729-4B08-9C67-EBDBD944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3B5-E671-4629-AD29-B291BA02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E4F-28AB-4DDD-B871-588B2D3B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5943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A297-CFB6-486D-959E-8A8A99D5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C05-FA14-4E69-9C2A-475C78C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CA7-DA28-4B9D-9FFE-B274132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8381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256-CA1B-42A4-8D59-52935AC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11e"/>
            </a:gs>
            <a:gs pos="100000">
              <a:srgbClr val="a7024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1044-EE07-4B75-91B3-B8D600E6E1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11e"/>
            </a:gs>
            <a:gs pos="100000">
              <a:srgbClr val="a7024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HMCTS_REV"/>
          <p:cNvPicPr/>
          <p:nvPr/>
        </p:nvPicPr>
        <p:blipFill>
          <a:blip r:embed="rId2"/>
          <a:stretch/>
        </p:blipFill>
        <p:spPr>
          <a:xfrm>
            <a:off x="395280" y="404640"/>
            <a:ext cx="2448000" cy="725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805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A49A-59C1-41A1-91AB-7AEB4B3DF2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1665000"/>
            <a:ext cx="7431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8000" spc="-1" strike="noStrike">
                <a:solidFill>
                  <a:srgbClr val="ffffff"/>
                </a:solidFill>
                <a:latin typeface="Arial"/>
              </a:rPr>
              <a:t>Podstawowe Wartości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920" y="4220640"/>
            <a:ext cx="74311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ezentowane przez Manjit Birak, Kierownika ds. Biznesu i Zmian, HMCTS Londy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844800" y="28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Rozwiązywanie Konflikt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spotkaniach w cztery oczy z udziałem Kierownika Liniowego w roli mediato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Formalna Procedura Składania Ska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a pośrednictwem niezależnych Usług Mediacyjn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Sądownictwo – Sędziowie Okręgow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rak formalnych wartości podstawowy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osiadają zestaw podstawowych kompetencji określających ich umiejętnoś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miejętności intelektualne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 przyswajanie i analizowanie informacj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            - odpowiednia wiedza z zakresu prawa i jego zasad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awość i niezależność umysłow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ozsądny osą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cyzyjnoś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biektywiz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dolność i gotowość do poszerzania wiedzy i rozwoju zawodow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godność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ędziowie pracujący na niepełny etat poddawani ocenie raz w roku pod względem kluczowych kompeten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rzystanie z częściowej samooceny i oceny przez sędziego pracującego na pełny et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rak formalnych ocen dla sędziów pracujących na pełny et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iązywanie Konfliktów – Sądownictw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381880" cy="26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Międzyosobowe konflikty rozwiązywane są w drodze mediacji przez Wyznaczonego Sędziego Okręgowego lub Starszego Sędziwego, a jeśli nie zostaną rozwiązane, kierowane są do Lorda Najwyższego Sędziego (ang. Lord Chief Justice), jednakże nie ma formalnej struktury zarządzania dla sędziów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121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Personel Administracyjn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ybierani są na stanowiska na podstawie kryteriów merytorycznych, w drodze przejrzystego i otwartego konkur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czekuje się od nich pełnienia powierzonej roli z oddaniem i zaangażowaniem Służbie Cywilnej i jej podstawowym wartości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844800" y="28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Stanowi część warunków pracy każdego Urzędnika Państwow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Określa, czego oczekuje się od Urzędnika Państwowe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otyczy naszych wartości i ma zastosowanie do wszystkich Urzędników Państwowych w Ministerstwie Sprawiedliwości oraz innych departamentach rządowy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04920" y="380880"/>
            <a:ext cx="801216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4000" spc="-1" strike="noStrike">
                <a:solidFill>
                  <a:srgbClr val="ffffff"/>
                </a:solidFill>
                <a:latin typeface="Arial"/>
              </a:rPr>
              <a:t>Kodeks Służby Cywilnej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9944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Kodeks Służby Cywilnej nakreśla Podstawowe Wartości Służby Cywilnej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95280" y="2205000"/>
            <a:ext cx="5329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czciwoś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awoś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Bezstronnoś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biektywi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184428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Polityka Postępowania opisuje standardy zachowania, których oczekuje się od poszczególnych urzędników państwowych w kontekście wspomnianych czterech wartoś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939080" cy="10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Co one oznaczają………….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447920"/>
            <a:ext cx="838188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uczciwość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ycie prawdomównym i otwart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awość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dkładanie obowiązków wynikających ze służby publicznej nad interesy osobis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biektywiz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ierowanie się przy wydawaniu rekomendacji i decyzji dokładną analizą dowod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bezstronność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ziałanie wyłącznie według kryteriów danej sprawy i wypełnianie swoich obowiązków w profesjonalny sposób bez względu na ukierunkowanie polityczne danego rząd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04920" y="1447920"/>
            <a:ext cx="838188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Gwarantują osiągnięcie najwyższych możliwych standardów w obszarze Służby Cywilnej. To z kolei pomaga zyskać i utrzymywać zaufanie ministrów, parlamentu, opinii publicznej i petent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59436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Zgodność jest zapewnio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5801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Przez osoby podpisujące umowy i zaznajamiane z polityką postępowan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Szkolenia (niektóre obowiązkowe) z zakresu zabezpieczenia informacji, świadomości nadużyć finansowych, równości i różnorodności it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Sprawdzanie jakości danych w naszych procesach i procedur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Każdy Kierownik Sądu musi podpisać kwartalne oświadczenie o kontroli wewnętrznej jako potwierdzenie przeprowadzenia kontroli skierowane do Wyższych Kierownikó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Ankieta badająca zaangażowanie personel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981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eżeli od urzędnika państwowego wymagane jest działanie niezgodne z wartościami Kodeksu lub jeśli taki pracownik wie, że inny pracownik państwowy działa w sprzeczności z tymi wartościami, może on zgłosić problem w ramach poufnej Procedury Zgłaszania Nieprawidłowoś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3:07:40Z</dcterms:created>
  <dc:creator/>
  <dc:description/>
  <dc:language>en-US</dc:language>
  <cp:lastModifiedBy>User</cp:lastModifiedBy>
  <cp:lastPrinted>2006-02-09T16:57:42Z</cp:lastPrinted>
  <dcterms:modified xsi:type="dcterms:W3CDTF">2013-01-11T13:03:23Z</dcterms:modified>
  <cp:revision>149</cp:revision>
  <dc:subject/>
  <dc:title> Podstawowe Wartości</dc:title>
</cp:coreProperties>
</file>