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B16C-647F-4099-A5A2-8186C426491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ADA0-22D4-4850-82BA-80CD54A8F78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2C3C-B390-4EC2-96EF-28356E43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1C8-1DD3-4004-B153-CCD27ABC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029-B27E-4F1F-B43E-E62B1E18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8E90-3D69-419F-8357-9C9D5847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F886-C1CC-4813-A3FF-28F9DB3F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E5B2-F140-4C10-8365-D34F8478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2E7D-E8BC-44F1-A900-DA42480B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FEAF-8212-4C02-9046-044324D3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86C2-EB22-4E20-A23F-CEC7DA69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CC45-D4F1-4924-BA37-77EE0EAD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D0A5-7F86-4D08-AF82-5B5AC4C1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824-077D-4608-880B-E60D2E9A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C2FB-0542-49C8-A130-7A6A80D4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7A03-9705-4D27-9EA9-9A5E1445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FF93-84B9-4B5E-B25D-74AA8F59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3076-D820-4C10-9DC1-98865C26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F8FD-56CC-4DA3-923E-F9E682FD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C9B1-7CDC-40D4-B1AE-04B1F52E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46655-E807-4B5B-986B-3FBAC3DF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95A09-F0FC-4DCF-A371-E122CAF0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17484-16DF-4C58-B217-EC9C1866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6B8A0-3949-4C9B-A8C2-190697DA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CC1-A3CA-46A8-8851-55A883B0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F6D89-B7A9-4533-BBD4-A2C96152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29D10-9069-46B0-B1BB-47E5F984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C2FC1-9E00-4023-9FB7-3601DCDF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E3EC6-FF06-40A0-AF8D-91D8672A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3AB37-78F9-442A-81F0-E9D67654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C2C7B-E166-4ED5-B581-52454C68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12064-37E1-4B4B-A3B0-5DF02611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963-5866-4BF6-A3FE-130BE38B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FF8-1489-4530-9B74-CFCA8790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6CCD-9D30-4239-B67F-7ED42108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566-2FBB-4288-88CD-C885DD1C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A998-B933-422D-A62D-DF225965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C501-211D-48F3-8D6F-13D91FFE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C18C-7C01-4AAD-B5E5-17128C4A8D9B}" type="datetime">
              <a:rPr b="0" lang="pl-PL" sz="1200" spc="-1" strike="noStrike">
                <a:solidFill>
                  <a:srgbClr val="1f497d"/>
                </a:solidFill>
                <a:latin typeface="Arial"/>
              </a:rPr>
              <a:t>28.07.26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D261-E482-400F-AC3C-B9A3969E27C8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6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/>
            <a:ahLst/>
            <a:rect l="l" t="t" r="r" b="b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cubicBezTo>
                  <a:pt x="8598502" y="0"/>
                  <a:pt x="8686800" y="88298"/>
                  <a:pt x="8686800" y="197218"/>
                </a:cubicBezTo>
                <a:lnTo>
                  <a:pt x="8686800" y="1828800"/>
                </a:lnTo>
                <a:lnTo>
                  <a:pt x="8686800" y="1828800"/>
                </a:lnTo>
                <a:lnTo>
                  <a:pt x="0" y="1828800"/>
                </a:lnTo>
                <a:lnTo>
                  <a:pt x="0" y="1828800"/>
                </a:lnTo>
                <a:lnTo>
                  <a:pt x="0" y="197218"/>
                </a:lnTo>
                <a:cubicBezTo>
                  <a:pt x="0" y="88298"/>
                  <a:pt x="88298" y="0"/>
                  <a:pt x="197218" y="0"/>
                </a:cubicBez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4" name="Round Same Side Corner Rectangle 7"/>
          <p:cNvSpPr/>
          <p:nvPr/>
        </p:nvSpPr>
        <p:spPr>
          <a:xfrm>
            <a:off x="228600" y="228600"/>
            <a:ext cx="8686800" cy="4419720"/>
          </a:xfrm>
          <a:custGeom>
            <a:avLst/>
            <a:gdLst/>
            <a:ahLst/>
            <a:rect l="l" t="t" r="r" b="b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cubicBezTo>
                  <a:pt x="8630980" y="0"/>
                  <a:pt x="8686800" y="55820"/>
                  <a:pt x="8686800" y="124677"/>
                </a:cubicBezTo>
                <a:lnTo>
                  <a:pt x="8686800" y="4419600"/>
                </a:lnTo>
                <a:lnTo>
                  <a:pt x="8686800" y="4419600"/>
                </a:lnTo>
                <a:lnTo>
                  <a:pt x="0" y="4419600"/>
                </a:lnTo>
                <a:lnTo>
                  <a:pt x="0" y="4419600"/>
                </a:lnTo>
                <a:lnTo>
                  <a:pt x="0" y="124677"/>
                </a:lnTo>
                <a:cubicBezTo>
                  <a:pt x="0" y="55820"/>
                  <a:pt x="55820" y="0"/>
                  <a:pt x="124677" y="0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894B-BEFA-4100-AAC0-11D972E8B516}" type="datetime">
              <a:rPr b="0" lang="pl-PL" sz="1200" spc="-1" strike="noStrike">
                <a:solidFill>
                  <a:srgbClr val="1f497d"/>
                </a:solidFill>
                <a:latin typeface="Arial"/>
              </a:rPr>
              <a:t>28.07.26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86D3-299C-4734-9355-394E4712E141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E7BF-CD62-4BFA-8273-6ABF8AB6D585}" type="datetime">
              <a:rPr b="0" lang="pl-PL" sz="1200" spc="-1" strike="noStrike">
                <a:solidFill>
                  <a:srgbClr val="1f497d"/>
                </a:solidFill>
                <a:latin typeface="Arial"/>
              </a:rPr>
              <a:t>28.07.26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B53B-B9E1-4E1A-B791-005B888D26C8}" type="slidenum">
              <a:rPr b="0" lang="pl-PL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6598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PROJEC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rostokąt 5"/>
          <p:cNvSpPr/>
          <p:nvPr/>
        </p:nvSpPr>
        <p:spPr>
          <a:xfrm>
            <a:off x="4284720" y="1989000"/>
            <a:ext cx="485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SUPRANATIONAL COMPONENT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eminar I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arsaw, 10-12.12.2012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grpSp>
        <p:nvGrpSpPr>
          <p:cNvPr id="136" name="Group 34"/>
          <p:cNvGrpSpPr/>
          <p:nvPr/>
        </p:nvGrpSpPr>
        <p:grpSpPr>
          <a:xfrm>
            <a:off x="250920" y="5516640"/>
            <a:ext cx="8713800" cy="792000"/>
            <a:chOff x="250920" y="5516640"/>
            <a:chExt cx="8713800" cy="792000"/>
          </a:xfrm>
        </p:grpSpPr>
        <p:pic>
          <p:nvPicPr>
            <p:cNvPr id="137" name="Picture 35" descr="znak_kapital_ludzki"/>
            <p:cNvPicPr/>
            <p:nvPr/>
          </p:nvPicPr>
          <p:blipFill>
            <a:blip r:embed="rId1"/>
            <a:stretch/>
          </p:blipFill>
          <p:spPr>
            <a:xfrm>
              <a:off x="250920" y="5516640"/>
              <a:ext cx="2178360" cy="69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36" descr="logoMRR"/>
            <p:cNvPicPr/>
            <p:nvPr/>
          </p:nvPicPr>
          <p:blipFill>
            <a:blip r:embed="rId2"/>
            <a:stretch/>
          </p:blipFill>
          <p:spPr>
            <a:xfrm>
              <a:off x="2719800" y="5654520"/>
              <a:ext cx="1887840" cy="49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7" descr="Logo-KSSiP-2"/>
            <p:cNvPicPr/>
            <p:nvPr/>
          </p:nvPicPr>
          <p:blipFill>
            <a:blip r:embed="rId3"/>
            <a:stretch/>
          </p:blipFill>
          <p:spPr>
            <a:xfrm>
              <a:off x="5414040" y="5516640"/>
              <a:ext cx="79128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8" descr="EFS_UE_Logo"/>
            <p:cNvPicPr/>
            <p:nvPr/>
          </p:nvPicPr>
          <p:blipFill>
            <a:blip r:embed="rId4"/>
            <a:stretch/>
          </p:blipFill>
          <p:spPr>
            <a:xfrm>
              <a:off x="6761520" y="5516640"/>
              <a:ext cx="2203200" cy="79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Picture 6" descr=""/>
          <p:cNvPicPr/>
          <p:nvPr/>
        </p:nvPicPr>
        <p:blipFill>
          <a:blip r:embed="rId5"/>
          <a:stretch/>
        </p:blipFill>
        <p:spPr>
          <a:xfrm>
            <a:off x="324000" y="2133720"/>
            <a:ext cx="4010040" cy="2447640"/>
          </a:xfrm>
          <a:prstGeom prst="rect">
            <a:avLst/>
          </a:prstGeom>
          <a:ln w="0">
            <a:noFill/>
          </a:ln>
        </p:spPr>
      </p:pic>
      <p:sp>
        <p:nvSpPr>
          <p:cNvPr id="142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10D0-796F-4178-94D9-AE56F1D07740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8" name="Prostokąt 3"/>
          <p:cNvSpPr/>
          <p:nvPr/>
        </p:nvSpPr>
        <p:spPr>
          <a:xfrm>
            <a:off x="179280" y="1557360"/>
            <a:ext cx="89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SE MANAGEMENT – PERSONNEL APPROACH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ctivities performed by the court administration (organisational initiative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ndependent activities of a judge (position of a judge in the process - an active or passive arbitrator, openness to change)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upport for judiciary activities (collaboration with assistants, support for judicial practice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ollaboration between judges (experience sharing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lifelong learning system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9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0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17DF-701A-433D-95E7-D60F798F3E51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01" name="rg_hi" descr="ANd9GcSVKVUssiKsK9iyyrbGyJYrJ0UrNweVdUKFhQ7PV86BMVB6T4OWbg"/>
          <p:cNvPicPr/>
          <p:nvPr/>
        </p:nvPicPr>
        <p:blipFill>
          <a:blip r:embed="rId1"/>
          <a:stretch/>
        </p:blipFill>
        <p:spPr>
          <a:xfrm>
            <a:off x="3427560" y="3429000"/>
            <a:ext cx="5103720" cy="3024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3" name="Prostokąt 3"/>
          <p:cNvSpPr/>
          <p:nvPr/>
        </p:nvSpPr>
        <p:spPr>
          <a:xfrm>
            <a:off x="250920" y="1773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FLOW / CASE MANAGEMENT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4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5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8E93-42AB-4D9B-97F1-F64F859E85F2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79280" y="5111640"/>
            <a:ext cx="87138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Monotype Corsiva"/>
              </a:rPr>
              <a:t>workshops in (national) groups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07" name="Picture 2" descr="Kreatywność"/>
          <p:cNvPicPr/>
          <p:nvPr/>
        </p:nvPicPr>
        <p:blipFill>
          <a:blip r:embed="rId1"/>
          <a:stretch/>
        </p:blipFill>
        <p:spPr>
          <a:xfrm>
            <a:off x="2556000" y="2479680"/>
            <a:ext cx="3887640" cy="26780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09" name="Prostokąt 3"/>
          <p:cNvSpPr/>
          <p:nvPr/>
        </p:nvSpPr>
        <p:spPr>
          <a:xfrm>
            <a:off x="250920" y="1773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FLOW / CASE MANAGEMENT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0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1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5181-40EE-41E2-AFDC-E08BA70FE15B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12" name="il_fi" descr="jak_osiagnac_sukces"/>
          <p:cNvPicPr/>
          <p:nvPr/>
        </p:nvPicPr>
        <p:blipFill>
          <a:blip r:embed="rId1"/>
          <a:stretch/>
        </p:blipFill>
        <p:spPr>
          <a:xfrm>
            <a:off x="2411280" y="2492280"/>
            <a:ext cx="4191120" cy="29847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250920" y="5229360"/>
            <a:ext cx="87138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Monotype Corsiva"/>
              </a:rPr>
              <a:t>summary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5" name="Prostokąt 3"/>
          <p:cNvSpPr/>
          <p:nvPr/>
        </p:nvSpPr>
        <p:spPr>
          <a:xfrm>
            <a:off x="0" y="1413000"/>
            <a:ext cx="91440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f68"/>
                </a:solidFill>
                <a:latin typeface="Arial"/>
              </a:rPr>
              <a:t>COURT MANAGEMENT 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f68"/>
                </a:solidFill>
                <a:latin typeface="Arial"/>
              </a:rPr>
              <a:t>COOPERATION AND COMMON WORK OF THE COURT PRESIDENT AND DIRECTOR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6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17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964B-6BA5-48ED-A1DF-A6E627080512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18" name="il_fi" descr="CCCG-wheel-web"/>
          <p:cNvPicPr/>
          <p:nvPr/>
        </p:nvPicPr>
        <p:blipFill>
          <a:blip r:embed="rId1"/>
          <a:stretch/>
        </p:blipFill>
        <p:spPr>
          <a:xfrm>
            <a:off x="2700360" y="1916280"/>
            <a:ext cx="3672000" cy="3627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0" name="Prostokąt 3"/>
          <p:cNvSpPr/>
          <p:nvPr/>
        </p:nvSpPr>
        <p:spPr>
          <a:xfrm>
            <a:off x="250920" y="1773360"/>
            <a:ext cx="87138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FLOW / CASE MANAGEMENT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RESPECT TO ORGANISATIONAL CULTURE: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CAL AND SOCIAL ASPECTS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1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2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A323-A249-4CFD-A526-CFA0891128C4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23" name="rg_hi" descr="ANd9GcRy8nOwq_Pijd2VkoFUPgnPGylWptYtlaLRkpCOxwDwe0zHWB4r"/>
          <p:cNvPicPr/>
          <p:nvPr/>
        </p:nvPicPr>
        <p:blipFill>
          <a:blip r:embed="rId1"/>
          <a:stretch/>
        </p:blipFill>
        <p:spPr>
          <a:xfrm>
            <a:off x="2411280" y="3500280"/>
            <a:ext cx="4248360" cy="2492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rostokąt 3"/>
          <p:cNvSpPr/>
          <p:nvPr/>
        </p:nvSpPr>
        <p:spPr>
          <a:xfrm>
            <a:off x="250920" y="5013360"/>
            <a:ext cx="864216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Monotype Corsiva"/>
              </a:rPr>
              <a:t>Thank You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OMASZ KAŁUŻN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RZYSZTOF HEJOSZ prezes@bialystok.sr.gov.pl                                      prezes@katowice-zachod.sr.gov.pl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5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226" name="Picture 2" descr="http://t3.gstatic.com/images?q=tbn:ANd9GcTJp4faazC3WlUw7ZJaSKyzxhdSdETlpaZZO84YTjqHVS6Z9UXU"/>
          <p:cNvPicPr/>
          <p:nvPr/>
        </p:nvPicPr>
        <p:blipFill>
          <a:blip r:embed="rId1"/>
          <a:stretch/>
        </p:blipFill>
        <p:spPr>
          <a:xfrm>
            <a:off x="3132000" y="2421000"/>
            <a:ext cx="2814840" cy="2305080"/>
          </a:xfrm>
          <a:prstGeom prst="rect">
            <a:avLst/>
          </a:prstGeom>
          <a:ln w="0">
            <a:noFill/>
          </a:ln>
        </p:spPr>
      </p:pic>
      <p:sp>
        <p:nvSpPr>
          <p:cNvPr id="227" name="Prostokąt 2"/>
          <p:cNvSpPr/>
          <p:nvPr/>
        </p:nvSpPr>
        <p:spPr>
          <a:xfrm>
            <a:off x="2987640" y="1628640"/>
            <a:ext cx="30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c0504d"/>
                </a:solidFill>
                <a:latin typeface="Monotype Corsiva"/>
              </a:rPr>
              <a:t>questions???</a:t>
            </a:r>
            <a:endParaRPr b="1" lang="en-US" sz="4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8" name="Prostokąt 1"/>
          <p:cNvSpPr/>
          <p:nvPr/>
        </p:nvSpPr>
        <p:spPr>
          <a:xfrm>
            <a:off x="250920" y="37944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229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BDF9-EDFF-46EF-8658-C53687AB140A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44" name="Tytuł 1"/>
          <p:cNvSpPr/>
          <p:nvPr/>
        </p:nvSpPr>
        <p:spPr>
          <a:xfrm>
            <a:off x="306360" y="476280"/>
            <a:ext cx="8569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1483920"/>
            <a:ext cx="52783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PARTN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STRICT COURT OF ROERMOND - 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AXONY STATE MINISTRY OF JUSTICE AND EUROPEAN AFFAIRS -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NISTRY OF JUSTICE, DEPARTMENT OF JUDICIAL ADMINISTRATION, TRAINING UNIT - FI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YAL COURT OF JUSTICE, JUDICIAL OFFICE - ENG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buClr>
                <a:srgbClr val="c050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POLISH NATIONAL SCHOOL OF JUDICIARY AND PUBLIC PROSECUTION - PO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ymbol zastępczy numeru slajdu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4DD2-792C-4C0A-8F64-79DF92302CC9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47" name="Obraz 5" descr="ręce.jpg"/>
          <p:cNvPicPr/>
          <p:nvPr/>
        </p:nvPicPr>
        <p:blipFill>
          <a:blip r:embed="rId1"/>
          <a:stretch/>
        </p:blipFill>
        <p:spPr>
          <a:xfrm>
            <a:off x="5580000" y="2421000"/>
            <a:ext cx="3230640" cy="2879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49" name="Tytuł 1"/>
          <p:cNvSpPr/>
          <p:nvPr/>
        </p:nvSpPr>
        <p:spPr>
          <a:xfrm>
            <a:off x="306360" y="476280"/>
            <a:ext cx="8569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0" name="Symbol zastępczy numeru slajdu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82C6-BE11-487B-983B-B25764723C36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1" name="Prostokąt 6"/>
          <p:cNvSpPr/>
          <p:nvPr/>
        </p:nvSpPr>
        <p:spPr>
          <a:xfrm>
            <a:off x="1258920" y="2276640"/>
            <a:ext cx="673200" cy="58392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f68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2" name="Prostokąt 7"/>
          <p:cNvSpPr/>
          <p:nvPr/>
        </p:nvSpPr>
        <p:spPr>
          <a:xfrm>
            <a:off x="1258920" y="306864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f68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3" name="Prostokąt 9"/>
          <p:cNvSpPr/>
          <p:nvPr/>
        </p:nvSpPr>
        <p:spPr>
          <a:xfrm>
            <a:off x="1258920" y="386064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f68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4" name="Prostokąt 10"/>
          <p:cNvSpPr/>
          <p:nvPr/>
        </p:nvSpPr>
        <p:spPr>
          <a:xfrm>
            <a:off x="1258920" y="465300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f68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5" name="Prostokąt 11"/>
          <p:cNvSpPr/>
          <p:nvPr/>
        </p:nvSpPr>
        <p:spPr>
          <a:xfrm>
            <a:off x="1187280" y="5589720"/>
            <a:ext cx="673200" cy="58392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f68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6" name="Prostokąt 12"/>
          <p:cNvSpPr/>
          <p:nvPr/>
        </p:nvSpPr>
        <p:spPr>
          <a:xfrm>
            <a:off x="1908000" y="2276640"/>
            <a:ext cx="6215400" cy="58392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case flow management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7" name="Prostokąt 13"/>
          <p:cNvSpPr/>
          <p:nvPr/>
        </p:nvSpPr>
        <p:spPr>
          <a:xfrm>
            <a:off x="1908000" y="3068640"/>
            <a:ext cx="6215400" cy="58428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case time and cost management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court case standardization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8" name="Prostokąt 14"/>
          <p:cNvSpPr/>
          <p:nvPr/>
        </p:nvSpPr>
        <p:spPr>
          <a:xfrm>
            <a:off x="1908000" y="3860640"/>
            <a:ext cx="6215400" cy="58428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workload management in courts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59" name="Prostokąt 15"/>
          <p:cNvSpPr/>
          <p:nvPr/>
        </p:nvSpPr>
        <p:spPr>
          <a:xfrm>
            <a:off x="1908000" y="4653000"/>
            <a:ext cx="6215400" cy="58428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the use of IT techniques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– </a:t>
            </a: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IT case managemen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0" name="Prostokąt 16"/>
          <p:cNvSpPr/>
          <p:nvPr/>
        </p:nvSpPr>
        <p:spPr>
          <a:xfrm>
            <a:off x="1908000" y="5445000"/>
            <a:ext cx="6215400" cy="86364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training for judges in the areas of: case flow management,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time and case cost management,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professionalization of court activities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1" name="Prostokąt 3"/>
          <p:cNvSpPr/>
          <p:nvPr/>
        </p:nvSpPr>
        <p:spPr>
          <a:xfrm>
            <a:off x="250920" y="162864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ARTICIPANTS' SEMINARS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3" name="Tytuł 1"/>
          <p:cNvSpPr/>
          <p:nvPr/>
        </p:nvSpPr>
        <p:spPr>
          <a:xfrm>
            <a:off x="306360" y="476280"/>
            <a:ext cx="8569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4" name="Symbol zastępczy numeru slajdu 4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7514-AF8E-4FAB-9215-78B98186871D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5" name="Prostokąt 6"/>
          <p:cNvSpPr/>
          <p:nvPr/>
        </p:nvSpPr>
        <p:spPr>
          <a:xfrm>
            <a:off x="1258920" y="2276640"/>
            <a:ext cx="673200" cy="58392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f68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6" name="Prostokąt 11"/>
          <p:cNvSpPr/>
          <p:nvPr/>
        </p:nvSpPr>
        <p:spPr>
          <a:xfrm>
            <a:off x="1258920" y="3213000"/>
            <a:ext cx="673200" cy="584280"/>
          </a:xfrm>
          <a:prstGeom prst="rect">
            <a:avLst/>
          </a:prstGeom>
          <a:gradFill rotWithShape="0">
            <a:gsLst>
              <a:gs pos="0">
                <a:srgbClr val="e2e7f2"/>
              </a:gs>
              <a:gs pos="100000">
                <a:srgbClr val="57b3ff"/>
              </a:gs>
            </a:gsLst>
            <a:lin ang="3960000"/>
          </a:gra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f68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7" name="Prostokąt 12"/>
          <p:cNvSpPr/>
          <p:nvPr/>
        </p:nvSpPr>
        <p:spPr>
          <a:xfrm>
            <a:off x="1908000" y="2276640"/>
            <a:ext cx="6215400" cy="58392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"Managerial approach in courts – challenges, opportunities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and threats"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8" name="Prostokąt 16"/>
          <p:cNvSpPr/>
          <p:nvPr/>
        </p:nvSpPr>
        <p:spPr>
          <a:xfrm>
            <a:off x="1908000" y="3068640"/>
            <a:ext cx="6215400" cy="863640"/>
          </a:xfrm>
          <a:prstGeom prst="rect">
            <a:avLst/>
          </a:prstGeom>
          <a:solidFill>
            <a:srgbClr val="f1f3f9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"Popularisation and dissemination of European solutions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treamlining case flow and court procedures" 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69" name="Prostokąt 3"/>
          <p:cNvSpPr/>
          <p:nvPr/>
        </p:nvSpPr>
        <p:spPr>
          <a:xfrm>
            <a:off x="-179280" y="148608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CONFERENCES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70" name="Picture 9" descr="http://sphotos-a.xx.fbcdn.net/hphotos-ash4/303367_387350761305216_2083167439_n.jpg"/>
          <p:cNvPicPr/>
          <p:nvPr/>
        </p:nvPicPr>
        <p:blipFill>
          <a:blip r:embed="rId1"/>
          <a:stretch/>
        </p:blipFill>
        <p:spPr>
          <a:xfrm>
            <a:off x="1908000" y="4292640"/>
            <a:ext cx="5832720" cy="20732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2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3" name="Symbol zastępczy numeru slajdu 2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002A-D0CF-4ED1-B0EB-7AC507AED8D3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74" name="rg_hi" descr="ANd9GcTDkUG-brz7IKGd5SUv-ePKgMVjqYfX4dQBVlMHkp1puXvwYVxCyA"/>
          <p:cNvPicPr/>
          <p:nvPr/>
        </p:nvPicPr>
        <p:blipFill>
          <a:blip r:embed="rId1"/>
          <a:stretch/>
        </p:blipFill>
        <p:spPr>
          <a:xfrm>
            <a:off x="3348000" y="3068640"/>
            <a:ext cx="2519280" cy="2521080"/>
          </a:xfrm>
          <a:prstGeom prst="rect">
            <a:avLst/>
          </a:prstGeom>
          <a:ln w="0">
            <a:noFill/>
          </a:ln>
        </p:spPr>
      </p:pic>
      <p:sp>
        <p:nvSpPr>
          <p:cNvPr id="175" name="Prostokąt 3"/>
          <p:cNvSpPr/>
          <p:nvPr/>
        </p:nvSpPr>
        <p:spPr>
          <a:xfrm>
            <a:off x="395280" y="1628640"/>
            <a:ext cx="8416800" cy="31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NAR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FLOW MANAGEMENT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MANAGEMENT</a:t>
            </a: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50920" y="5805360"/>
            <a:ext cx="8642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Monotype Corsiva"/>
              </a:rPr>
              <a:t>Project partners' presentations - open discussion </a:t>
            </a:r>
            <a:endParaRPr b="1" lang="en-US" sz="36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8" name="Prostokąt 3"/>
          <p:cNvSpPr/>
          <p:nvPr/>
        </p:nvSpPr>
        <p:spPr>
          <a:xfrm>
            <a:off x="250920" y="1700280"/>
            <a:ext cx="86421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UBJECT MATTER ASSUMPTIONS </a:t>
            </a: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marL="177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HE CONCEPT OF EXPERIENCE SHARING ON THREE LEVELS: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STITUTIONAL APPROACH - MODERNISATION OF WORK ORGANISATION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ERSONNEL APPROACH - MODERNISATION OF HR MANAGEMENT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  <a:p>
            <a:pPr marL="177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DIVIDUAL APPROACH - MODERNISATION OF "SELF-MANAGEMENT"</a:t>
            </a:r>
            <a:endParaRPr b="1" lang="en-US" sz="1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79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80" name="Obraz 5" descr="MPj04392730000[1].jpg"/>
          <p:cNvPicPr/>
          <p:nvPr/>
        </p:nvPicPr>
        <p:blipFill>
          <a:blip r:embed="rId1"/>
          <a:stretch/>
        </p:blipFill>
        <p:spPr>
          <a:xfrm>
            <a:off x="2895480" y="4578480"/>
            <a:ext cx="3060720" cy="4127400"/>
          </a:xfrm>
          <a:prstGeom prst="rect">
            <a:avLst/>
          </a:prstGeom>
          <a:ln w="0">
            <a:noFill/>
          </a:ln>
        </p:spPr>
      </p:pic>
      <p:sp>
        <p:nvSpPr>
          <p:cNvPr id="181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00D7-6EDF-4E39-BFBD-68235B3953DF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3" name="Prostokąt 3"/>
          <p:cNvSpPr/>
          <p:nvPr/>
        </p:nvSpPr>
        <p:spPr>
          <a:xfrm>
            <a:off x="179280" y="1557360"/>
            <a:ext cx="8785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SE FLOW – INSTITUTIONAL APPROACH: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ncoming cases (the number of incoming cases, cases processed, cases remaining)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ase flow - case lifecycle (from the incoming correspondence office, through the chair of the department and the office to the judge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repeatable (simple) cases and cases of a complex factual and legal nature,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he use of IT techniques - electronic court office management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recording devices and court case management,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upervisory activities of the Court President and the Department Chair, the "supervisory" role of the public opinion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ase organisation systems, recording court sittings, court files digitalization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4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5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7E3D-BB12-440F-8BBB-72749518E311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187280" y="4653000"/>
            <a:ext cx="6697800" cy="17589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8" name="Prostokąt 3"/>
          <p:cNvSpPr/>
          <p:nvPr/>
        </p:nvSpPr>
        <p:spPr>
          <a:xfrm>
            <a:off x="250920" y="1557360"/>
            <a:ext cx="856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SE FLOW – PERSONNEL APPROACH: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reliminary administrative activities (preliminary and detailed registration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basic activities related to case flow (traditionally performed by administrative staff and with the use of IT systems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ctivities of the Department Chair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 model of cooperation between court administration and judges (pair systems task teams, other cooperation forms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ctivities performed in court rooms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development of court activities templates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emplates of repeatable judiciary activities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89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0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E889-F149-4D2C-94E2-F7EAE36D83F9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124000" y="4797360"/>
            <a:ext cx="4923000" cy="15843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ole tekstowe 3"/>
          <p:cNvSpPr/>
          <p:nvPr/>
        </p:nvSpPr>
        <p:spPr>
          <a:xfrm>
            <a:off x="428760" y="2143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3" name="Prostokąt 3"/>
          <p:cNvSpPr/>
          <p:nvPr/>
        </p:nvSpPr>
        <p:spPr>
          <a:xfrm>
            <a:off x="250920" y="1700280"/>
            <a:ext cx="856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SE MANAGEMENT – INSTITUTIONAL APPROACH: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he rules of case assignment 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organisational activities (procedure standardization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dministrative activities (the use of IT techniques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judiciary activities (specialisation of judges)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ase time management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  <a:p>
            <a:pPr marL="635040" indent="-635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ase cost management</a:t>
            </a:r>
            <a:endParaRPr b="1" lang="en-US" sz="20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4" name="Tytuł 1"/>
          <p:cNvSpPr/>
          <p:nvPr/>
        </p:nvSpPr>
        <p:spPr>
          <a:xfrm>
            <a:off x="324000" y="0"/>
            <a:ext cx="85690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"PWP EDUCATION IN THE FIELD OF CASE TIME AND COST MANAGEMENT" PROJECT</a:t>
            </a: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2f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f68"/>
              </a:solidFill>
              <a:latin typeface="Arial"/>
            </a:endParaRPr>
          </a:p>
        </p:txBody>
      </p:sp>
      <p:sp>
        <p:nvSpPr>
          <p:cNvPr id="195" name="Symbol zastępczy numeru slajdu 1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6BF0-18D3-49A9-A887-5B0D66C84ADE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2f68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771640" y="4149720"/>
            <a:ext cx="3672000" cy="2173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3:46:08Z</dcterms:created>
  <dc:creator>kssip</dc:creator>
  <dc:description/>
  <dc:language>en-US</dc:language>
  <cp:lastModifiedBy>VIVALANG PM1</cp:lastModifiedBy>
  <dcterms:modified xsi:type="dcterms:W3CDTF">2012-12-10T13:52:42Z</dcterms:modified>
  <cp:revision>238</cp:revision>
  <dc:subject/>
  <dc:title>Slajd 1</dc:title>
</cp:coreProperties>
</file>