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643-81DE-42B8-894C-06A38930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126-1ACE-43DF-B313-E0BB5EEB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66B-1DBE-4ED7-B3A5-7D60A43C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09C-C7B1-412D-A886-4B3A7B8F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A25-8924-441E-85D1-85C4AA78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0F1-0F66-4CB8-8593-31C9383F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96D-531C-4B9B-AE7F-731A93A5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E3D-52D4-48A2-B298-DAB3F06B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D18-4FC4-4D6E-BEDC-2B152B8B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128-F1EA-4BF6-8F04-CB3C7174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ADF-2541-45B9-9FE1-A90800CA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432-F8CD-421F-BA04-4080350D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DBF9B6-398D-498C-9D85-F95387A6F460}" type="slidenum">
              <a:rPr b="0" lang="pl-P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3635280" y="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stępowanie uproszczone o nakaz zapła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Line 2"/>
          <p:cNvSpPr/>
          <p:nvPr/>
        </p:nvSpPr>
        <p:spPr>
          <a:xfrm>
            <a:off x="4500720" y="47628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995640" y="692280"/>
            <a:ext cx="1152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wództw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69236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yrok zaocz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5092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yrok zasądzaj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 odmow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708360" y="4869000"/>
            <a:ext cx="1727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yrok ostatecz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>
            <a:off x="4572000" y="98100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68440" y="112536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bsługa po zapłacie kosztów z gó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>
            <a:off x="2698560" y="1413000"/>
            <a:ext cx="18032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4500720" y="1413000"/>
            <a:ext cx="1511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55640" y="1413000"/>
            <a:ext cx="185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postępowanie przygotowawcze (procedura pisem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847120" y="1268280"/>
            <a:ext cx="145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pierwsza rozpraw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 flipH="1">
            <a:off x="682560" y="1989000"/>
            <a:ext cx="13716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1535040" y="335772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rak reakcj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755640" y="386064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2050920" y="1989000"/>
            <a:ext cx="730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145800" y="3429000"/>
            <a:ext cx="157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asądzenie 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dmowa zasądz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2124000" y="3645000"/>
            <a:ext cx="18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766764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yrok zasądzaja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 odmow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6084720" y="4869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yrok zaocz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2050920" y="1989000"/>
            <a:ext cx="1800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3893040" y="191628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amiar obro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3"/>
          <p:cNvSpPr/>
          <p:nvPr/>
        </p:nvSpPr>
        <p:spPr>
          <a:xfrm>
            <a:off x="3851280" y="3429000"/>
            <a:ext cx="1152360" cy="360360"/>
          </a:xfrm>
          <a:prstGeom prst="rect">
            <a:avLst/>
          </a:prstGeom>
          <a:solidFill>
            <a:srgbClr val="f1c0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zprawa głów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3635280" y="242100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dpowiedź na poz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4048560" y="28526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dpowied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 flipV="1">
            <a:off x="2340000" y="4219560"/>
            <a:ext cx="28728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2463840" y="395460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t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3059280" y="3643200"/>
            <a:ext cx="64908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 flipH="1">
            <a:off x="5001840" y="1773360"/>
            <a:ext cx="15159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>
            <a:off x="4427640" y="220500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>
            <a:off x="4427640" y="2637000"/>
            <a:ext cx="1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32"/>
          <p:cNvSpPr/>
          <p:nvPr/>
        </p:nvSpPr>
        <p:spPr>
          <a:xfrm>
            <a:off x="4427640" y="3141720"/>
            <a:ext cx="1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33"/>
          <p:cNvSpPr/>
          <p:nvPr/>
        </p:nvSpPr>
        <p:spPr>
          <a:xfrm>
            <a:off x="6516720" y="1773360"/>
            <a:ext cx="576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7635600" y="2565360"/>
            <a:ext cx="157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asądzenie 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dmowa zasądz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 flipH="1">
            <a:off x="6730920" y="3860640"/>
            <a:ext cx="3636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36"/>
          <p:cNvSpPr/>
          <p:nvPr/>
        </p:nvSpPr>
        <p:spPr>
          <a:xfrm>
            <a:off x="6588000" y="1773360"/>
            <a:ext cx="1440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6703560" y="332100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rak obro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38"/>
          <p:cNvSpPr/>
          <p:nvPr/>
        </p:nvSpPr>
        <p:spPr>
          <a:xfrm>
            <a:off x="8388360" y="2997360"/>
            <a:ext cx="14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39"/>
          <p:cNvSpPr/>
          <p:nvPr/>
        </p:nvSpPr>
        <p:spPr>
          <a:xfrm>
            <a:off x="5076720" y="2421000"/>
            <a:ext cx="172728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zeprowadzenie dowodu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apłata kosztów z gó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 flipV="1">
            <a:off x="4788000" y="3139560"/>
            <a:ext cx="504720" cy="29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41"/>
          <p:cNvSpPr/>
          <p:nvPr/>
        </p:nvSpPr>
        <p:spPr>
          <a:xfrm flipV="1">
            <a:off x="6156360" y="1771560"/>
            <a:ext cx="360360" cy="65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5435640" y="407664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t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43"/>
          <p:cNvSpPr/>
          <p:nvPr/>
        </p:nvSpPr>
        <p:spPr>
          <a:xfrm flipH="1" flipV="1">
            <a:off x="6010200" y="4363920"/>
            <a:ext cx="29232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44"/>
          <p:cNvSpPr/>
          <p:nvPr/>
        </p:nvSpPr>
        <p:spPr>
          <a:xfrm flipH="1" flipV="1">
            <a:off x="5075280" y="3787560"/>
            <a:ext cx="7221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45"/>
          <p:cNvSpPr/>
          <p:nvPr/>
        </p:nvSpPr>
        <p:spPr>
          <a:xfrm>
            <a:off x="4427640" y="3860640"/>
            <a:ext cx="14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46"/>
          <p:cNvSpPr/>
          <p:nvPr/>
        </p:nvSpPr>
        <p:spPr>
          <a:xfrm flipH="1">
            <a:off x="3201480" y="5300640"/>
            <a:ext cx="12272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47"/>
          <p:cNvSpPr/>
          <p:nvPr/>
        </p:nvSpPr>
        <p:spPr>
          <a:xfrm>
            <a:off x="4427640" y="5300640"/>
            <a:ext cx="1224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48"/>
          <p:cNvSpPr/>
          <p:nvPr/>
        </p:nvSpPr>
        <p:spPr>
          <a:xfrm>
            <a:off x="1908000" y="5950080"/>
            <a:ext cx="1368720" cy="57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awomocnoś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5435640" y="5950080"/>
            <a:ext cx="1368360" cy="57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elac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4:38:06Z</dcterms:created>
  <dc:creator/>
  <dc:description/>
  <dc:language>en-US</dc:language>
  <cp:lastModifiedBy>User</cp:lastModifiedBy>
  <dcterms:modified xsi:type="dcterms:W3CDTF">2013-01-02T11:46:42Z</dcterms:modified>
  <cp:revision>16</cp:revision>
  <dc:subject/>
  <dc:title>Prezentacja programu PowerPoint</dc:title>
</cp:coreProperties>
</file>