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3621-BC0D-463E-A34F-6F6289F7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55C-6BBF-4FE7-B12A-6228B49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276-4023-4270-A38F-6D2C2D32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1E2-A3EB-4B6C-8FBC-66A3A727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500-2602-4931-A9A2-CF96DDD4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83F-A0B2-4E81-863B-9D5A5929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41F-9532-4E03-A4FA-729803ED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6432-6603-4DE5-9555-EC286889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4BA-DF06-4AAF-BE53-F3261FE9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C0B-4458-4D35-8045-D143DE9F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ADD-FF29-415D-B8D0-E576345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21D-51C8-44F0-9F7E-DFD90CB3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45871-200A-4C1B-BC3B-F3F602E0911C}" type="slidenum">
              <a:rPr b="0" lang="pl-PL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324000" y="69228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ędz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324000" y="1628640"/>
            <a:ext cx="136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yższy pracownik wymiaru sprawiedliwoś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24000" y="270828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kretari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24000" y="3716280"/>
            <a:ext cx="1079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kretar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24000" y="4724280"/>
            <a:ext cx="1079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jalista ds. kosztó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24000" y="5805360"/>
            <a:ext cx="107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rzędnik sądowy 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jalista porządkow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800360" y="5940360"/>
            <a:ext cx="1260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rawy przychodzące do rozpatrz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476360" y="2781360"/>
            <a:ext cx="11509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jestrac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 flipV="1">
            <a:off x="1905120" y="3065040"/>
            <a:ext cx="77760" cy="287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1979640" y="1049400"/>
            <a:ext cx="1440" cy="17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1542960" y="765000"/>
            <a:ext cx="6987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cyz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2124000" y="1052640"/>
            <a:ext cx="6476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700360" y="2781360"/>
            <a:ext cx="2087640" cy="459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nowne przekazanie do sekretariat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970640" y="3789360"/>
            <a:ext cx="79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sem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H="1">
            <a:off x="2480760" y="3240000"/>
            <a:ext cx="2192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2627280" y="3239640"/>
            <a:ext cx="28908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689200" y="765000"/>
            <a:ext cx="1471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yktowanie wyrok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276720" y="5950080"/>
            <a:ext cx="1800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ręczenie / sprawy wychodzą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987640" y="3240000"/>
            <a:ext cx="576360" cy="271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 flipH="1" flipV="1">
            <a:off x="3129120" y="3240000"/>
            <a:ext cx="582480" cy="27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 flipV="1">
            <a:off x="3276720" y="1049400"/>
            <a:ext cx="358560" cy="17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 flipH="1">
            <a:off x="3416400" y="1052640"/>
            <a:ext cx="3664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339360" y="3789360"/>
            <a:ext cx="79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sem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>
            <a:off x="3338640" y="3240000"/>
            <a:ext cx="15372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H="1" flipV="1">
            <a:off x="3489480" y="3239640"/>
            <a:ext cx="14904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4676760" y="765000"/>
            <a:ext cx="1438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głoszenie wyrok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 flipV="1">
            <a:off x="3780000" y="1049400"/>
            <a:ext cx="792000" cy="173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H="1">
            <a:off x="3921120" y="1052640"/>
            <a:ext cx="7984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9"/>
          <p:cNvSpPr/>
          <p:nvPr/>
        </p:nvSpPr>
        <p:spPr>
          <a:xfrm>
            <a:off x="4356000" y="3240000"/>
            <a:ext cx="576360" cy="271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0"/>
          <p:cNvSpPr/>
          <p:nvPr/>
        </p:nvSpPr>
        <p:spPr>
          <a:xfrm flipH="1" flipV="1">
            <a:off x="4497480" y="3240000"/>
            <a:ext cx="582480" cy="27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4680000" y="3240000"/>
            <a:ext cx="466560" cy="14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2"/>
          <p:cNvSpPr/>
          <p:nvPr/>
        </p:nvSpPr>
        <p:spPr>
          <a:xfrm>
            <a:off x="5003640" y="4724280"/>
            <a:ext cx="79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chunek za koszty sądow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33"/>
          <p:cNvSpPr/>
          <p:nvPr/>
        </p:nvSpPr>
        <p:spPr>
          <a:xfrm flipH="1" flipV="1">
            <a:off x="4784760" y="3240000"/>
            <a:ext cx="511200" cy="148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5301360" y="5940360"/>
            <a:ext cx="17352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ychodzący wnios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t. kalkulacji kosztó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35"/>
          <p:cNvSpPr/>
          <p:nvPr/>
        </p:nvSpPr>
        <p:spPr>
          <a:xfrm>
            <a:off x="4859280" y="2781360"/>
            <a:ext cx="1487520" cy="276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pisanie do ak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36"/>
          <p:cNvSpPr/>
          <p:nvPr/>
        </p:nvSpPr>
        <p:spPr>
          <a:xfrm flipH="1" flipV="1">
            <a:off x="5576400" y="3065040"/>
            <a:ext cx="582840" cy="281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5200560" y="1649520"/>
            <a:ext cx="17478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lecenie kalkulacji kosztó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38"/>
          <p:cNvSpPr/>
          <p:nvPr/>
        </p:nvSpPr>
        <p:spPr>
          <a:xfrm flipV="1">
            <a:off x="5508720" y="2107800"/>
            <a:ext cx="1440" cy="67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6443640" y="2781360"/>
            <a:ext cx="1081080" cy="459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nowne przekaza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40"/>
          <p:cNvSpPr/>
          <p:nvPr/>
        </p:nvSpPr>
        <p:spPr>
          <a:xfrm>
            <a:off x="5796000" y="2108160"/>
            <a:ext cx="79200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41"/>
          <p:cNvSpPr/>
          <p:nvPr/>
        </p:nvSpPr>
        <p:spPr>
          <a:xfrm>
            <a:off x="6877080" y="3240000"/>
            <a:ext cx="574560" cy="271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7380360" y="5940360"/>
            <a:ext cx="161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ręczenie / sprawy  wychodzą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43"/>
          <p:cNvSpPr/>
          <p:nvPr/>
        </p:nvSpPr>
        <p:spPr>
          <a:xfrm flipH="1" flipV="1">
            <a:off x="7016760" y="3240000"/>
            <a:ext cx="582480" cy="27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7726680" y="2808360"/>
            <a:ext cx="1482120" cy="276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stateczna decyzj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45"/>
          <p:cNvSpPr/>
          <p:nvPr/>
        </p:nvSpPr>
        <p:spPr>
          <a:xfrm>
            <a:off x="7524720" y="2924280"/>
            <a:ext cx="214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5787000" y="3789360"/>
            <a:ext cx="792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isemn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7"/>
          <p:cNvSpPr/>
          <p:nvPr/>
        </p:nvSpPr>
        <p:spPr>
          <a:xfrm flipH="1">
            <a:off x="6224760" y="3240000"/>
            <a:ext cx="32688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48"/>
          <p:cNvSpPr/>
          <p:nvPr/>
        </p:nvSpPr>
        <p:spPr>
          <a:xfrm flipV="1">
            <a:off x="6372360" y="3239640"/>
            <a:ext cx="360360" cy="55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8:05:28Z</dcterms:created>
  <dc:creator/>
  <dc:description/>
  <dc:language>en-US</dc:language>
  <cp:lastModifiedBy>User</cp:lastModifiedBy>
  <dcterms:modified xsi:type="dcterms:W3CDTF">2013-01-02T11:50:47Z</dcterms:modified>
  <cp:revision>12</cp:revision>
  <dc:subject/>
  <dc:title>Prezentacja programu PowerPoint</dc:title>
</cp:coreProperties>
</file>