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6A01-26D9-4AD6-9CE1-7746782AEB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A20F-995C-447D-A08F-EE8CA51710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9DA-026A-4CDB-9110-B41390B4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3D7-F951-4083-A993-FD962C4A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09B-52CF-4049-B2B6-82710CA2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AF3-D607-4B0E-B2D0-42ECB301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F315-29D2-4A34-BFB3-2775CDCE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32D-C8DC-45B5-BF8B-DE878850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598-6C36-48BD-ACC5-F19487E5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7081-191E-422D-A8D9-2D115C1D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ADB-9167-4F5C-A2BC-5C908FF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7A79-998C-4F67-89A9-94E5DED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CC95-46FE-43C8-B64A-D0ABAF2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C23-C09B-46B2-B8D3-42CDC3EF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3B16-5BB0-447D-9D46-04D6D30B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1EE-A850-4EE6-9D5D-1F1F2FC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4C98-91A2-4163-8196-AFE0064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F173-5B95-4889-97B6-D81826A7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8640-6575-467C-964E-7A96E94A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7226-1CE3-405D-BF2F-5E80F62C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8BCB-F2F2-4617-9235-08CF808C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A1AA-F989-4364-8984-DE0C42D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7261-B3C4-4050-B9D4-D11C6006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4CAD-F5F3-4673-B74C-472AD35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CDD-1AF9-4E12-AFC3-D9EF2979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5C71-F293-4A16-9CC5-A1A6A050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EBFD-FF2B-47FB-BAB9-9CBE3252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6E8A-B339-4E99-B412-B20242C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E33A-BAF7-4F83-9A4E-AB9830CA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6ADC-A987-4B36-8DF4-5D395F9A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1F4B-E5B3-495B-93DF-AF71EFCA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DA43-9913-45B0-B117-54E99901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32E-DB8B-4884-9486-A3426666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12E-9799-4633-A67A-29722A4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6B7-2D87-4475-A49D-A2D7D4F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CBE-9425-4CB4-9344-1436F12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42E-2556-448F-A3CC-6FBE373C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72B-1D63-470B-B4B6-FFE387C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D394-2782-4C3D-AFF7-1E4F9484393C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5A8-AC2B-4D86-84C0-3D14DEF3D05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6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4" name="Round Same Side Corner Rectangle 7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0AA-14D4-486A-9189-44BD47065DF1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F09-0567-4BB7-8666-2720D2C186D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1B6B-9619-44FE-B1C3-264A5DD65B35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30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7EFB-D0C9-4203-AB57-5122241673DF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PROJEC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4284720" y="1989000"/>
            <a:ext cx="48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UPRANATIONAL COMPONENT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 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aw, 10-12.12.201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50920" y="5516640"/>
            <a:ext cx="8713800" cy="792000"/>
            <a:chOff x="250920" y="5516640"/>
            <a:chExt cx="8713800" cy="792000"/>
          </a:xfrm>
        </p:grpSpPr>
        <p:pic>
          <p:nvPicPr>
            <p:cNvPr id="137" name="Picture 35" descr="znak_kapital_ludzki"/>
            <p:cNvPicPr/>
            <p:nvPr/>
          </p:nvPicPr>
          <p:blipFill>
            <a:blip r:embed="rId1"/>
            <a:stretch/>
          </p:blipFill>
          <p:spPr>
            <a:xfrm>
              <a:off x="250920" y="5516640"/>
              <a:ext cx="217836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6" descr="logoMRR"/>
            <p:cNvPicPr/>
            <p:nvPr/>
          </p:nvPicPr>
          <p:blipFill>
            <a:blip r:embed="rId2"/>
            <a:stretch/>
          </p:blipFill>
          <p:spPr>
            <a:xfrm>
              <a:off x="2719800" y="5654520"/>
              <a:ext cx="18878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7" descr="Logo-KSSiP-2"/>
            <p:cNvPicPr/>
            <p:nvPr/>
          </p:nvPicPr>
          <p:blipFill>
            <a:blip r:embed="rId3"/>
            <a:stretch/>
          </p:blipFill>
          <p:spPr>
            <a:xfrm>
              <a:off x="5414040" y="5516640"/>
              <a:ext cx="7912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8" descr="EFS_UE_Logo"/>
            <p:cNvPicPr/>
            <p:nvPr/>
          </p:nvPicPr>
          <p:blipFill>
            <a:blip r:embed="rId4"/>
            <a:stretch/>
          </p:blipFill>
          <p:spPr>
            <a:xfrm>
              <a:off x="6761520" y="5516640"/>
              <a:ext cx="220320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4010040" cy="2447640"/>
          </a:xfrm>
          <a:prstGeom prst="rect">
            <a:avLst/>
          </a:prstGeom>
          <a:ln w="0">
            <a:noFill/>
          </a:ln>
        </p:spPr>
      </p:pic>
      <p:sp>
        <p:nvSpPr>
          <p:cNvPr id="142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7EF-667F-40F1-B068-CDC3FCEF2479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8" name="Prostokąt 3"/>
          <p:cNvSpPr/>
          <p:nvPr/>
        </p:nvSpPr>
        <p:spPr>
          <a:xfrm>
            <a:off x="179280" y="1557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MANAGEMENT – PERSONNEL APPROACH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ies performed by the court administration (organisational initiativ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dependent activities of a judge (position of a judge in the process - an active or passive arbitrator, openness to change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upport for judiciary activities (collaboration with assistants, support for judicial practic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llaboration between judges (experience sharing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ifelong learning system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FC26-10C0-4CB4-9DDB-44C1691FA37B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1" name="rg_hi" descr="ANd9GcSVKVUssiKsK9iyyrbGyJYrJ0UrNweVdUKFhQ7PV86BMVB6T4OWbg"/>
          <p:cNvPicPr/>
          <p:nvPr/>
        </p:nvPicPr>
        <p:blipFill>
          <a:blip r:embed="rId1"/>
          <a:stretch/>
        </p:blipFill>
        <p:spPr>
          <a:xfrm>
            <a:off x="3427560" y="3429000"/>
            <a:ext cx="5103720" cy="302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3" name="Prostokąt 3"/>
          <p:cNvSpPr/>
          <p:nvPr/>
        </p:nvSpPr>
        <p:spPr>
          <a:xfrm>
            <a:off x="250920" y="177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5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C74-FB7C-42CD-ABC3-8C38F3434499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9280" y="511164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workshops in (national) groups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7" name="Picture 2" descr="Kreatywność"/>
          <p:cNvPicPr/>
          <p:nvPr/>
        </p:nvPicPr>
        <p:blipFill>
          <a:blip r:embed="rId1"/>
          <a:stretch/>
        </p:blipFill>
        <p:spPr>
          <a:xfrm>
            <a:off x="2556000" y="2479680"/>
            <a:ext cx="3887640" cy="26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9" name="Prostokąt 3"/>
          <p:cNvSpPr/>
          <p:nvPr/>
        </p:nvSpPr>
        <p:spPr>
          <a:xfrm>
            <a:off x="250920" y="177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0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1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51BF-3216-4D5E-AC7A-32A882A97DA1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2" name="il_fi" descr="jak_osiagnac_sukces"/>
          <p:cNvPicPr/>
          <p:nvPr/>
        </p:nvPicPr>
        <p:blipFill>
          <a:blip r:embed="rId1"/>
          <a:stretch/>
        </p:blipFill>
        <p:spPr>
          <a:xfrm>
            <a:off x="2411280" y="2492280"/>
            <a:ext cx="4191120" cy="2984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250920" y="522936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summary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5" name="Prostokąt 3"/>
          <p:cNvSpPr/>
          <p:nvPr/>
        </p:nvSpPr>
        <p:spPr>
          <a:xfrm>
            <a:off x="0" y="1413000"/>
            <a:ext cx="91440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f68"/>
                </a:solidFill>
                <a:latin typeface="Arial"/>
              </a:rPr>
              <a:t>COURT MANAGEMENT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f68"/>
                </a:solidFill>
                <a:latin typeface="Arial"/>
              </a:rPr>
              <a:t>COOPERATION AND COMMON WORK OF THE COURT PRESIDENT AND DIRECTOR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6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7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59D-BA96-476C-8A33-74CD5866EF17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8" name="il_fi" descr="CCCG-wheel-web"/>
          <p:cNvPicPr/>
          <p:nvPr/>
        </p:nvPicPr>
        <p:blipFill>
          <a:blip r:embed="rId1"/>
          <a:stretch/>
        </p:blipFill>
        <p:spPr>
          <a:xfrm>
            <a:off x="2700360" y="1916280"/>
            <a:ext cx="3672000" cy="3627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0" name="Prostokąt 3"/>
          <p:cNvSpPr/>
          <p:nvPr/>
        </p:nvSpPr>
        <p:spPr>
          <a:xfrm>
            <a:off x="250920" y="1773360"/>
            <a:ext cx="87138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RESPECT TO ORGANISATIONAL CULTURE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AND SOCIAL ASPECTS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1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2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35E-CA92-4CEB-BC71-BB8A697DF1E3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3" name="rg_hi" descr="ANd9GcRy8nOwq_Pijd2VkoFUPgnPGylWptYtlaLRkpCOxwDwe0zHWB4r"/>
          <p:cNvPicPr/>
          <p:nvPr/>
        </p:nvPicPr>
        <p:blipFill>
          <a:blip r:embed="rId1"/>
          <a:stretch/>
        </p:blipFill>
        <p:spPr>
          <a:xfrm>
            <a:off x="2411280" y="3500280"/>
            <a:ext cx="4248360" cy="2492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rostokąt 3"/>
          <p:cNvSpPr/>
          <p:nvPr/>
        </p:nvSpPr>
        <p:spPr>
          <a:xfrm>
            <a:off x="250920" y="5013360"/>
            <a:ext cx="864216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MASZ KAŁUŻN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ZYSZTOF HEJOSZ prezes@bialystok.sr.gov.pl                                      prezes@katowice-zachod.sr.gov.pl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5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6" name="Picture 2" descr="http://t3.gstatic.com/images?q=tbn:ANd9GcTJp4faazC3WlUw7ZJaSKyzxhdSdETlpaZZO84YTjqHVS6Z9UXU"/>
          <p:cNvPicPr/>
          <p:nvPr/>
        </p:nvPicPr>
        <p:blipFill>
          <a:blip r:embed="rId1"/>
          <a:stretch/>
        </p:blipFill>
        <p:spPr>
          <a:xfrm>
            <a:off x="3132000" y="2421000"/>
            <a:ext cx="2814840" cy="230508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2"/>
          <p:cNvSpPr/>
          <p:nvPr/>
        </p:nvSpPr>
        <p:spPr>
          <a:xfrm>
            <a:off x="2987640" y="162864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0504d"/>
                </a:solidFill>
                <a:latin typeface="Monotype Corsiva"/>
              </a:rPr>
              <a:t>questions???</a:t>
            </a:r>
            <a:endParaRPr b="1" lang="en-US" sz="4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8" name="Prostokąt 1"/>
          <p:cNvSpPr/>
          <p:nvPr/>
        </p:nvSpPr>
        <p:spPr>
          <a:xfrm>
            <a:off x="250920" y="3794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9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A55-1A4D-4976-8061-A1D151D2F727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1483920"/>
            <a:ext cx="52783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TRICT COURT OF ROERMOND -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XONY STATE MINISTRY OF JUSTICE AND EUROPEAN AFFAIRS -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NISTRY OF JUSTICE, DEPARTMENT OF JUDICIAL ADMINISTRATION, TRAINING UNIT -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YAL COURT OF JUSTICE, JUDICIAL OFFICE -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OLISH NATIONAL SCHOOL OF JUDICIARY AND PUBLIC PROSECUTION - PO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852-A638-4D07-B625-D6F676E6CA4A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47" name="Obraz 5" descr="ręce.jpg"/>
          <p:cNvPicPr/>
          <p:nvPr/>
        </p:nvPicPr>
        <p:blipFill>
          <a:blip r:embed="rId1"/>
          <a:stretch/>
        </p:blipFill>
        <p:spPr>
          <a:xfrm>
            <a:off x="5580000" y="2421000"/>
            <a:ext cx="3230640" cy="2879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0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CCAC-8B30-4EE6-8F14-A887FB26F19A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1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2" name="Prostokąt 7"/>
          <p:cNvSpPr/>
          <p:nvPr/>
        </p:nvSpPr>
        <p:spPr>
          <a:xfrm>
            <a:off x="1258920" y="3068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3" name="Prostokąt 9"/>
          <p:cNvSpPr/>
          <p:nvPr/>
        </p:nvSpPr>
        <p:spPr>
          <a:xfrm>
            <a:off x="1258920" y="3860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4" name="Prostokąt 10"/>
          <p:cNvSpPr/>
          <p:nvPr/>
        </p:nvSpPr>
        <p:spPr>
          <a:xfrm>
            <a:off x="1258920" y="465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5" name="Prostokąt 11"/>
          <p:cNvSpPr/>
          <p:nvPr/>
        </p:nvSpPr>
        <p:spPr>
          <a:xfrm>
            <a:off x="1187280" y="558972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6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case flow management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7" name="Prostokąt 13"/>
          <p:cNvSpPr/>
          <p:nvPr/>
        </p:nvSpPr>
        <p:spPr>
          <a:xfrm>
            <a:off x="1908000" y="3068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case time and cost management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court case standardization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8" name="Prostokąt 14"/>
          <p:cNvSpPr/>
          <p:nvPr/>
        </p:nvSpPr>
        <p:spPr>
          <a:xfrm>
            <a:off x="1908000" y="3860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orkload management in court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9" name="Prostokąt 15"/>
          <p:cNvSpPr/>
          <p:nvPr/>
        </p:nvSpPr>
        <p:spPr>
          <a:xfrm>
            <a:off x="1908000" y="465300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the use of IT technique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IT case manage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0" name="Prostokąt 16"/>
          <p:cNvSpPr/>
          <p:nvPr/>
        </p:nvSpPr>
        <p:spPr>
          <a:xfrm>
            <a:off x="1908000" y="544500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training for judges in the areas of: case flow management,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time and case cost management,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rofessionalization of court activitie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1" name="Prostokąt 3"/>
          <p:cNvSpPr/>
          <p:nvPr/>
        </p:nvSpPr>
        <p:spPr>
          <a:xfrm>
            <a:off x="250920" y="16286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RTICIPANTS' SEMINARS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3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4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094-1F7D-435A-A1BE-36972E026FD5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5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6" name="Prostokąt 11"/>
          <p:cNvSpPr/>
          <p:nvPr/>
        </p:nvSpPr>
        <p:spPr>
          <a:xfrm>
            <a:off x="1258920" y="321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7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"Managerial approach in courts – challenges, opportunities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and threats"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8" name="Prostokąt 16"/>
          <p:cNvSpPr/>
          <p:nvPr/>
        </p:nvSpPr>
        <p:spPr>
          <a:xfrm>
            <a:off x="1908000" y="306864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"Popularisation and dissemination of European solution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reamlining case flow and court procedures"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9" name="Prostokąt 3"/>
          <p:cNvSpPr/>
          <p:nvPr/>
        </p:nvSpPr>
        <p:spPr>
          <a:xfrm>
            <a:off x="-179280" y="14860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CONFERENCES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0" name="Picture 9" descr="http://sphotos-a.xx.fbcdn.net/hphotos-ash4/303367_387350761305216_2083167439_n.jpg"/>
          <p:cNvPicPr/>
          <p:nvPr/>
        </p:nvPicPr>
        <p:blipFill>
          <a:blip r:embed="rId1"/>
          <a:stretch/>
        </p:blipFill>
        <p:spPr>
          <a:xfrm>
            <a:off x="1908000" y="4292640"/>
            <a:ext cx="5832720" cy="2073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A2F-30FD-4994-BA78-D8336BC16C46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4" name="rg_hi" descr="ANd9GcTDkUG-brz7IKGd5SUv-ePKgMVjqYfX4dQBVlMHkp1puXvwYVxCyA"/>
          <p:cNvPicPr/>
          <p:nvPr/>
        </p:nvPicPr>
        <p:blipFill>
          <a:blip r:embed="rId1"/>
          <a:stretch/>
        </p:blipFill>
        <p:spPr>
          <a:xfrm>
            <a:off x="3348000" y="3068640"/>
            <a:ext cx="2519280" cy="252108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95280" y="1628640"/>
            <a:ext cx="84168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FLOW MANAGEMEN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roject partners' presentations - open discussion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8" name="Prostokąt 3"/>
          <p:cNvSpPr/>
          <p:nvPr/>
        </p:nvSpPr>
        <p:spPr>
          <a:xfrm>
            <a:off x="250920" y="1700280"/>
            <a:ext cx="86421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BJECT MATTER ASSUMPTIONS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CONCEPT OF EXPERIENCE SHARING ON THREE LEVELS: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TITUTIONAL APPROACH - MODERNISATION OF WORK ORGANISATION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ERSONNEL APPROACH - MODERNISATION OF HR MANAGEMENT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DIVIDUAL APPROACH - MODERNISATION OF "SELF-MANAGEMENT"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0" name="Obraz 5" descr="MPj04392730000[1].jpg"/>
          <p:cNvPicPr/>
          <p:nvPr/>
        </p:nvPicPr>
        <p:blipFill>
          <a:blip r:embed="rId1"/>
          <a:stretch/>
        </p:blipFill>
        <p:spPr>
          <a:xfrm>
            <a:off x="2895480" y="4578480"/>
            <a:ext cx="3060720" cy="4127400"/>
          </a:xfrm>
          <a:prstGeom prst="rect">
            <a:avLst/>
          </a:prstGeom>
          <a:ln w="0">
            <a:noFill/>
          </a:ln>
        </p:spPr>
      </p:pic>
      <p:sp>
        <p:nvSpPr>
          <p:cNvPr id="181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E857-443B-4D7A-8676-D5B602EDED23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3" name="Prostokąt 3"/>
          <p:cNvSpPr/>
          <p:nvPr/>
        </p:nvSpPr>
        <p:spPr>
          <a:xfrm>
            <a:off x="179280" y="1557360"/>
            <a:ext cx="878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FLOW – INSTITUTIONAL APPROACH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coming cases (the number of incoming cases, cases processed, cases remaining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flow - case lifecycle (from the incoming correspondence office, through the chair of the department and the office to the judg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peatable (simple) cases and cases of a complex factual and legal nature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he use of IT techniques - electronic court office management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cording devices and court case management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upervisory activities of the Court President and the Department Chair, the "supervisory" role of the public opinion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organisation systems, recording court sittings, court files digitalization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93B-42C4-4F5D-BE29-0392AEA1761E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6697800" cy="1758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8" name="Prostokąt 3"/>
          <p:cNvSpPr/>
          <p:nvPr/>
        </p:nvSpPr>
        <p:spPr>
          <a:xfrm>
            <a:off x="250920" y="1557360"/>
            <a:ext cx="85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FLOW – PERSONNEL APPROACH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eliminary administrative activities (preliminary and detailed registration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asic activities related to case flow (traditionally performed by administrative staff and with the use of IT system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ies of the Department Chair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 model of cooperation between court administration and judges (pair systems task teams, other cooperation form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ies performed in court rooms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velopment of court activities templates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mplates of repeatable judiciary activities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849A-E2D8-46D9-98A7-2FAD6932D20D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24000" y="4797360"/>
            <a:ext cx="4923000" cy="158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3" name="Prostokąt 3"/>
          <p:cNvSpPr/>
          <p:nvPr/>
        </p:nvSpPr>
        <p:spPr>
          <a:xfrm>
            <a:off x="250920" y="170028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MANAGEMENT – INSTITUTIONAL APPROACH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he rules of case assignment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organisational activities (procedure standardization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dministrative activities (the use of IT technique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judiciary activities (specialisation of judge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time management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cost management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FA2-D396-4E05-A5F2-2EAFDE2CA3F9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672000" cy="2173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46:08Z</dcterms:created>
  <dc:creator>kssip</dc:creator>
  <dc:description/>
  <dc:language>en-US</dc:language>
  <cp:lastModifiedBy>VIVALANG PM1</cp:lastModifiedBy>
  <dcterms:modified xsi:type="dcterms:W3CDTF">2012-12-10T13:52:42Z</dcterms:modified>
  <cp:revision>238</cp:revision>
  <dc:subject/>
  <dc:title>Slajd 1</dc:title>
</cp:coreProperties>
</file>