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25A-C65A-40A2-A34D-3A950736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0BD-A7C0-480F-9843-EB4ED490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CA9-B4AD-4354-8ADE-1E26876C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65C-FD1B-4D11-9981-D1CEB64E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1AE-5567-43B4-8084-47AD187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B89-B383-4488-A2C9-6F4AC16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671-4E59-44E8-8B19-849D4AC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373-5D9A-452B-B33A-D04728E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A3D-38BE-4A86-AF87-30D4EB6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7D0-0D1A-40D5-95ED-B7EE0B3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F9F-672E-421E-86DD-1E14DF9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288-90A7-422A-AC40-4B5ED25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B62BB-58A4-48BE-92C1-AE5D606A7AD8}" type="slidenum">
              <a:rPr b="0" lang="pl-P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635280" y="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stępowanie uproszczone o nakaz zapła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4500720" y="4762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95640" y="692280"/>
            <a:ext cx="1152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wódz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9236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509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sądzaj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 odmow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708360" y="4869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ostate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4572000" y="98100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68440" y="112536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bsługa po zapłacie kosztów z gó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2698560" y="1413000"/>
            <a:ext cx="18032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00720" y="141300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55640" y="1413000"/>
            <a:ext cx="185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postępowanie przygotowawcze (procedura pisem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847120" y="126828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pierwsza rozpra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682560" y="198900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535040" y="33577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k reak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55640" y="386064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2050920" y="1989000"/>
            <a:ext cx="7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45800" y="342900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sądzenie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mowa zasąd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2124000" y="3645000"/>
            <a:ext cx="18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66764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sądzaj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 odmow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60847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2050920" y="198900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893040" y="19162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miar obr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851280" y="3429000"/>
            <a:ext cx="1152360" cy="360360"/>
          </a:xfrm>
          <a:prstGeom prst="rect">
            <a:avLst/>
          </a:prstGeom>
          <a:solidFill>
            <a:srgbClr val="f1c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zprawa głów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35280" y="242100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powiedź na poz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048560" y="2852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powied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2340000" y="4219560"/>
            <a:ext cx="28728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2463840" y="39546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3059280" y="3643200"/>
            <a:ext cx="6490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H="1">
            <a:off x="5001840" y="1773360"/>
            <a:ext cx="15159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4427640" y="220500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427640" y="263700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4427640" y="314172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>
            <a:off x="6516720" y="1773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635600" y="256536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sądzenie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mowa zasąd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H="1">
            <a:off x="6730920" y="3860640"/>
            <a:ext cx="3636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>
            <a:off x="6588000" y="177336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6703560" y="33210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k obr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>
            <a:off x="8388360" y="2997360"/>
            <a:ext cx="1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5076720" y="2421000"/>
            <a:ext cx="172728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zeprowadzenie dowod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płata kosztów z gó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4788000" y="3139560"/>
            <a:ext cx="5047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6156360" y="1771560"/>
            <a:ext cx="36036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5435640" y="4076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H="1" flipV="1">
            <a:off x="6010200" y="4363920"/>
            <a:ext cx="2923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4"/>
          <p:cNvSpPr/>
          <p:nvPr/>
        </p:nvSpPr>
        <p:spPr>
          <a:xfrm flipH="1" flipV="1">
            <a:off x="5075280" y="3787560"/>
            <a:ext cx="722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>
            <a:off x="4427640" y="3860640"/>
            <a:ext cx="1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 flipH="1">
            <a:off x="3201480" y="5300640"/>
            <a:ext cx="12272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>
            <a:off x="4427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1908000" y="5950080"/>
            <a:ext cx="136872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womocnoś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lac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4:38:06Z</dcterms:created>
  <dc:creator/>
  <dc:description/>
  <dc:language>en-US</dc:language>
  <cp:lastModifiedBy>User</cp:lastModifiedBy>
  <dcterms:modified xsi:type="dcterms:W3CDTF">2013-01-02T11:46:42Z</dcterms:modified>
  <cp:revision>16</cp:revision>
  <dc:subject/>
  <dc:title>Prezentacja programu PowerPoint</dc:title>
</cp:coreProperties>
</file>