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34D4-B141-43A3-95AB-F49DFC78F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252B-DFD0-415A-BB98-13F2E9C2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0792-F9A6-4CB4-BEC1-48C1F59A3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7C1A-A29D-4AB9-85F3-54606D96C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060E-008D-4493-A399-67FA7B94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D8CA-5FD0-4790-B746-D6DBB574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4FAD-5B8F-406A-88AA-09D4122C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4BB3-876E-4843-BDCA-2D40B5C4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429C-B3DA-4021-B2AC-3791F7B0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1462-0AAF-4E4F-A94D-5AF92AE0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DB6C-F55C-4899-AB0F-73FD6F90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9A48-3F76-4C33-937F-29047AAD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B52996-C366-40D0-97D4-49213ADBF3D9}" type="slidenum">
              <a:rPr b="0" lang="pl-PL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324000" y="692280"/>
            <a:ext cx="1079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ędz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324000" y="1628640"/>
            <a:ext cx="1368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yższy pracownik wymiaru sprawiedliwośc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324000" y="2708280"/>
            <a:ext cx="1079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kretari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24000" y="3716280"/>
            <a:ext cx="10792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kretar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324000" y="4724280"/>
            <a:ext cx="107928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pecjalista ds. kosztó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324000" y="5805360"/>
            <a:ext cx="1079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rzędnik sądowy 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pecjalista porządkow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800360" y="5940360"/>
            <a:ext cx="126036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prawy przychodzące do rozpatrz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1476360" y="2781360"/>
            <a:ext cx="115092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jestracj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Line 9"/>
          <p:cNvSpPr/>
          <p:nvPr/>
        </p:nvSpPr>
        <p:spPr>
          <a:xfrm flipH="1" flipV="1">
            <a:off x="1905120" y="3065040"/>
            <a:ext cx="77760" cy="287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Line 10"/>
          <p:cNvSpPr/>
          <p:nvPr/>
        </p:nvSpPr>
        <p:spPr>
          <a:xfrm flipV="1">
            <a:off x="1979640" y="1049400"/>
            <a:ext cx="1440" cy="173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1542960" y="765000"/>
            <a:ext cx="6987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cyzj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2124000" y="1052640"/>
            <a:ext cx="64764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2700360" y="2781360"/>
            <a:ext cx="2087640" cy="459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onowne przekazanie do sekretariat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1970640" y="3789360"/>
            <a:ext cx="7920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isemni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15"/>
          <p:cNvSpPr/>
          <p:nvPr/>
        </p:nvSpPr>
        <p:spPr>
          <a:xfrm flipH="1">
            <a:off x="2480760" y="3240000"/>
            <a:ext cx="219240" cy="5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16"/>
          <p:cNvSpPr/>
          <p:nvPr/>
        </p:nvSpPr>
        <p:spPr>
          <a:xfrm flipV="1">
            <a:off x="2627280" y="3239640"/>
            <a:ext cx="289080" cy="55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17"/>
          <p:cNvSpPr/>
          <p:nvPr/>
        </p:nvSpPr>
        <p:spPr>
          <a:xfrm>
            <a:off x="2689200" y="765000"/>
            <a:ext cx="14716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yktowanie wyrok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18"/>
          <p:cNvSpPr/>
          <p:nvPr/>
        </p:nvSpPr>
        <p:spPr>
          <a:xfrm>
            <a:off x="3276720" y="5950080"/>
            <a:ext cx="180000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oręczenie / sprawy wychodzą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19"/>
          <p:cNvSpPr/>
          <p:nvPr/>
        </p:nvSpPr>
        <p:spPr>
          <a:xfrm>
            <a:off x="2987640" y="3240000"/>
            <a:ext cx="576360" cy="2710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20"/>
          <p:cNvSpPr/>
          <p:nvPr/>
        </p:nvSpPr>
        <p:spPr>
          <a:xfrm flipH="1" flipV="1">
            <a:off x="3129120" y="3240000"/>
            <a:ext cx="582480" cy="27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Line 21"/>
          <p:cNvSpPr/>
          <p:nvPr/>
        </p:nvSpPr>
        <p:spPr>
          <a:xfrm flipV="1">
            <a:off x="3276720" y="1049400"/>
            <a:ext cx="358560" cy="173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Line 22"/>
          <p:cNvSpPr/>
          <p:nvPr/>
        </p:nvSpPr>
        <p:spPr>
          <a:xfrm flipH="1">
            <a:off x="3416400" y="1052640"/>
            <a:ext cx="36648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23"/>
          <p:cNvSpPr/>
          <p:nvPr/>
        </p:nvSpPr>
        <p:spPr>
          <a:xfrm>
            <a:off x="3339360" y="3789360"/>
            <a:ext cx="7920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isemni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Line 24"/>
          <p:cNvSpPr/>
          <p:nvPr/>
        </p:nvSpPr>
        <p:spPr>
          <a:xfrm>
            <a:off x="3338640" y="3240000"/>
            <a:ext cx="153720" cy="5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Line 25"/>
          <p:cNvSpPr/>
          <p:nvPr/>
        </p:nvSpPr>
        <p:spPr>
          <a:xfrm flipH="1" flipV="1">
            <a:off x="3489480" y="3239640"/>
            <a:ext cx="149040" cy="55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6"/>
          <p:cNvSpPr/>
          <p:nvPr/>
        </p:nvSpPr>
        <p:spPr>
          <a:xfrm>
            <a:off x="4676760" y="765000"/>
            <a:ext cx="14382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głoszenie wyrok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Line 27"/>
          <p:cNvSpPr/>
          <p:nvPr/>
        </p:nvSpPr>
        <p:spPr>
          <a:xfrm flipV="1">
            <a:off x="3780000" y="1049400"/>
            <a:ext cx="792000" cy="173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28"/>
          <p:cNvSpPr/>
          <p:nvPr/>
        </p:nvSpPr>
        <p:spPr>
          <a:xfrm flipH="1">
            <a:off x="3921120" y="1052640"/>
            <a:ext cx="79848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29"/>
          <p:cNvSpPr/>
          <p:nvPr/>
        </p:nvSpPr>
        <p:spPr>
          <a:xfrm>
            <a:off x="4356000" y="3240000"/>
            <a:ext cx="576360" cy="2710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30"/>
          <p:cNvSpPr/>
          <p:nvPr/>
        </p:nvSpPr>
        <p:spPr>
          <a:xfrm flipH="1" flipV="1">
            <a:off x="4497480" y="3240000"/>
            <a:ext cx="582480" cy="27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31"/>
          <p:cNvSpPr/>
          <p:nvPr/>
        </p:nvSpPr>
        <p:spPr>
          <a:xfrm>
            <a:off x="4680000" y="3240000"/>
            <a:ext cx="466560" cy="148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32"/>
          <p:cNvSpPr/>
          <p:nvPr/>
        </p:nvSpPr>
        <p:spPr>
          <a:xfrm>
            <a:off x="5003640" y="4724280"/>
            <a:ext cx="7923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achunek za koszty sądow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33"/>
          <p:cNvSpPr/>
          <p:nvPr/>
        </p:nvSpPr>
        <p:spPr>
          <a:xfrm flipH="1" flipV="1">
            <a:off x="4784760" y="3240000"/>
            <a:ext cx="511200" cy="148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34"/>
          <p:cNvSpPr/>
          <p:nvPr/>
        </p:nvSpPr>
        <p:spPr>
          <a:xfrm>
            <a:off x="5301360" y="5940360"/>
            <a:ext cx="173520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zychodzący wniose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ot. kalkulacji kosztów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35"/>
          <p:cNvSpPr/>
          <p:nvPr/>
        </p:nvSpPr>
        <p:spPr>
          <a:xfrm>
            <a:off x="4859280" y="2781360"/>
            <a:ext cx="148752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pisanie do ak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36"/>
          <p:cNvSpPr/>
          <p:nvPr/>
        </p:nvSpPr>
        <p:spPr>
          <a:xfrm flipH="1" flipV="1">
            <a:off x="5576400" y="3065040"/>
            <a:ext cx="582840" cy="281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37"/>
          <p:cNvSpPr/>
          <p:nvPr/>
        </p:nvSpPr>
        <p:spPr>
          <a:xfrm>
            <a:off x="5200560" y="1649520"/>
            <a:ext cx="174780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olecenie kalkulacji kosztó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38"/>
          <p:cNvSpPr/>
          <p:nvPr/>
        </p:nvSpPr>
        <p:spPr>
          <a:xfrm flipV="1">
            <a:off x="5508720" y="2107800"/>
            <a:ext cx="1440" cy="67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9"/>
          <p:cNvSpPr/>
          <p:nvPr/>
        </p:nvSpPr>
        <p:spPr>
          <a:xfrm>
            <a:off x="6443640" y="2781360"/>
            <a:ext cx="1081080" cy="459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onowne przekazani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40"/>
          <p:cNvSpPr/>
          <p:nvPr/>
        </p:nvSpPr>
        <p:spPr>
          <a:xfrm>
            <a:off x="5796000" y="2108160"/>
            <a:ext cx="792000" cy="67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41"/>
          <p:cNvSpPr/>
          <p:nvPr/>
        </p:nvSpPr>
        <p:spPr>
          <a:xfrm>
            <a:off x="6877080" y="3240000"/>
            <a:ext cx="574560" cy="2710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42"/>
          <p:cNvSpPr/>
          <p:nvPr/>
        </p:nvSpPr>
        <p:spPr>
          <a:xfrm>
            <a:off x="7380360" y="5940360"/>
            <a:ext cx="16192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oręczenie / sprawy  wychodzą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Line 43"/>
          <p:cNvSpPr/>
          <p:nvPr/>
        </p:nvSpPr>
        <p:spPr>
          <a:xfrm flipH="1" flipV="1">
            <a:off x="7016760" y="3240000"/>
            <a:ext cx="582480" cy="27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44"/>
          <p:cNvSpPr/>
          <p:nvPr/>
        </p:nvSpPr>
        <p:spPr>
          <a:xfrm>
            <a:off x="7726680" y="2808360"/>
            <a:ext cx="1482120" cy="2764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stateczna decyzj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45"/>
          <p:cNvSpPr/>
          <p:nvPr/>
        </p:nvSpPr>
        <p:spPr>
          <a:xfrm>
            <a:off x="7524720" y="2924280"/>
            <a:ext cx="2142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46"/>
          <p:cNvSpPr/>
          <p:nvPr/>
        </p:nvSpPr>
        <p:spPr>
          <a:xfrm>
            <a:off x="5787000" y="3789360"/>
            <a:ext cx="7920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isemni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47"/>
          <p:cNvSpPr/>
          <p:nvPr/>
        </p:nvSpPr>
        <p:spPr>
          <a:xfrm flipH="1">
            <a:off x="6224760" y="3240000"/>
            <a:ext cx="326880" cy="5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48"/>
          <p:cNvSpPr/>
          <p:nvPr/>
        </p:nvSpPr>
        <p:spPr>
          <a:xfrm flipV="1">
            <a:off x="6372360" y="3239640"/>
            <a:ext cx="360360" cy="55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5T18:05:28Z</dcterms:created>
  <dc:creator/>
  <dc:description/>
  <dc:language>en-US</dc:language>
  <cp:lastModifiedBy>User</cp:lastModifiedBy>
  <dcterms:modified xsi:type="dcterms:W3CDTF">2013-01-02T11:50:47Z</dcterms:modified>
  <cp:revision>12</cp:revision>
  <dc:subject/>
  <dc:title>Prezentacja programu PowerPoint</dc:title>
</cp:coreProperties>
</file>