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1034-C952-4706-A217-2997DBDCA53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397E-DD3F-466E-990A-BA77F9222CD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2FB4-EBD4-4131-9086-8711FE15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8AEB-51F6-41D7-ACE0-D06952D0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88FD-62E8-4583-B3FB-C8CE83EF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D28B-867C-420D-913C-65FF1C65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7AE1-6CAB-4A10-8CF0-02C061B6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068C-AA8F-42A9-A0BA-C17FB3A7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DC14-D35F-4B6C-9D08-9048E63A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1180-130B-4594-9C99-C5B7821F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BA11-CD21-4762-BE0A-A789A5DB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F27D-C062-4EAD-8450-FEE31A42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4E13-6040-4B6E-B0AA-DACF26BC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3B5-FFA1-4B5D-8E52-8A5AEC43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FED2-2C1C-4E9E-A207-D10D0C75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85CD-590D-4262-BE7A-8816DCA3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5351-F284-453D-A3A3-F9A7BF88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D6C7-9CEB-4B5F-8218-07D5ECF5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63FA-17C9-4426-A632-04D8BFC1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3973A-A874-4003-A0C0-214C0039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59530-E23E-4C28-8FA2-B2C39846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C9450-9CB4-4F61-BC3E-ED3E68DF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614EB-9B98-4090-95C9-8F90A61E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AC4D9-E0EF-4797-AC7D-DBBA6F1F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4D2A-F7AB-4F78-9F98-B5E55B2D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1F6FA-A6B8-41D8-9F93-3DBE4372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8A419-8998-47F5-92B5-6FFA2AF4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B8F4D-1164-4526-9ED8-6B590EE7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47EEC-52F2-49FD-ADCD-09D387D2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FFAAC-8999-450D-AB43-A5CE069F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430F6-DFDD-492E-B4CF-26613A6B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232AD-BA66-40DA-AF6F-B816C887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1576-7E07-4DB1-AC95-1765CBA5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60AC-FFE2-4313-862D-1D4FFA7F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3A17-F5EC-4215-B3FD-26578B65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ED59-D9D0-41AF-BCA5-CA2A6DEE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EAF8-8A55-461E-A4E4-4F9CF57A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AA7E-48FC-45EF-BBB8-BB2A5D9C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D0B3-3A16-47D3-887E-97BEE2A024EA}" type="datetime">
              <a:rPr b="0" lang="pl-PL" sz="1200" spc="-1" strike="noStrike">
                <a:solidFill>
                  <a:srgbClr val="1f497d"/>
                </a:solidFill>
                <a:latin typeface="Arial"/>
              </a:rPr>
              <a:t>30.07.26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C663-40C7-46BB-ADE6-1D05A44E05C2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6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>
              <a:gd name="textAreaLeft" fmla="*/ 57600 w 8686800"/>
              <a:gd name="textAreaRight" fmla="*/ 8629200 w 8686800"/>
              <a:gd name="textAreaTop" fmla="*/ 57960 h 1828800"/>
              <a:gd name="textAreaBottom" fmla="*/ 1829520 h 1828800"/>
            </a:gdLst>
            <a:ahLst/>
            <a:rect l="textAreaLeft" t="textAreaTop" r="textAreaRight" b="textAreaBottom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lnTo>
                  <a:pt x="8489582" y="0"/>
                </a:lnTo>
                <a:arcTo wR="197218" hR="197218" stAng="-5400000" swAng="5400000"/>
                <a:lnTo>
                  <a:pt x="8686800" y="1828800"/>
                </a:lnTo>
                <a:lnTo>
                  <a:pt x="0" y="1828800"/>
                </a:lnTo>
                <a:lnTo>
                  <a:pt x="0" y="197218"/>
                </a:lnTo>
                <a:lnTo>
                  <a:pt x="0" y="197218"/>
                </a:lnTo>
                <a:arcTo wR="197218" hR="197218" stAng="10800000" swAng="5400000"/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4" name="Round Same Side Corner Rectangle 7"/>
          <p:cNvSpPr/>
          <p:nvPr/>
        </p:nvSpPr>
        <p:spPr>
          <a:xfrm>
            <a:off x="228600" y="228600"/>
            <a:ext cx="8686800" cy="4419720"/>
          </a:xfrm>
          <a:custGeom>
            <a:avLst/>
            <a:gdLst>
              <a:gd name="textAreaLeft" fmla="*/ 36360 w 8686800"/>
              <a:gd name="textAreaRight" fmla="*/ 8650440 w 8686800"/>
              <a:gd name="textAreaTop" fmla="*/ 36360 h 4419720"/>
              <a:gd name="textAreaBottom" fmla="*/ 4420080 h 4419720"/>
            </a:gdLst>
            <a:ahLst/>
            <a:rect l="textAreaLeft" t="textAreaTop" r="textAreaRight" b="textAreaBottom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lnTo>
                  <a:pt x="8562123" y="0"/>
                </a:lnTo>
                <a:arcTo wR="124677" hR="124677" stAng="-5400000" swAng="5400000"/>
                <a:lnTo>
                  <a:pt x="8686800" y="4419600"/>
                </a:lnTo>
                <a:lnTo>
                  <a:pt x="0" y="4419600"/>
                </a:lnTo>
                <a:lnTo>
                  <a:pt x="0" y="124677"/>
                </a:lnTo>
                <a:lnTo>
                  <a:pt x="0" y="124677"/>
                </a:lnTo>
                <a:arcTo wR="124677" hR="124677" stAng="10800000" swAng="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DB62-3A89-4ABC-99BB-5E5AD687B672}" type="datetime">
              <a:rPr b="0" lang="pl-PL" sz="1200" spc="-1" strike="noStrike">
                <a:solidFill>
                  <a:srgbClr val="1f497d"/>
                </a:solidFill>
                <a:latin typeface="Arial"/>
              </a:rPr>
              <a:t>30.07.26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C266-BEC8-49B4-B0CE-3C0FB9E1947C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B92F-1B75-4960-8E87-7A9340FED7CB}" type="datetime">
              <a:rPr b="0" lang="pl-PL" sz="1200" spc="-1" strike="noStrike">
                <a:solidFill>
                  <a:srgbClr val="1f497d"/>
                </a:solidFill>
                <a:latin typeface="Arial"/>
              </a:rPr>
              <a:t>30.07.26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7592-E204-47AB-A85C-F73F7E55DC74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6598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    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I KOSZTAMI POSTĘPOWAŃ SĄDOWYCH – CASE MANAGEMENT”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rostokąt 5"/>
          <p:cNvSpPr/>
          <p:nvPr/>
        </p:nvSpPr>
        <p:spPr>
          <a:xfrm>
            <a:off x="4284720" y="1989000"/>
            <a:ext cx="485928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KOMPONENT PONADNARODOWY</a:t>
            </a: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seminarium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arszawa, 10-12.12.2012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grpSp>
        <p:nvGrpSpPr>
          <p:cNvPr id="136" name="Group 34"/>
          <p:cNvGrpSpPr/>
          <p:nvPr/>
        </p:nvGrpSpPr>
        <p:grpSpPr>
          <a:xfrm>
            <a:off x="250920" y="5516640"/>
            <a:ext cx="8713800" cy="792000"/>
            <a:chOff x="250920" y="5516640"/>
            <a:chExt cx="8713800" cy="792000"/>
          </a:xfrm>
        </p:grpSpPr>
        <p:pic>
          <p:nvPicPr>
            <p:cNvPr id="137" name="Picture 35" descr="znak_kapital_ludzki"/>
            <p:cNvPicPr/>
            <p:nvPr/>
          </p:nvPicPr>
          <p:blipFill>
            <a:blip r:embed="rId1"/>
            <a:stretch/>
          </p:blipFill>
          <p:spPr>
            <a:xfrm>
              <a:off x="250920" y="5516640"/>
              <a:ext cx="2178360" cy="69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36" descr="logoMRR"/>
            <p:cNvPicPr/>
            <p:nvPr/>
          </p:nvPicPr>
          <p:blipFill>
            <a:blip r:embed="rId2"/>
            <a:stretch/>
          </p:blipFill>
          <p:spPr>
            <a:xfrm>
              <a:off x="2719800" y="5654520"/>
              <a:ext cx="1887840" cy="49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37" descr="Logo-KSSiP-2"/>
            <p:cNvPicPr/>
            <p:nvPr/>
          </p:nvPicPr>
          <p:blipFill>
            <a:blip r:embed="rId3"/>
            <a:stretch/>
          </p:blipFill>
          <p:spPr>
            <a:xfrm>
              <a:off x="5414040" y="5516640"/>
              <a:ext cx="79128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38" descr="EFS_UE_Logo"/>
            <p:cNvPicPr/>
            <p:nvPr/>
          </p:nvPicPr>
          <p:blipFill>
            <a:blip r:embed="rId4"/>
            <a:stretch/>
          </p:blipFill>
          <p:spPr>
            <a:xfrm>
              <a:off x="6761520" y="5516640"/>
              <a:ext cx="2203200" cy="79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Picture 6" descr=""/>
          <p:cNvPicPr/>
          <p:nvPr/>
        </p:nvPicPr>
        <p:blipFill>
          <a:blip r:embed="rId5"/>
          <a:stretch/>
        </p:blipFill>
        <p:spPr>
          <a:xfrm>
            <a:off x="324000" y="2133720"/>
            <a:ext cx="4010040" cy="2447640"/>
          </a:xfrm>
          <a:prstGeom prst="rect">
            <a:avLst/>
          </a:prstGeom>
          <a:ln w="0">
            <a:noFill/>
          </a:ln>
        </p:spPr>
      </p:pic>
      <p:sp>
        <p:nvSpPr>
          <p:cNvPr id="142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13E7-5D8D-4619-BA84-71394FC0FDE9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8" name="Prostokąt 3"/>
          <p:cNvSpPr/>
          <p:nvPr/>
        </p:nvSpPr>
        <p:spPr>
          <a:xfrm>
            <a:off x="179280" y="1557360"/>
            <a:ext cx="896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CASE MANAGEMENT – UJĘCIE KADROWE</a:t>
            </a: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czynności podejmowane przez administrację sądową (inicjatywa organizacyjna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samodzielne czynności sędziego (pozycja sędziego w procesie - aktywny czy pasywny arbiter, otwartość na zmiany)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wspomaganie czynności orzeczniczych (współpraca z asystentem, wsparcie orzecznictwa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współpraca sędziów (wymiana doświadczeń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system szkoleń ustawicznych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9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0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39D3-201B-479E-A36D-8EF1DC9D0BAB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01" name="rg_hi" descr="ANd9GcSVKVUssiKsK9iyyrbGyJYrJ0UrNweVdUKFhQ7PV86BMVB6T4OWbg"/>
          <p:cNvPicPr/>
          <p:nvPr/>
        </p:nvPicPr>
        <p:blipFill>
          <a:blip r:embed="rId1"/>
          <a:stretch/>
        </p:blipFill>
        <p:spPr>
          <a:xfrm>
            <a:off x="3427560" y="3429000"/>
            <a:ext cx="5103720" cy="30243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3" name="Prostokąt 3"/>
          <p:cNvSpPr/>
          <p:nvPr/>
        </p:nvSpPr>
        <p:spPr>
          <a:xfrm>
            <a:off x="250920" y="1773360"/>
            <a:ext cx="871380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ASE FLOW / CASE MANAGEMENT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4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5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A9E0-4BBA-4D0C-AE93-DD5081A8C0B4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79280" y="5111640"/>
            <a:ext cx="87138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  <a:p>
            <a:pPr marL="358920" indent="-35892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Monotype Corsiva"/>
              </a:rPr>
              <a:t>zajęcia warsztatowe w grupach (narodowych)</a:t>
            </a: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07" name="Picture 2" descr="Kreatywność"/>
          <p:cNvPicPr/>
          <p:nvPr/>
        </p:nvPicPr>
        <p:blipFill>
          <a:blip r:embed="rId1"/>
          <a:stretch/>
        </p:blipFill>
        <p:spPr>
          <a:xfrm>
            <a:off x="2556000" y="2479680"/>
            <a:ext cx="3887640" cy="26780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9" name="Prostokąt 3"/>
          <p:cNvSpPr/>
          <p:nvPr/>
        </p:nvSpPr>
        <p:spPr>
          <a:xfrm>
            <a:off x="250920" y="1773360"/>
            <a:ext cx="871380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ASE FLOW / CASE MANAGEMENT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10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11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70C4-61AA-4229-B035-02EAD9796BED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12" name="il_fi" descr="jak_osiagnac_sukces"/>
          <p:cNvPicPr/>
          <p:nvPr/>
        </p:nvPicPr>
        <p:blipFill>
          <a:blip r:embed="rId1"/>
          <a:stretch/>
        </p:blipFill>
        <p:spPr>
          <a:xfrm>
            <a:off x="2411280" y="2492280"/>
            <a:ext cx="4191120" cy="29847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"/>
          <p:cNvSpPr/>
          <p:nvPr/>
        </p:nvSpPr>
        <p:spPr>
          <a:xfrm>
            <a:off x="250920" y="5229360"/>
            <a:ext cx="87138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  <a:p>
            <a:pPr marL="358920" indent="-35892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Monotype Corsiva"/>
              </a:rPr>
              <a:t>podsumowanie</a:t>
            </a: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15" name="Prostokąt 3"/>
          <p:cNvSpPr/>
          <p:nvPr/>
        </p:nvSpPr>
        <p:spPr>
          <a:xfrm>
            <a:off x="0" y="1413000"/>
            <a:ext cx="9144000" cy="70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f68"/>
                </a:solidFill>
                <a:latin typeface="Arial"/>
              </a:rPr>
              <a:t>ZARZĄDZANIE SĄDEM (</a:t>
            </a:r>
            <a:r>
              <a:rPr b="0" i="1" lang="pl-PL" sz="2400" spc="-1" strike="noStrike">
                <a:solidFill>
                  <a:srgbClr val="002f68"/>
                </a:solidFill>
                <a:latin typeface="Arial"/>
              </a:rPr>
              <a:t>COURT MANAGEMENT</a:t>
            </a:r>
            <a:r>
              <a:rPr b="0" lang="pl-PL" sz="2400" spc="-1" strike="noStrike">
                <a:solidFill>
                  <a:srgbClr val="002f68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f68"/>
                </a:solidFill>
                <a:latin typeface="Arial"/>
              </a:rPr>
              <a:t>WSPÓŁPRACA I WSPÓŁDZIAŁANIE PREZESA I DYREKTORA SĄDU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16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17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E0D8-8F7B-4A6A-977F-67CC6F92AD7A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18" name="il_fi" descr="CCCG-wheel-web"/>
          <p:cNvPicPr/>
          <p:nvPr/>
        </p:nvPicPr>
        <p:blipFill>
          <a:blip r:embed="rId1"/>
          <a:stretch/>
        </p:blipFill>
        <p:spPr>
          <a:xfrm>
            <a:off x="2700360" y="2133720"/>
            <a:ext cx="3672000" cy="36273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20" name="Prostokąt 3"/>
          <p:cNvSpPr/>
          <p:nvPr/>
        </p:nvSpPr>
        <p:spPr>
          <a:xfrm>
            <a:off x="250920" y="1773360"/>
            <a:ext cx="87138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ASE FLOW / CASE MANAGEMENT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KATEGORIACH KULTURY ORGANIZACYJNEJ: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SPEKTY ETYCZNE I SPOŁECZNE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21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22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EDAC-DAED-479F-ADF6-4CCC77024BF1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23" name="rg_hi" descr="ANd9GcRy8nOwq_Pijd2VkoFUPgnPGylWptYtlaLRkpCOxwDwe0zHWB4r"/>
          <p:cNvPicPr/>
          <p:nvPr/>
        </p:nvPicPr>
        <p:blipFill>
          <a:blip r:embed="rId1"/>
          <a:stretch/>
        </p:blipFill>
        <p:spPr>
          <a:xfrm>
            <a:off x="2411280" y="3500280"/>
            <a:ext cx="4248360" cy="24926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rostokąt 3"/>
          <p:cNvSpPr/>
          <p:nvPr/>
        </p:nvSpPr>
        <p:spPr>
          <a:xfrm>
            <a:off x="250920" y="5013360"/>
            <a:ext cx="864216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Monotype Corsiva"/>
              </a:rPr>
              <a:t>dziękujemy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OMASZ KAŁUŻN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RZYSZTOF HEJOSZ prezes@bialystok.sr.gov.pl                                      prezes@katowice-zachod.sr.gov.pl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25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26" name="Picture 2" descr="http://t3.gstatic.com/images?q=tbn:ANd9GcTJp4faazC3WlUw7ZJaSKyzxhdSdETlpaZZO84YTjqHVS6Z9UXU"/>
          <p:cNvPicPr/>
          <p:nvPr/>
        </p:nvPicPr>
        <p:blipFill>
          <a:blip r:embed="rId1"/>
          <a:stretch/>
        </p:blipFill>
        <p:spPr>
          <a:xfrm>
            <a:off x="3132000" y="2421000"/>
            <a:ext cx="2814840" cy="2305080"/>
          </a:xfrm>
          <a:prstGeom prst="rect">
            <a:avLst/>
          </a:prstGeom>
          <a:ln w="0">
            <a:noFill/>
          </a:ln>
        </p:spPr>
      </p:pic>
      <p:sp>
        <p:nvSpPr>
          <p:cNvPr id="227" name="Prostokąt 2"/>
          <p:cNvSpPr/>
          <p:nvPr/>
        </p:nvSpPr>
        <p:spPr>
          <a:xfrm>
            <a:off x="2987640" y="162864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c0504d"/>
                </a:solidFill>
                <a:latin typeface="Monotype Corsiva"/>
              </a:rPr>
              <a:t>pytania ???</a:t>
            </a:r>
            <a:endParaRPr b="1" lang="en-US" sz="4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28" name="Prostokąt 1"/>
          <p:cNvSpPr/>
          <p:nvPr/>
        </p:nvSpPr>
        <p:spPr>
          <a:xfrm>
            <a:off x="250920" y="379440"/>
            <a:ext cx="86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                                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29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8BD3-BC77-4B85-95B1-52750FDE5A64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44" name="Tytuł 1"/>
          <p:cNvSpPr/>
          <p:nvPr/>
        </p:nvSpPr>
        <p:spPr>
          <a:xfrm>
            <a:off x="306360" y="476280"/>
            <a:ext cx="8569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1483920"/>
            <a:ext cx="52783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RTNERZY PROJEKTU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c0504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ISTRICT COURT OF ROERMOND - THE NETHER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c0504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AXON STATE MINISTRY OF JUSTICE AND EUROPEAN AFFAIRS -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c0504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INISTRY OF JUSTICE, DEPARTMENT OF JUDICIAL ADMINISTRATION, TRAINING UNIT - FI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c0504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YAL COURT OF JUSTICE, JUDICIAL OFFICE - ENG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c0504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RAJOWA SZKOŁA SĄDOWNICTWA                                                     I PROKURATURY - POLS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ymbol zastępczy numeru slajdu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4AE1-CE8E-4ED7-B80A-5AFD5D5B511A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47" name="Obraz 5" descr="ręce.jpg"/>
          <p:cNvPicPr/>
          <p:nvPr/>
        </p:nvPicPr>
        <p:blipFill>
          <a:blip r:embed="rId1"/>
          <a:stretch/>
        </p:blipFill>
        <p:spPr>
          <a:xfrm>
            <a:off x="5580000" y="2421000"/>
            <a:ext cx="3230640" cy="28796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49" name="Tytuł 1"/>
          <p:cNvSpPr/>
          <p:nvPr/>
        </p:nvSpPr>
        <p:spPr>
          <a:xfrm>
            <a:off x="306360" y="476280"/>
            <a:ext cx="8569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0" name="Symbol zastępczy numeru slajdu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E6FE-283C-49DF-83E3-E3D507604027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1" name="Prostokąt 6"/>
          <p:cNvSpPr/>
          <p:nvPr/>
        </p:nvSpPr>
        <p:spPr>
          <a:xfrm>
            <a:off x="1258920" y="2276640"/>
            <a:ext cx="673200" cy="58392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2" name="Prostokąt 7"/>
          <p:cNvSpPr/>
          <p:nvPr/>
        </p:nvSpPr>
        <p:spPr>
          <a:xfrm>
            <a:off x="1258920" y="3068640"/>
            <a:ext cx="673200" cy="58428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3" name="Prostokąt 9"/>
          <p:cNvSpPr/>
          <p:nvPr/>
        </p:nvSpPr>
        <p:spPr>
          <a:xfrm>
            <a:off x="1258920" y="3860640"/>
            <a:ext cx="673200" cy="58428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4" name="Prostokąt 10"/>
          <p:cNvSpPr/>
          <p:nvPr/>
        </p:nvSpPr>
        <p:spPr>
          <a:xfrm>
            <a:off x="1258920" y="4653000"/>
            <a:ext cx="673200" cy="58428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5" name="Prostokąt 11"/>
          <p:cNvSpPr/>
          <p:nvPr/>
        </p:nvSpPr>
        <p:spPr>
          <a:xfrm>
            <a:off x="1187280" y="5589720"/>
            <a:ext cx="673200" cy="58392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6" name="Prostokąt 12"/>
          <p:cNvSpPr/>
          <p:nvPr/>
        </p:nvSpPr>
        <p:spPr>
          <a:xfrm>
            <a:off x="1908000" y="2276640"/>
            <a:ext cx="6215400" cy="58392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zarządzanie przepływem spraw – case flow i case managemen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7" name="Prostokąt 13"/>
          <p:cNvSpPr/>
          <p:nvPr/>
        </p:nvSpPr>
        <p:spPr>
          <a:xfrm>
            <a:off x="1908000" y="3068640"/>
            <a:ext cx="6215400" cy="58428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zarządzanie czasem i kosztami postępowań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standaryzacja postępowań sądowych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8" name="Prostokąt 14"/>
          <p:cNvSpPr/>
          <p:nvPr/>
        </p:nvSpPr>
        <p:spPr>
          <a:xfrm>
            <a:off x="1908000" y="3860640"/>
            <a:ext cx="6215400" cy="58428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zarządzanie obciążeniem pracą w sądach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9" name="Prostokąt 15"/>
          <p:cNvSpPr/>
          <p:nvPr/>
        </p:nvSpPr>
        <p:spPr>
          <a:xfrm>
            <a:off x="1908000" y="4653000"/>
            <a:ext cx="6215400" cy="58428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wykorzystywanie technik informatycznych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– </a:t>
            </a: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IT case managamen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0" name="Prostokąt 16"/>
          <p:cNvSpPr/>
          <p:nvPr/>
        </p:nvSpPr>
        <p:spPr>
          <a:xfrm>
            <a:off x="1908000" y="5445000"/>
            <a:ext cx="6215400" cy="86364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szkolenia dla sędziów w zakresie: zarządzania przepływem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spraw, zarządzania czasem i kosztami postępowań sądowych,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profesjonalizacji czynności sądowych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1" name="Prostokąt 3"/>
          <p:cNvSpPr/>
          <p:nvPr/>
        </p:nvSpPr>
        <p:spPr>
          <a:xfrm>
            <a:off x="250920" y="1628640"/>
            <a:ext cx="889308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EMINARIA UCZESTNIKÓW PROJEKTU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3" name="Tytuł 1"/>
          <p:cNvSpPr/>
          <p:nvPr/>
        </p:nvSpPr>
        <p:spPr>
          <a:xfrm>
            <a:off x="306360" y="476280"/>
            <a:ext cx="8569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4" name="Symbol zastępczy numeru slajdu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13B5-ED10-4F57-8FC2-347D0CE2E196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5" name="Prostokąt 6"/>
          <p:cNvSpPr/>
          <p:nvPr/>
        </p:nvSpPr>
        <p:spPr>
          <a:xfrm>
            <a:off x="1258920" y="2276640"/>
            <a:ext cx="673200" cy="58392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6" name="Prostokąt 11"/>
          <p:cNvSpPr/>
          <p:nvPr/>
        </p:nvSpPr>
        <p:spPr>
          <a:xfrm>
            <a:off x="1258920" y="3213000"/>
            <a:ext cx="673200" cy="58428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7" name="Prostokąt 12"/>
          <p:cNvSpPr/>
          <p:nvPr/>
        </p:nvSpPr>
        <p:spPr>
          <a:xfrm>
            <a:off x="1908000" y="2276640"/>
            <a:ext cx="6215400" cy="58392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„</a:t>
            </a: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Menedżeryzacja w sądach – wyzwania, szanse i zagrożenia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8" name="Prostokąt 16"/>
          <p:cNvSpPr/>
          <p:nvPr/>
        </p:nvSpPr>
        <p:spPr>
          <a:xfrm>
            <a:off x="1908000" y="3068640"/>
            <a:ext cx="6215400" cy="86364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„</a:t>
            </a: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Popularyzacja i upowszechnianie europejskich rozwiązań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usprawniających przepływ spraw i tok postępowań sądowych”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9" name="Prostokąt 3"/>
          <p:cNvSpPr/>
          <p:nvPr/>
        </p:nvSpPr>
        <p:spPr>
          <a:xfrm>
            <a:off x="250920" y="1628640"/>
            <a:ext cx="889308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TWARTE KONFERENCJE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70" name="Picture 9" descr="http://sphotos-a.xx.fbcdn.net/hphotos-ash4/303367_387350761305216_2083167439_n.jpg"/>
          <p:cNvPicPr/>
          <p:nvPr/>
        </p:nvPicPr>
        <p:blipFill>
          <a:blip r:embed="rId1"/>
          <a:stretch/>
        </p:blipFill>
        <p:spPr>
          <a:xfrm>
            <a:off x="1908000" y="4292640"/>
            <a:ext cx="5832720" cy="20732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2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3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7689-101C-4C74-8F56-E3C8CE186CA9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74" name="rg_hi" descr="ANd9GcTDkUG-brz7IKGd5SUv-ePKgMVjqYfX4dQBVlMHkp1puXvwYVxCyA"/>
          <p:cNvPicPr/>
          <p:nvPr/>
        </p:nvPicPr>
        <p:blipFill>
          <a:blip r:embed="rId1"/>
          <a:stretch/>
        </p:blipFill>
        <p:spPr>
          <a:xfrm>
            <a:off x="3348000" y="3068640"/>
            <a:ext cx="2519280" cy="2521080"/>
          </a:xfrm>
          <a:prstGeom prst="rect">
            <a:avLst/>
          </a:prstGeom>
          <a:ln w="0">
            <a:noFill/>
          </a:ln>
        </p:spPr>
      </p:pic>
      <p:sp>
        <p:nvSpPr>
          <p:cNvPr id="175" name="Prostokąt 3"/>
          <p:cNvSpPr/>
          <p:nvPr/>
        </p:nvSpPr>
        <p:spPr>
          <a:xfrm>
            <a:off x="395280" y="1628640"/>
            <a:ext cx="841680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EMINARIUM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ARZĄDZANIE PRZEPŁYWEM SPRAW – CASE FLOW</a:t>
            </a: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ARZĄDZANIE SPRAWĄ – CASE MANAGEMENT</a:t>
            </a: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50920" y="5805360"/>
            <a:ext cx="8642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Monotype Corsiva"/>
              </a:rPr>
              <a:t>prezentacje partnerów projektu - otwarta dyskusja </a:t>
            </a: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8" name="Prostokąt 3"/>
          <p:cNvSpPr/>
          <p:nvPr/>
        </p:nvSpPr>
        <p:spPr>
          <a:xfrm>
            <a:off x="250920" y="1700280"/>
            <a:ext cx="8642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ŁOŻENIE MERYTORYCZNE 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marL="177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 marL="177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CEPCJA WYMIANY DOŚWIADCZEŃ W TRZECH PŁASZCZYZNACH:</a:t>
            </a:r>
            <a:endParaRPr b="1" lang="en-US" sz="1800" spc="-1" strike="noStrike">
              <a:solidFill>
                <a:srgbClr val="002f68"/>
              </a:solidFill>
              <a:latin typeface="Arial"/>
            </a:endParaRPr>
          </a:p>
          <a:p>
            <a:pPr marL="177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JĘCIE INSTYTUCJONALNE – MODERNIZACJA ORGANIZACJI PRACY</a:t>
            </a:r>
            <a:endParaRPr b="1" lang="en-US" sz="1800" spc="-1" strike="noStrike">
              <a:solidFill>
                <a:srgbClr val="002f68"/>
              </a:solidFill>
              <a:latin typeface="Arial"/>
            </a:endParaRPr>
          </a:p>
          <a:p>
            <a:pPr marL="177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JĘCIE KADROWE – MODERNIZACJA ZARZĄDZANIA KADRAMI</a:t>
            </a:r>
            <a:endParaRPr b="1" lang="en-US" sz="1800" spc="-1" strike="noStrike">
              <a:solidFill>
                <a:srgbClr val="002f68"/>
              </a:solidFill>
              <a:latin typeface="Arial"/>
            </a:endParaRPr>
          </a:p>
          <a:p>
            <a:pPr marL="177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JĘCIE JEDNOSTKOWE – MODERNIZACJA „SAMOZARZĄDZANIA”</a:t>
            </a:r>
            <a:endParaRPr b="1" lang="en-US" sz="1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9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80" name="Obraz 5" descr="MPj04392730000[1].jpg"/>
          <p:cNvPicPr/>
          <p:nvPr/>
        </p:nvPicPr>
        <p:blipFill>
          <a:blip r:embed="rId1"/>
          <a:stretch/>
        </p:blipFill>
        <p:spPr>
          <a:xfrm>
            <a:off x="3035160" y="4145040"/>
            <a:ext cx="3073680" cy="4145040"/>
          </a:xfrm>
          <a:prstGeom prst="rect">
            <a:avLst/>
          </a:prstGeom>
          <a:ln w="0">
            <a:noFill/>
          </a:ln>
        </p:spPr>
      </p:pic>
      <p:sp>
        <p:nvSpPr>
          <p:cNvPr id="181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738B-8CDA-4807-A364-7594117C3111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3" name="Prostokąt 3"/>
          <p:cNvSpPr/>
          <p:nvPr/>
        </p:nvSpPr>
        <p:spPr>
          <a:xfrm>
            <a:off x="179280" y="1557360"/>
            <a:ext cx="8785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CASE FLOW – UJĘCIE INSTYTUCJONALNE: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wpływ spraw do sądu (poziom wpływu, załatwialność, pozostałość)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przepływ spraw - "cykl życia sprawy„ (od biura podawczego, przez przewodniczącego wydziału i sekretariat  do sędziego włącznie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sprawy powtarzalne (proste),  a sprawy o skomplikowanym stanie faktycznym i prawnym,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wykorzystanie technik informatycznych – elektroniczna biurowość sądowa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urządzenia ewidencyjne i zarządzanie sprawami sądowymi,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czynności nadzorcze prezesa sądu i przewodniczącego wydziału,"nadzór" opinii publicznej,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systemy organizacji rozpraw, nagrywanie przebiegu rozpraw, digitalizacja akt sądowych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4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5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32F5-8679-4C89-909A-3AEE6E3486A0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187280" y="4653000"/>
            <a:ext cx="6697800" cy="17589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8" name="Prostokąt 3"/>
          <p:cNvSpPr/>
          <p:nvPr/>
        </p:nvSpPr>
        <p:spPr>
          <a:xfrm>
            <a:off x="250920" y="1557360"/>
            <a:ext cx="8569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CASE FLOW – UJĘCIE KADROWE: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wstępne czynności administracyjne (rejestracja wstępna i szczegółowa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zasadnicze czynności związane z biegiem spraw (realizowane tradycyjnie przez pracowników administracyjnych oraz przy wykorzystaniu systemów elektronicznych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czynności przewodniczącego wydziału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model współpracy administracji sądowej z sędziami (systemy dwójkowe, zespoły zadaniowe, inne formy współpracy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realizacja czynności na salach rozpraw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przygotowywanie szablonów czynności sądowych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wzorce powtarzalnych czynności orzeczniczych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9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0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2083-0C8F-4A9C-9497-36D08A84BE49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124000" y="4797360"/>
            <a:ext cx="4923000" cy="15843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3" name="Prostokąt 3"/>
          <p:cNvSpPr/>
          <p:nvPr/>
        </p:nvSpPr>
        <p:spPr>
          <a:xfrm>
            <a:off x="250920" y="1700280"/>
            <a:ext cx="856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CASE MANAGEMENT – UJĘCIE INSTYTUCJONALNE: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zasady przydziału spraw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czynności organizacyjne (standaryzacja postępowań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czynności administracyjne (wykorzystywanie technik informatycznych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czynności orzecznicze (specjalizacja sędziów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zarządzanie czasem postępowań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zarządzanie kosztami postępowań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4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5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2BCB-DF17-48CD-948A-D3CFA39FC531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771640" y="4149720"/>
            <a:ext cx="3672000" cy="21733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3:46:08Z</dcterms:created>
  <dc:creator>kssip</dc:creator>
  <dc:description/>
  <dc:language>en-US</dc:language>
  <cp:lastModifiedBy>tomkal</cp:lastModifiedBy>
  <dcterms:modified xsi:type="dcterms:W3CDTF">2012-12-09T11:22:34Z</dcterms:modified>
  <cp:revision>233</cp:revision>
  <dc:subject/>
  <dc:title>Slajd 1</dc:title>
</cp:coreProperties>
</file>