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88BE6-83A0-462D-94E3-2E2C6F1B648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3E480-D502-4AAE-B26F-CC003273EBE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EF92-AC6A-48C2-A647-F30961576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5394-28EA-4292-A4AF-07B01FD52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F2A8-19B8-48A8-8FE2-0DE95F3CC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7751-76CA-4C1F-AB52-449B7D918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AF77D-5A14-4E34-A252-0DAD81E9B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8CC86-B226-4177-8F77-042BB8D44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9D158-467E-46F6-A30F-8BB99F149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6ED20-9474-453E-9432-BAD690E65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2353E-4FD3-4515-ADFE-9C3D791B7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7E8B3-0488-4B97-BD69-26DA76FC7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95243-3FBA-4636-8393-7E91136F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FA95-BF8F-40BD-B799-FD05E99A8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C93E3-CACA-4924-A469-642B8AD89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C2311-E4E5-432D-A8D5-77746022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AB246-0476-4799-8086-6803C1A68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EA908-A91E-49E0-9A9D-FFF78285E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53A00-5F18-4FA8-852A-60B56C409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8AB34-C2A1-4C33-BCBD-DE27D3A80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F757E-4CC7-4F1D-A259-57B27EA90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EBEF4-6E3F-4FF2-BF22-0EA4FF65E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5A729-EFF9-4936-82D9-177DEDD7C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2CDAE-961A-49CE-A116-6C23469DE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C3A0-D8E3-4B03-8D75-1045CB951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40792-7938-47B8-9991-5952A3F55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8DF88-6B15-4050-AB49-E48DAFAE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22947-0422-4B63-BBD1-4B257CB9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21089-C88D-465C-B1F2-860327F7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6F627-1284-4DE1-B77D-235BE0001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C8CB5-992F-407B-84AC-F09A81189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2056D-C86E-4835-8EA4-28DD21D04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4135-5A1A-40C1-AD91-863A461B2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73AB-6BF2-4BEA-A3D4-FEB46A2B7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81B5-C8BE-4505-9495-F15591EBF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A8B7-8631-4557-9067-15F24FAC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E4D1-A001-496C-AE96-3F548917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9660-CB8C-47C3-B727-6164EAB9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 Same Side Corner Rectangle 6"/>
          <p:cNvSpPr/>
          <p:nvPr/>
        </p:nvSpPr>
        <p:spPr>
          <a:xfrm>
            <a:off x="228600" y="152280"/>
            <a:ext cx="8686800" cy="1295640"/>
          </a:xfrm>
          <a:custGeom>
            <a:avLst/>
            <a:gdLst>
              <a:gd name="textAreaLeft" fmla="*/ 18360 w 8686800"/>
              <a:gd name="textAreaRight" fmla="*/ 8668440 w 8686800"/>
              <a:gd name="textAreaTop" fmla="*/ 18360 h 1295640"/>
              <a:gd name="textAreaBottom" fmla="*/ 1296000 h 1295640"/>
            </a:gdLst>
            <a:ahLst/>
            <a:rect l="textAreaLeft" t="textAreaTop" r="textAreaRight" b="textAreaBottom"/>
            <a:pathLst>
              <a:path w="8686800" h="1295400">
                <a:moveTo>
                  <a:pt x="63501" y="0"/>
                </a:moveTo>
                <a:lnTo>
                  <a:pt x="8623299" y="0"/>
                </a:lnTo>
                <a:lnTo>
                  <a:pt x="8623299" y="0"/>
                </a:lnTo>
                <a:arcTo wR="63501" hR="63501" stAng="-5400000" swAng="5400000"/>
                <a:lnTo>
                  <a:pt x="8686800" y="1295400"/>
                </a:lnTo>
                <a:lnTo>
                  <a:pt x="0" y="12954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1f497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BDD6D-D5A3-48B1-A934-8041812538C6}" type="datetime">
              <a:rPr b="0" lang="pl-PL" sz="1200" spc="-1" strike="noStrike">
                <a:solidFill>
                  <a:srgbClr val="1f497d"/>
                </a:solidFill>
                <a:latin typeface="Arial"/>
              </a:rPr>
              <a:t>28.07.26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1f497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79818-1A71-46CB-8C38-C461AAF17CA7}" type="slidenum">
              <a:rPr b="0" lang="pl-PL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6" name="Straight Connector 7"/>
          <p:cNvSpPr/>
          <p:nvPr/>
        </p:nvSpPr>
        <p:spPr>
          <a:xfrm>
            <a:off x="228600" y="6524640"/>
            <a:ext cx="8686800" cy="1440"/>
          </a:xfrm>
          <a:prstGeom prst="line">
            <a:avLst/>
          </a:prstGeom>
          <a:ln cap="rnd"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ound Same Side Corner Rectangle 6"/>
          <p:cNvSpPr/>
          <p:nvPr/>
        </p:nvSpPr>
        <p:spPr>
          <a:xfrm flipV="1">
            <a:off x="228600" y="4723920"/>
            <a:ext cx="8686800" cy="1828800"/>
          </a:xfrm>
          <a:custGeom>
            <a:avLst/>
            <a:gdLst>
              <a:gd name="textAreaLeft" fmla="*/ 57600 w 8686800"/>
              <a:gd name="textAreaRight" fmla="*/ 8629200 w 8686800"/>
              <a:gd name="textAreaTop" fmla="*/ 57960 h 1828800"/>
              <a:gd name="textAreaBottom" fmla="*/ 1829520 h 1828800"/>
            </a:gdLst>
            <a:ahLst/>
            <a:rect l="textAreaLeft" t="textAreaTop" r="textAreaRight" b="textAreaBottom"/>
            <a:pathLst>
              <a:path w="8686800" h="1828800">
                <a:moveTo>
                  <a:pt x="197218" y="0"/>
                </a:moveTo>
                <a:lnTo>
                  <a:pt x="8489582" y="0"/>
                </a:lnTo>
                <a:lnTo>
                  <a:pt x="8489582" y="0"/>
                </a:lnTo>
                <a:arcTo wR="197218" hR="197218" stAng="-5400000" swAng="5400000"/>
                <a:lnTo>
                  <a:pt x="8686800" y="1828800"/>
                </a:lnTo>
                <a:lnTo>
                  <a:pt x="0" y="1828800"/>
                </a:lnTo>
                <a:lnTo>
                  <a:pt x="0" y="197218"/>
                </a:lnTo>
                <a:lnTo>
                  <a:pt x="0" y="197218"/>
                </a:lnTo>
                <a:arcTo wR="197218" hR="197218" stAng="10800000" swAng="5400000"/>
                <a:close/>
              </a:path>
            </a:pathLst>
          </a:cu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44" name="Round Same Side Corner Rectangle 7"/>
          <p:cNvSpPr/>
          <p:nvPr/>
        </p:nvSpPr>
        <p:spPr>
          <a:xfrm>
            <a:off x="228600" y="228600"/>
            <a:ext cx="8686800" cy="4419720"/>
          </a:xfrm>
          <a:custGeom>
            <a:avLst/>
            <a:gdLst>
              <a:gd name="textAreaLeft" fmla="*/ 36360 w 8686800"/>
              <a:gd name="textAreaRight" fmla="*/ 8650440 w 8686800"/>
              <a:gd name="textAreaTop" fmla="*/ 36360 h 4419720"/>
              <a:gd name="textAreaBottom" fmla="*/ 4420080 h 4419720"/>
            </a:gdLst>
            <a:ahLst/>
            <a:rect l="textAreaLeft" t="textAreaTop" r="textAreaRight" b="textAreaBottom"/>
            <a:pathLst>
              <a:path w="8686800" h="4419600">
                <a:moveTo>
                  <a:pt x="124677" y="0"/>
                </a:moveTo>
                <a:lnTo>
                  <a:pt x="8562123" y="0"/>
                </a:lnTo>
                <a:lnTo>
                  <a:pt x="8562123" y="0"/>
                </a:lnTo>
                <a:arcTo wR="124677" hR="124677" stAng="-5400000" swAng="5400000"/>
                <a:lnTo>
                  <a:pt x="8686800" y="4419600"/>
                </a:lnTo>
                <a:lnTo>
                  <a:pt x="0" y="4419600"/>
                </a:lnTo>
                <a:lnTo>
                  <a:pt x="0" y="124677"/>
                </a:lnTo>
                <a:lnTo>
                  <a:pt x="0" y="124677"/>
                </a:lnTo>
                <a:arcTo wR="124677" hR="124677" stAng="10800000" swAng="5400000"/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228240" y="655308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1f497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64F3E-EE4E-4F14-B54C-AE75D5EE3065}" type="datetime">
              <a:rPr b="0" lang="pl-PL" sz="1200" spc="-1" strike="noStrike">
                <a:solidFill>
                  <a:srgbClr val="1f497d"/>
                </a:solidFill>
                <a:latin typeface="Arial"/>
              </a:rPr>
              <a:t>28.07.26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895120" y="6553080"/>
            <a:ext cx="3429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857640" y="6553080"/>
            <a:ext cx="20574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1f497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B1EE3-EB65-4763-AAA6-4CD1BF70CA08}" type="slidenum">
              <a:rPr b="0" lang="pl-PL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1f497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8B500-A158-49E7-B675-F6C920D78BFB}" type="datetime">
              <a:rPr b="0" lang="pl-PL" sz="1200" spc="-1" strike="noStrike">
                <a:solidFill>
                  <a:srgbClr val="1f497d"/>
                </a:solidFill>
                <a:latin typeface="Arial"/>
              </a:rPr>
              <a:t>28.07.26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1f497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E7B0E-C94E-4146-9B85-24BA79C5FC95}" type="slidenum">
              <a:rPr b="0" lang="pl-PL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6598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PROJEKT „PWP EDUKACJA W DZIEDZINIE ZARZĄDZANIA CZASEM     </a:t>
            </a:r>
            <a:br>
              <a:rPr sz="1600"/>
            </a:b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 I KOSZTAMI POSTĘPOWAŃ SĄDOWYCH – CASE MANAGEMENT”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Prostokąt 5"/>
          <p:cNvSpPr/>
          <p:nvPr/>
        </p:nvSpPr>
        <p:spPr>
          <a:xfrm>
            <a:off x="4284720" y="1989000"/>
            <a:ext cx="4859280" cy="29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KOMPONENT PONADNARODOWY</a:t>
            </a:r>
            <a:endParaRPr b="1" lang="en-US" sz="36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 seminarium</a:t>
            </a: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arszawa, 10-12.12.2012</a:t>
            </a: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</p:txBody>
      </p:sp>
      <p:grpSp>
        <p:nvGrpSpPr>
          <p:cNvPr id="136" name="Group 34"/>
          <p:cNvGrpSpPr/>
          <p:nvPr/>
        </p:nvGrpSpPr>
        <p:grpSpPr>
          <a:xfrm>
            <a:off x="250920" y="5516640"/>
            <a:ext cx="8713800" cy="792000"/>
            <a:chOff x="250920" y="5516640"/>
            <a:chExt cx="8713800" cy="792000"/>
          </a:xfrm>
        </p:grpSpPr>
        <p:pic>
          <p:nvPicPr>
            <p:cNvPr id="137" name="Picture 35" descr="znak_kapital_ludzki"/>
            <p:cNvPicPr/>
            <p:nvPr/>
          </p:nvPicPr>
          <p:blipFill>
            <a:blip r:embed="rId1"/>
            <a:stretch/>
          </p:blipFill>
          <p:spPr>
            <a:xfrm>
              <a:off x="250920" y="5516640"/>
              <a:ext cx="2178360" cy="69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36" descr="logoMRR"/>
            <p:cNvPicPr/>
            <p:nvPr/>
          </p:nvPicPr>
          <p:blipFill>
            <a:blip r:embed="rId2"/>
            <a:stretch/>
          </p:blipFill>
          <p:spPr>
            <a:xfrm>
              <a:off x="2719800" y="5654520"/>
              <a:ext cx="1887840" cy="49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37" descr="Logo-KSSiP-2"/>
            <p:cNvPicPr/>
            <p:nvPr/>
          </p:nvPicPr>
          <p:blipFill>
            <a:blip r:embed="rId3"/>
            <a:stretch/>
          </p:blipFill>
          <p:spPr>
            <a:xfrm>
              <a:off x="5414040" y="5516640"/>
              <a:ext cx="79128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38" descr="EFS_UE_Logo"/>
            <p:cNvPicPr/>
            <p:nvPr/>
          </p:nvPicPr>
          <p:blipFill>
            <a:blip r:embed="rId4"/>
            <a:stretch/>
          </p:blipFill>
          <p:spPr>
            <a:xfrm>
              <a:off x="6761520" y="5516640"/>
              <a:ext cx="2203200" cy="792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1" name="Picture 6" descr=""/>
          <p:cNvPicPr/>
          <p:nvPr/>
        </p:nvPicPr>
        <p:blipFill>
          <a:blip r:embed="rId5"/>
          <a:stretch/>
        </p:blipFill>
        <p:spPr>
          <a:xfrm>
            <a:off x="324000" y="2133720"/>
            <a:ext cx="4010040" cy="2447640"/>
          </a:xfrm>
          <a:prstGeom prst="rect">
            <a:avLst/>
          </a:prstGeom>
          <a:ln w="0">
            <a:noFill/>
          </a:ln>
        </p:spPr>
      </p:pic>
      <p:sp>
        <p:nvSpPr>
          <p:cNvPr id="142" name="Symbol zastępczy numeru slajdu 1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92C52-7B8E-4C94-910C-C11978DA2A6E}" type="slidenum">
              <a:rPr b="0" lang="pl-PL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ole tekstowe 3"/>
          <p:cNvSpPr/>
          <p:nvPr/>
        </p:nvSpPr>
        <p:spPr>
          <a:xfrm>
            <a:off x="428760" y="214308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98" name="Prostokąt 3"/>
          <p:cNvSpPr/>
          <p:nvPr/>
        </p:nvSpPr>
        <p:spPr>
          <a:xfrm>
            <a:off x="179280" y="1557360"/>
            <a:ext cx="8964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5040" indent="-635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 Narrow"/>
              </a:rPr>
              <a:t>CASE MANAGEMENT – UJĘCIE KADROWE</a:t>
            </a: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:</a:t>
            </a:r>
            <a:r>
              <a:rPr b="1" lang="pl-PL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czynności podejmowane przez administrację sądową (inicjatywa organizacyjna)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samodzielne czynności sędziego (pozycja sędziego w procesie - aktywny czy pasywny arbiter, otwartość na zmiany) 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wspomaganie czynności orzeczniczych (współpraca z asystentem, wsparcie orzecznictwa)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współpraca sędziów (wymiana doświadczeń)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system szkoleń ustawicznych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99" name="Tytuł 1"/>
          <p:cNvSpPr/>
          <p:nvPr/>
        </p:nvSpPr>
        <p:spPr>
          <a:xfrm>
            <a:off x="324000" y="0"/>
            <a:ext cx="85690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PROJEKT „PWP EDUKACJA W DZIEDZINIE ZARZĄDZANIA CZASEM I KOSZTAMI POSTĘPOWAŃ SĄDOWYCH – CASE MANAGEMENT”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200" name="Symbol zastępczy numeru slajdu 1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325A2-EC17-4E81-9163-54EC431B4503}" type="slidenum">
              <a:rPr b="0" lang="pl-PL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  <p:pic>
        <p:nvPicPr>
          <p:cNvPr id="201" name="rg_hi" descr="ANd9GcSVKVUssiKsK9iyyrbGyJYrJ0UrNweVdUKFhQ7PV86BMVB6T4OWbg"/>
          <p:cNvPicPr/>
          <p:nvPr/>
        </p:nvPicPr>
        <p:blipFill>
          <a:blip r:embed="rId1"/>
          <a:stretch/>
        </p:blipFill>
        <p:spPr>
          <a:xfrm>
            <a:off x="3427560" y="3429000"/>
            <a:ext cx="5103720" cy="302436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ole tekstowe 3"/>
          <p:cNvSpPr/>
          <p:nvPr/>
        </p:nvSpPr>
        <p:spPr>
          <a:xfrm>
            <a:off x="428760" y="214308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203" name="Prostokąt 3"/>
          <p:cNvSpPr/>
          <p:nvPr/>
        </p:nvSpPr>
        <p:spPr>
          <a:xfrm>
            <a:off x="250920" y="1773360"/>
            <a:ext cx="871380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ASE FLOW / CASE MANAGEMENT</a:t>
            </a: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2f68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204" name="Tytuł 1"/>
          <p:cNvSpPr/>
          <p:nvPr/>
        </p:nvSpPr>
        <p:spPr>
          <a:xfrm>
            <a:off x="324000" y="0"/>
            <a:ext cx="85690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PROJEKT „PWP EDUKACJA W DZIEDZINIE ZARZĄDZANIA CZASEM I KOSZTAMI POSTĘPOWAŃ SĄDOWYCH – CASE MANAGEMENT”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205" name="Symbol zastępczy numeru slajdu 2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9A950-A394-4012-9476-B00000EAF942}" type="slidenum">
              <a:rPr b="0" lang="pl-PL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179280" y="5111640"/>
            <a:ext cx="87138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f68"/>
              </a:solidFill>
              <a:latin typeface="Arial"/>
            </a:endParaRPr>
          </a:p>
          <a:p>
            <a:pPr marL="358920" indent="-358920"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0000"/>
                </a:solidFill>
                <a:latin typeface="Monotype Corsiva"/>
              </a:rPr>
              <a:t>zajęcia warsztatowe w grupach (narodowych)</a:t>
            </a:r>
            <a:endParaRPr b="1" lang="en-US" sz="3600" spc="-1" strike="noStrike">
              <a:solidFill>
                <a:srgbClr val="002f68"/>
              </a:solidFill>
              <a:latin typeface="Arial"/>
            </a:endParaRPr>
          </a:p>
        </p:txBody>
      </p:sp>
      <p:pic>
        <p:nvPicPr>
          <p:cNvPr id="207" name="Picture 2" descr="Kreatywność"/>
          <p:cNvPicPr/>
          <p:nvPr/>
        </p:nvPicPr>
        <p:blipFill>
          <a:blip r:embed="rId1"/>
          <a:stretch/>
        </p:blipFill>
        <p:spPr>
          <a:xfrm>
            <a:off x="2556000" y="2479680"/>
            <a:ext cx="3887640" cy="267804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ole tekstowe 3"/>
          <p:cNvSpPr/>
          <p:nvPr/>
        </p:nvSpPr>
        <p:spPr>
          <a:xfrm>
            <a:off x="428760" y="214308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209" name="Prostokąt 3"/>
          <p:cNvSpPr/>
          <p:nvPr/>
        </p:nvSpPr>
        <p:spPr>
          <a:xfrm>
            <a:off x="250920" y="1773360"/>
            <a:ext cx="871380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ASE FLOW / CASE MANAGEMENT</a:t>
            </a: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2f68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210" name="Tytuł 1"/>
          <p:cNvSpPr/>
          <p:nvPr/>
        </p:nvSpPr>
        <p:spPr>
          <a:xfrm>
            <a:off x="324000" y="0"/>
            <a:ext cx="85690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PROJEKT „PWP EDUKACJA W DZIEDZINIE ZARZĄDZANIA CZASEM I KOSZTAMI POSTĘPOWAŃ SĄDOWYCH – CASE MANAGEMENT”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211" name="Symbol zastępczy numeru slajdu 2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5FAB0-5018-421D-9463-2801EDCA943D}" type="slidenum">
              <a:rPr b="0" lang="pl-PL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  <p:pic>
        <p:nvPicPr>
          <p:cNvPr id="212" name="il_fi" descr="jak_osiagnac_sukces"/>
          <p:cNvPicPr/>
          <p:nvPr/>
        </p:nvPicPr>
        <p:blipFill>
          <a:blip r:embed="rId1"/>
          <a:stretch/>
        </p:blipFill>
        <p:spPr>
          <a:xfrm>
            <a:off x="2411280" y="2492280"/>
            <a:ext cx="4191120" cy="298476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3"/>
          <p:cNvSpPr/>
          <p:nvPr/>
        </p:nvSpPr>
        <p:spPr>
          <a:xfrm>
            <a:off x="250920" y="5229360"/>
            <a:ext cx="87138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f68"/>
              </a:solidFill>
              <a:latin typeface="Arial"/>
            </a:endParaRPr>
          </a:p>
          <a:p>
            <a:pPr marL="358920" indent="-358920"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0000"/>
                </a:solidFill>
                <a:latin typeface="Monotype Corsiva"/>
              </a:rPr>
              <a:t>podsumowanie</a:t>
            </a:r>
            <a:endParaRPr b="1" lang="en-US" sz="3600" spc="-1" strike="noStrike">
              <a:solidFill>
                <a:srgbClr val="002f68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ole tekstowe 3"/>
          <p:cNvSpPr/>
          <p:nvPr/>
        </p:nvSpPr>
        <p:spPr>
          <a:xfrm>
            <a:off x="428760" y="214308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215" name="Prostokąt 3"/>
          <p:cNvSpPr/>
          <p:nvPr/>
        </p:nvSpPr>
        <p:spPr>
          <a:xfrm>
            <a:off x="0" y="1413000"/>
            <a:ext cx="9144000" cy="70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f68"/>
                </a:solidFill>
                <a:latin typeface="Arial"/>
              </a:rPr>
              <a:t>ZARZĄDZANIE SĄDEM (</a:t>
            </a:r>
            <a:r>
              <a:rPr b="0" i="1" lang="pl-PL" sz="2400" spc="-1" strike="noStrike">
                <a:solidFill>
                  <a:srgbClr val="002f68"/>
                </a:solidFill>
                <a:latin typeface="Arial"/>
              </a:rPr>
              <a:t>COURT MANAGEMENT</a:t>
            </a:r>
            <a:r>
              <a:rPr b="0" lang="pl-PL" sz="2400" spc="-1" strike="noStrike">
                <a:solidFill>
                  <a:srgbClr val="002f68"/>
                </a:solidFill>
                <a:latin typeface="Arial"/>
              </a:rPr>
              <a:t>) </a:t>
            </a: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f68"/>
                </a:solidFill>
                <a:latin typeface="Arial"/>
              </a:rPr>
              <a:t>WSPÓŁPRACA I WSPÓŁDZIAŁANIE PREZESA I DYREKTORA SĄDU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2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2f68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216" name="Tytuł 1"/>
          <p:cNvSpPr/>
          <p:nvPr/>
        </p:nvSpPr>
        <p:spPr>
          <a:xfrm>
            <a:off x="324000" y="0"/>
            <a:ext cx="85690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PROJEKT „PWP EDUKACJA W DZIEDZINIE ZARZĄDZANIA CZASEM I KOSZTAMI POSTĘPOWAŃ SĄDOWYCH – CASE MANAGEMENT”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217" name="Symbol zastępczy numeru slajdu 2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A2BB9-C041-4B9A-B654-718A93D3AD72}" type="slidenum">
              <a:rPr b="0" lang="pl-PL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  <p:pic>
        <p:nvPicPr>
          <p:cNvPr id="218" name="il_fi" descr="CCCG-wheel-web"/>
          <p:cNvPicPr/>
          <p:nvPr/>
        </p:nvPicPr>
        <p:blipFill>
          <a:blip r:embed="rId1"/>
          <a:stretch/>
        </p:blipFill>
        <p:spPr>
          <a:xfrm>
            <a:off x="2700360" y="2133720"/>
            <a:ext cx="3672000" cy="362736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ole tekstowe 3"/>
          <p:cNvSpPr/>
          <p:nvPr/>
        </p:nvSpPr>
        <p:spPr>
          <a:xfrm>
            <a:off x="428760" y="214308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220" name="Prostokąt 3"/>
          <p:cNvSpPr/>
          <p:nvPr/>
        </p:nvSpPr>
        <p:spPr>
          <a:xfrm>
            <a:off x="250920" y="1773360"/>
            <a:ext cx="87138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ASE FLOW / CASE MANAGEMENT</a:t>
            </a: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KATEGORIACH KULTURY ORGANIZACYJNEJ: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SPEKTY ETYCZNE I SPOŁECZNE 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2f68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221" name="Tytuł 1"/>
          <p:cNvSpPr/>
          <p:nvPr/>
        </p:nvSpPr>
        <p:spPr>
          <a:xfrm>
            <a:off x="324000" y="0"/>
            <a:ext cx="85690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PROJEKT „PWP EDUKACJA W DZIEDZINIE ZARZĄDZANIA CZASEM I KOSZTAMI POSTĘPOWAŃ SĄDOWYCH – CASE MANAGEMENT”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222" name="Symbol zastępczy numeru slajdu 2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0025B-3721-4EED-947F-A5B29ECFE6E4}" type="slidenum">
              <a:rPr b="0" lang="pl-PL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  <p:pic>
        <p:nvPicPr>
          <p:cNvPr id="223" name="rg_hi" descr="ANd9GcRy8nOwq_Pijd2VkoFUPgnPGylWptYtlaLRkpCOxwDwe0zHWB4r"/>
          <p:cNvPicPr/>
          <p:nvPr/>
        </p:nvPicPr>
        <p:blipFill>
          <a:blip r:embed="rId1"/>
          <a:stretch/>
        </p:blipFill>
        <p:spPr>
          <a:xfrm>
            <a:off x="2411280" y="3500280"/>
            <a:ext cx="4248360" cy="249264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rostokąt 3"/>
          <p:cNvSpPr/>
          <p:nvPr/>
        </p:nvSpPr>
        <p:spPr>
          <a:xfrm>
            <a:off x="250920" y="5013360"/>
            <a:ext cx="864216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0000"/>
                </a:solidFill>
                <a:latin typeface="Monotype Corsiva"/>
              </a:rPr>
              <a:t>dziękujemy</a:t>
            </a:r>
            <a:endParaRPr b="1" lang="en-US" sz="3200" spc="-1" strike="noStrike">
              <a:solidFill>
                <a:srgbClr val="002f68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2f68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OMASZ KAŁUŻNY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KRZYSZTOF HEJOSZ prezes@bialystok.sr.gov.pl                                      prezes@katowice-zachod.sr.gov.pl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 marL="457200" indent="-4572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225" name="Tytuł 1"/>
          <p:cNvSpPr/>
          <p:nvPr/>
        </p:nvSpPr>
        <p:spPr>
          <a:xfrm>
            <a:off x="324000" y="0"/>
            <a:ext cx="85690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</p:txBody>
      </p:sp>
      <p:pic>
        <p:nvPicPr>
          <p:cNvPr id="226" name="Picture 2" descr="http://t3.gstatic.com/images?q=tbn:ANd9GcTJp4faazC3WlUw7ZJaSKyzxhdSdETlpaZZO84YTjqHVS6Z9UXU"/>
          <p:cNvPicPr/>
          <p:nvPr/>
        </p:nvPicPr>
        <p:blipFill>
          <a:blip r:embed="rId1"/>
          <a:stretch/>
        </p:blipFill>
        <p:spPr>
          <a:xfrm>
            <a:off x="3132000" y="2421000"/>
            <a:ext cx="2814840" cy="2305080"/>
          </a:xfrm>
          <a:prstGeom prst="rect">
            <a:avLst/>
          </a:prstGeom>
          <a:ln w="0">
            <a:noFill/>
          </a:ln>
        </p:spPr>
      </p:pic>
      <p:sp>
        <p:nvSpPr>
          <p:cNvPr id="227" name="Prostokąt 2"/>
          <p:cNvSpPr/>
          <p:nvPr/>
        </p:nvSpPr>
        <p:spPr>
          <a:xfrm>
            <a:off x="2987640" y="162864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4400" spc="-1" strike="noStrike">
                <a:solidFill>
                  <a:srgbClr val="c0504d"/>
                </a:solidFill>
                <a:latin typeface="Monotype Corsiva"/>
              </a:rPr>
              <a:t>pytania ???</a:t>
            </a:r>
            <a:endParaRPr b="1" lang="en-US" sz="44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228" name="Prostokąt 1"/>
          <p:cNvSpPr/>
          <p:nvPr/>
        </p:nvSpPr>
        <p:spPr>
          <a:xfrm>
            <a:off x="250920" y="379440"/>
            <a:ext cx="8642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PROJEKT „PWP EDUKACJA W DZIEDZINIE ZARZĄDZANIA CZASEM                                  I KOSZTAMI POSTĘPOWAŃ SĄDOWYCH – CASE MANAGEMENT”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229" name="Symbol zastępczy numeru slajdu 2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1C748-AF40-462A-B7D3-8F65B6A985F4}" type="slidenum">
              <a:rPr b="0" lang="pl-PL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ole tekstowe 3"/>
          <p:cNvSpPr/>
          <p:nvPr/>
        </p:nvSpPr>
        <p:spPr>
          <a:xfrm>
            <a:off x="428760" y="214308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44" name="Tytuł 1"/>
          <p:cNvSpPr/>
          <p:nvPr/>
        </p:nvSpPr>
        <p:spPr>
          <a:xfrm>
            <a:off x="306360" y="476280"/>
            <a:ext cx="856944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PROJEKT „PWP EDUKACJA W DZIEDZINIE ZARZĄDZANIA CZASEM I KOSZTAMI POSTĘPOWAŃ SĄDOWYCH – CASE MANAGEMENT”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24000" y="1483920"/>
            <a:ext cx="527832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RTNERZY PROJEKTU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buClr>
                <a:srgbClr val="c0504d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DISTRICT COURT OF ROERMOND - THE NETHERL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buClr>
                <a:srgbClr val="c0504d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SAXON STATE MINISTRY OF JUSTICE AND EUROPEAN AFFAIRS - GER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buClr>
                <a:srgbClr val="c0504d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MINISTRY OF JUSTICE, DEPARTMENT OF JUDICIAL ADMINISTRATION, TRAINING UNIT - FIN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buClr>
                <a:srgbClr val="c0504d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ROYAL COURT OF JUSTICE, JUDICIAL OFFICE - ENG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buClr>
                <a:srgbClr val="c0504d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KRAJOWA SZKOŁA SĄDOWNICTWA                                                     I PROKURATURY - POLS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ymbol zastępczy numeru slajdu 4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86BED-E045-4E24-AAA5-F8A7A99DBAB7}" type="slidenum">
              <a:rPr b="0" lang="pl-PL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  <p:pic>
        <p:nvPicPr>
          <p:cNvPr id="147" name="Obraz 5" descr="ręce.jpg"/>
          <p:cNvPicPr/>
          <p:nvPr/>
        </p:nvPicPr>
        <p:blipFill>
          <a:blip r:embed="rId1"/>
          <a:stretch/>
        </p:blipFill>
        <p:spPr>
          <a:xfrm>
            <a:off x="5580000" y="2421000"/>
            <a:ext cx="3230640" cy="287964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ole tekstowe 3"/>
          <p:cNvSpPr/>
          <p:nvPr/>
        </p:nvSpPr>
        <p:spPr>
          <a:xfrm>
            <a:off x="428760" y="214308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49" name="Tytuł 1"/>
          <p:cNvSpPr/>
          <p:nvPr/>
        </p:nvSpPr>
        <p:spPr>
          <a:xfrm>
            <a:off x="306360" y="476280"/>
            <a:ext cx="856944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PROJEKT „PWP EDUKACJA W DZIEDZINIE ZARZĄDZANIA CZASEM I KOSZTAMI POSTĘPOWAŃ SĄDOWYCH – CASE MANAGEMENT”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50" name="Symbol zastępczy numeru slajdu 4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FC4D0-259C-4975-8FB6-7435758C2A23}" type="slidenum">
              <a:rPr b="0" lang="pl-PL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51" name="Prostokąt 6"/>
          <p:cNvSpPr/>
          <p:nvPr/>
        </p:nvSpPr>
        <p:spPr>
          <a:xfrm>
            <a:off x="1258920" y="2276640"/>
            <a:ext cx="673200" cy="583920"/>
          </a:xfrm>
          <a:prstGeom prst="rect">
            <a:avLst/>
          </a:prstGeom>
          <a:gradFill rotWithShape="0">
            <a:gsLst>
              <a:gs pos="0">
                <a:srgbClr val="e2e7f2"/>
              </a:gs>
              <a:gs pos="100000">
                <a:srgbClr val="57b3ff"/>
              </a:gs>
            </a:gsLst>
            <a:lin ang="3960000"/>
          </a:gradFill>
          <a:ln w="0">
            <a:noFill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f68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52" name="Prostokąt 7"/>
          <p:cNvSpPr/>
          <p:nvPr/>
        </p:nvSpPr>
        <p:spPr>
          <a:xfrm>
            <a:off x="1258920" y="3068640"/>
            <a:ext cx="673200" cy="584280"/>
          </a:xfrm>
          <a:prstGeom prst="rect">
            <a:avLst/>
          </a:prstGeom>
          <a:gradFill rotWithShape="0">
            <a:gsLst>
              <a:gs pos="0">
                <a:srgbClr val="e2e7f2"/>
              </a:gs>
              <a:gs pos="100000">
                <a:srgbClr val="57b3ff"/>
              </a:gs>
            </a:gsLst>
            <a:lin ang="3960000"/>
          </a:gradFill>
          <a:ln w="0">
            <a:noFill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f68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53" name="Prostokąt 9"/>
          <p:cNvSpPr/>
          <p:nvPr/>
        </p:nvSpPr>
        <p:spPr>
          <a:xfrm>
            <a:off x="1258920" y="3860640"/>
            <a:ext cx="673200" cy="584280"/>
          </a:xfrm>
          <a:prstGeom prst="rect">
            <a:avLst/>
          </a:prstGeom>
          <a:gradFill rotWithShape="0">
            <a:gsLst>
              <a:gs pos="0">
                <a:srgbClr val="e2e7f2"/>
              </a:gs>
              <a:gs pos="100000">
                <a:srgbClr val="57b3ff"/>
              </a:gs>
            </a:gsLst>
            <a:lin ang="3960000"/>
          </a:gradFill>
          <a:ln w="0">
            <a:noFill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f68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54" name="Prostokąt 10"/>
          <p:cNvSpPr/>
          <p:nvPr/>
        </p:nvSpPr>
        <p:spPr>
          <a:xfrm>
            <a:off x="1258920" y="4653000"/>
            <a:ext cx="673200" cy="584280"/>
          </a:xfrm>
          <a:prstGeom prst="rect">
            <a:avLst/>
          </a:prstGeom>
          <a:gradFill rotWithShape="0">
            <a:gsLst>
              <a:gs pos="0">
                <a:srgbClr val="e2e7f2"/>
              </a:gs>
              <a:gs pos="100000">
                <a:srgbClr val="57b3ff"/>
              </a:gs>
            </a:gsLst>
            <a:lin ang="3960000"/>
          </a:gradFill>
          <a:ln w="0">
            <a:noFill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f68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55" name="Prostokąt 11"/>
          <p:cNvSpPr/>
          <p:nvPr/>
        </p:nvSpPr>
        <p:spPr>
          <a:xfrm>
            <a:off x="1187280" y="5589720"/>
            <a:ext cx="673200" cy="583920"/>
          </a:xfrm>
          <a:prstGeom prst="rect">
            <a:avLst/>
          </a:prstGeom>
          <a:gradFill rotWithShape="0">
            <a:gsLst>
              <a:gs pos="0">
                <a:srgbClr val="e2e7f2"/>
              </a:gs>
              <a:gs pos="100000">
                <a:srgbClr val="57b3ff"/>
              </a:gs>
            </a:gsLst>
            <a:lin ang="3960000"/>
          </a:gradFill>
          <a:ln w="0">
            <a:noFill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f68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56" name="Prostokąt 12"/>
          <p:cNvSpPr/>
          <p:nvPr/>
        </p:nvSpPr>
        <p:spPr>
          <a:xfrm>
            <a:off x="1908000" y="2276640"/>
            <a:ext cx="6215400" cy="583920"/>
          </a:xfrm>
          <a:prstGeom prst="rect">
            <a:avLst/>
          </a:prstGeom>
          <a:solidFill>
            <a:srgbClr val="f1f3f9"/>
          </a:solidFill>
          <a:ln w="0">
            <a:noFill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 marL="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zarządzanie przepływem spraw – case flow i case management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 marL="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57" name="Prostokąt 13"/>
          <p:cNvSpPr/>
          <p:nvPr/>
        </p:nvSpPr>
        <p:spPr>
          <a:xfrm>
            <a:off x="1908000" y="3068640"/>
            <a:ext cx="6215400" cy="584280"/>
          </a:xfrm>
          <a:prstGeom prst="rect">
            <a:avLst/>
          </a:prstGeom>
          <a:solidFill>
            <a:srgbClr val="f1f3f9"/>
          </a:solidFill>
          <a:ln w="0">
            <a:noFill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zarządzanie czasem i kosztami postępowań 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standaryzacja postępowań sądowych 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58" name="Prostokąt 14"/>
          <p:cNvSpPr/>
          <p:nvPr/>
        </p:nvSpPr>
        <p:spPr>
          <a:xfrm>
            <a:off x="1908000" y="3860640"/>
            <a:ext cx="6215400" cy="584280"/>
          </a:xfrm>
          <a:prstGeom prst="rect">
            <a:avLst/>
          </a:prstGeom>
          <a:solidFill>
            <a:srgbClr val="f1f3f9"/>
          </a:solidFill>
          <a:ln w="0">
            <a:noFill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zarządzanie obciążeniem pracą w sądach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59" name="Prostokąt 15"/>
          <p:cNvSpPr/>
          <p:nvPr/>
        </p:nvSpPr>
        <p:spPr>
          <a:xfrm>
            <a:off x="1908000" y="4653000"/>
            <a:ext cx="6215400" cy="584280"/>
          </a:xfrm>
          <a:prstGeom prst="rect">
            <a:avLst/>
          </a:prstGeom>
          <a:solidFill>
            <a:srgbClr val="f1f3f9"/>
          </a:solidFill>
          <a:ln w="0">
            <a:noFill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wykorzystywanie technik informatycznych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– </a:t>
            </a: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IT case managament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60" name="Prostokąt 16"/>
          <p:cNvSpPr/>
          <p:nvPr/>
        </p:nvSpPr>
        <p:spPr>
          <a:xfrm>
            <a:off x="1908000" y="5445000"/>
            <a:ext cx="6215400" cy="863640"/>
          </a:xfrm>
          <a:prstGeom prst="rect">
            <a:avLst/>
          </a:prstGeom>
          <a:solidFill>
            <a:srgbClr val="f1f3f9"/>
          </a:solidFill>
          <a:ln w="0">
            <a:noFill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szkolenia dla sędziów w zakresie: zarządzania przepływem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spraw, zarządzania czasem i kosztami postępowań sądowych,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profesjonalizacji czynności sądowych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61" name="Prostokąt 3"/>
          <p:cNvSpPr/>
          <p:nvPr/>
        </p:nvSpPr>
        <p:spPr>
          <a:xfrm>
            <a:off x="250920" y="1628640"/>
            <a:ext cx="889308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EMINARIA UCZESTNIKÓW PROJEKTU</a:t>
            </a: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2f68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2f68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ole tekstowe 3"/>
          <p:cNvSpPr/>
          <p:nvPr/>
        </p:nvSpPr>
        <p:spPr>
          <a:xfrm>
            <a:off x="428760" y="214308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63" name="Tytuł 1"/>
          <p:cNvSpPr/>
          <p:nvPr/>
        </p:nvSpPr>
        <p:spPr>
          <a:xfrm>
            <a:off x="306360" y="476280"/>
            <a:ext cx="856944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PROJEKT „PWP EDUKACJA W DZIEDZINIE ZARZĄDZANIA CZASEM I KOSZTAMI POSTĘPOWAŃ SĄDOWYCH – CASE MANAGEMENT”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64" name="Symbol zastępczy numeru slajdu 4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A69B8-CAE1-4A6F-8689-F754D129C07D}" type="slidenum">
              <a:rPr b="0" lang="pl-PL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65" name="Prostokąt 6"/>
          <p:cNvSpPr/>
          <p:nvPr/>
        </p:nvSpPr>
        <p:spPr>
          <a:xfrm>
            <a:off x="1258920" y="2276640"/>
            <a:ext cx="673200" cy="583920"/>
          </a:xfrm>
          <a:prstGeom prst="rect">
            <a:avLst/>
          </a:prstGeom>
          <a:gradFill rotWithShape="0">
            <a:gsLst>
              <a:gs pos="0">
                <a:srgbClr val="e2e7f2"/>
              </a:gs>
              <a:gs pos="100000">
                <a:srgbClr val="57b3ff"/>
              </a:gs>
            </a:gsLst>
            <a:lin ang="3960000"/>
          </a:gradFill>
          <a:ln w="0">
            <a:noFill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f68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66" name="Prostokąt 11"/>
          <p:cNvSpPr/>
          <p:nvPr/>
        </p:nvSpPr>
        <p:spPr>
          <a:xfrm>
            <a:off x="1258920" y="3213000"/>
            <a:ext cx="673200" cy="584280"/>
          </a:xfrm>
          <a:prstGeom prst="rect">
            <a:avLst/>
          </a:prstGeom>
          <a:gradFill rotWithShape="0">
            <a:gsLst>
              <a:gs pos="0">
                <a:srgbClr val="e2e7f2"/>
              </a:gs>
              <a:gs pos="100000">
                <a:srgbClr val="57b3ff"/>
              </a:gs>
            </a:gsLst>
            <a:lin ang="3960000"/>
          </a:gradFill>
          <a:ln w="0">
            <a:noFill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f68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67" name="Prostokąt 12"/>
          <p:cNvSpPr/>
          <p:nvPr/>
        </p:nvSpPr>
        <p:spPr>
          <a:xfrm>
            <a:off x="1908000" y="2276640"/>
            <a:ext cx="6215400" cy="583920"/>
          </a:xfrm>
          <a:prstGeom prst="rect">
            <a:avLst/>
          </a:prstGeom>
          <a:solidFill>
            <a:srgbClr val="f1f3f9"/>
          </a:solidFill>
          <a:ln w="0">
            <a:noFill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 marL="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„</a:t>
            </a: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Menedżeryzacja w sądach – wyzwania, szanse i zagrożenia”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 marL="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68" name="Prostokąt 16"/>
          <p:cNvSpPr/>
          <p:nvPr/>
        </p:nvSpPr>
        <p:spPr>
          <a:xfrm>
            <a:off x="1908000" y="3068640"/>
            <a:ext cx="6215400" cy="863640"/>
          </a:xfrm>
          <a:prstGeom prst="rect">
            <a:avLst/>
          </a:prstGeom>
          <a:solidFill>
            <a:srgbClr val="f1f3f9"/>
          </a:solidFill>
          <a:ln w="0">
            <a:noFill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„</a:t>
            </a: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Popularyzacja i upowszechnianie europejskich rozwiązań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usprawniających przepływ spraw i tok postępowań sądowych” 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69" name="Prostokąt 3"/>
          <p:cNvSpPr/>
          <p:nvPr/>
        </p:nvSpPr>
        <p:spPr>
          <a:xfrm>
            <a:off x="250920" y="1628640"/>
            <a:ext cx="889308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TWARTE KONFERENCJE</a:t>
            </a: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2f68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2f68"/>
              </a:solidFill>
              <a:latin typeface="Arial"/>
            </a:endParaRPr>
          </a:p>
        </p:txBody>
      </p:sp>
      <p:pic>
        <p:nvPicPr>
          <p:cNvPr id="170" name="Picture 9" descr="http://sphotos-a.xx.fbcdn.net/hphotos-ash4/303367_387350761305216_2083167439_n.jpg"/>
          <p:cNvPicPr/>
          <p:nvPr/>
        </p:nvPicPr>
        <p:blipFill>
          <a:blip r:embed="rId1"/>
          <a:stretch/>
        </p:blipFill>
        <p:spPr>
          <a:xfrm>
            <a:off x="1908000" y="4292640"/>
            <a:ext cx="5832720" cy="207324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ole tekstowe 3"/>
          <p:cNvSpPr/>
          <p:nvPr/>
        </p:nvSpPr>
        <p:spPr>
          <a:xfrm>
            <a:off x="428760" y="214308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72" name="Tytuł 1"/>
          <p:cNvSpPr/>
          <p:nvPr/>
        </p:nvSpPr>
        <p:spPr>
          <a:xfrm>
            <a:off x="324000" y="0"/>
            <a:ext cx="85690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PROJEKT „PWP EDUKACJA W DZIEDZINIE ZARZĄDZANIA CZASEM I KOSZTAMI POSTĘPOWAŃ SĄDOWYCH – CASE MANAGEMENT”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73" name="Symbol zastępczy numeru slajdu 2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E8BA0-7AB9-4320-A7F8-82BB83B3D286}" type="slidenum">
              <a:rPr b="0" lang="pl-PL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  <p:pic>
        <p:nvPicPr>
          <p:cNvPr id="174" name="rg_hi" descr="ANd9GcTDkUG-brz7IKGd5SUv-ePKgMVjqYfX4dQBVlMHkp1puXvwYVxCyA"/>
          <p:cNvPicPr/>
          <p:nvPr/>
        </p:nvPicPr>
        <p:blipFill>
          <a:blip r:embed="rId1"/>
          <a:stretch/>
        </p:blipFill>
        <p:spPr>
          <a:xfrm>
            <a:off x="3348000" y="3068640"/>
            <a:ext cx="2519280" cy="2521080"/>
          </a:xfrm>
          <a:prstGeom prst="rect">
            <a:avLst/>
          </a:prstGeom>
          <a:ln w="0">
            <a:noFill/>
          </a:ln>
        </p:spPr>
      </p:pic>
      <p:sp>
        <p:nvSpPr>
          <p:cNvPr id="175" name="Prostokąt 3"/>
          <p:cNvSpPr/>
          <p:nvPr/>
        </p:nvSpPr>
        <p:spPr>
          <a:xfrm>
            <a:off x="395280" y="1628640"/>
            <a:ext cx="8416800" cy="31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EMINARIUM</a:t>
            </a: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ZARZĄDZANIE PRZEPŁYWEM SPRAW – CASE FLOW</a:t>
            </a:r>
            <a:endParaRPr b="1" lang="en-US" sz="22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ZARZĄDZANIE SPRAWĄ – CASE MANAGEMENT</a:t>
            </a:r>
            <a:endParaRPr b="1" lang="en-US" sz="22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2f68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250920" y="5805360"/>
            <a:ext cx="8642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0000"/>
                </a:solidFill>
                <a:latin typeface="Monotype Corsiva"/>
              </a:rPr>
              <a:t>prezentacje partnerów projektu - otwarta dyskusja </a:t>
            </a:r>
            <a:endParaRPr b="1" lang="en-US" sz="3600" spc="-1" strike="noStrike">
              <a:solidFill>
                <a:srgbClr val="002f68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ole tekstowe 3"/>
          <p:cNvSpPr/>
          <p:nvPr/>
        </p:nvSpPr>
        <p:spPr>
          <a:xfrm>
            <a:off x="428760" y="214308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78" name="Prostokąt 3"/>
          <p:cNvSpPr/>
          <p:nvPr/>
        </p:nvSpPr>
        <p:spPr>
          <a:xfrm>
            <a:off x="250920" y="1700280"/>
            <a:ext cx="86421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ŁOŻENIE MERYTORYCZNE </a:t>
            </a: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marL="177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2f68"/>
              </a:solidFill>
              <a:latin typeface="Arial"/>
            </a:endParaRPr>
          </a:p>
          <a:p>
            <a:pPr marL="1778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ONCEPCJA WYMIANY DOŚWIADCZEŃ W TRZECH PŁASZCZYZNACH:</a:t>
            </a:r>
            <a:endParaRPr b="1" lang="en-US" sz="1800" spc="-1" strike="noStrike">
              <a:solidFill>
                <a:srgbClr val="002f68"/>
              </a:solidFill>
              <a:latin typeface="Arial"/>
            </a:endParaRPr>
          </a:p>
          <a:p>
            <a:pPr marL="1778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JĘCIE INSTYTUCJONALNE – MODERNIZACJA ORGANIZACJI PRACY</a:t>
            </a:r>
            <a:endParaRPr b="1" lang="en-US" sz="1800" spc="-1" strike="noStrike">
              <a:solidFill>
                <a:srgbClr val="002f68"/>
              </a:solidFill>
              <a:latin typeface="Arial"/>
            </a:endParaRPr>
          </a:p>
          <a:p>
            <a:pPr marL="1778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JĘCIE KADROWE – MODERNIZACJA ZARZĄDZANIA KADRAMI</a:t>
            </a:r>
            <a:endParaRPr b="1" lang="en-US" sz="1800" spc="-1" strike="noStrike">
              <a:solidFill>
                <a:srgbClr val="002f68"/>
              </a:solidFill>
              <a:latin typeface="Arial"/>
            </a:endParaRPr>
          </a:p>
          <a:p>
            <a:pPr marL="1778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JĘCIE JEDNOSTKOWE – MODERNIZACJA „SAMOZARZĄDZANIA”</a:t>
            </a:r>
            <a:endParaRPr b="1" lang="en-US" sz="18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79" name="Tytuł 1"/>
          <p:cNvSpPr/>
          <p:nvPr/>
        </p:nvSpPr>
        <p:spPr>
          <a:xfrm>
            <a:off x="324000" y="0"/>
            <a:ext cx="85690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PROJEKT „PWP EDUKACJA W DZIEDZINIE ZARZĄDZANIA CZASEM I KOSZTAMI POSTĘPOWAŃ SĄDOWYCH – CASE MANAGEMENT”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</p:txBody>
      </p:sp>
      <p:pic>
        <p:nvPicPr>
          <p:cNvPr id="180" name="Obraz 5" descr="MPj04392730000[1].jpg"/>
          <p:cNvPicPr/>
          <p:nvPr/>
        </p:nvPicPr>
        <p:blipFill>
          <a:blip r:embed="rId1"/>
          <a:stretch/>
        </p:blipFill>
        <p:spPr>
          <a:xfrm>
            <a:off x="3035160" y="4145040"/>
            <a:ext cx="3073680" cy="4145040"/>
          </a:xfrm>
          <a:prstGeom prst="rect">
            <a:avLst/>
          </a:prstGeom>
          <a:ln w="0">
            <a:noFill/>
          </a:ln>
        </p:spPr>
      </p:pic>
      <p:sp>
        <p:nvSpPr>
          <p:cNvPr id="181" name="Symbol zastępczy numeru slajdu 1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38A97-8261-4902-ADE0-974612FC9D4D}" type="slidenum">
              <a:rPr b="0" lang="pl-PL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ole tekstowe 3"/>
          <p:cNvSpPr/>
          <p:nvPr/>
        </p:nvSpPr>
        <p:spPr>
          <a:xfrm>
            <a:off x="428760" y="214308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83" name="Prostokąt 3"/>
          <p:cNvSpPr/>
          <p:nvPr/>
        </p:nvSpPr>
        <p:spPr>
          <a:xfrm>
            <a:off x="179280" y="1557360"/>
            <a:ext cx="87854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5040" indent="-635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 Narrow"/>
              </a:rPr>
              <a:t>CASE FLOW – UJĘCIE INSTYTUCJONALNE: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wpływ spraw do sądu (poziom wpływu, załatwialność, pozostałość) 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przepływ spraw - "cykl życia sprawy„ (od biura podawczego, przez przewodniczącego wydziału i sekretariat  do sędziego włącznie)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sprawy powtarzalne (proste),  a sprawy o skomplikowanym stanie faktycznym i prawnym,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wykorzystanie technik informatycznych – elektroniczna biurowość sądowa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urządzenia ewidencyjne i zarządzanie sprawami sądowymi,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czynności nadzorcze prezesa sądu i przewodniczącego wydziału,"nadzór" opinii publicznej,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systemy organizacji rozpraw, nagrywanie przebiegu rozpraw, digitalizacja akt sądowych 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84" name="Tytuł 1"/>
          <p:cNvSpPr/>
          <p:nvPr/>
        </p:nvSpPr>
        <p:spPr>
          <a:xfrm>
            <a:off x="324000" y="0"/>
            <a:ext cx="85690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PROJEKT „PWP EDUKACJA W DZIEDZINIE ZARZĄDZANIA CZASEM I KOSZTAMI POSTĘPOWAŃ SĄDOWYCH – CASE MANAGEMENT”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85" name="Symbol zastępczy numeru slajdu 1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264DA-9168-4202-BD53-DFB7F83A2C4B}" type="slidenum">
              <a:rPr b="0" lang="pl-PL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1187280" y="4653000"/>
            <a:ext cx="6697800" cy="175896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ole tekstowe 3"/>
          <p:cNvSpPr/>
          <p:nvPr/>
        </p:nvSpPr>
        <p:spPr>
          <a:xfrm>
            <a:off x="428760" y="214308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88" name="Prostokąt 3"/>
          <p:cNvSpPr/>
          <p:nvPr/>
        </p:nvSpPr>
        <p:spPr>
          <a:xfrm>
            <a:off x="250920" y="1557360"/>
            <a:ext cx="8569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5040" indent="-635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 Narrow"/>
              </a:rPr>
              <a:t>CASE FLOW – UJĘCIE KADROWE: 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wstępne czynności administracyjne (rejestracja wstępna i szczegółowa)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zasadnicze czynności związane z biegiem spraw (realizowane tradycyjnie przez pracowników administracyjnych oraz przy wykorzystaniu systemów elektronicznych)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czynności przewodniczącego wydziału 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model współpracy administracji sądowej z sędziami (systemy dwójkowe, zespoły zadaniowe, inne formy współpracy)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realizacja czynności na salach rozpraw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przygotowywanie szablonów czynności sądowych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wzorce powtarzalnych czynności orzeczniczych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89" name="Tytuł 1"/>
          <p:cNvSpPr/>
          <p:nvPr/>
        </p:nvSpPr>
        <p:spPr>
          <a:xfrm>
            <a:off x="324000" y="0"/>
            <a:ext cx="85690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PROJEKT „PWP EDUKACJA W DZIEDZINIE ZARZĄDZANIA CZASEM I KOSZTAMI POSTĘPOWAŃ SĄDOWYCH – CASE MANAGEMENT”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90" name="Symbol zastępczy numeru slajdu 1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309CB-07DA-428E-B755-46DA0E755D8B}" type="slidenum">
              <a:rPr b="0" lang="pl-PL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2124000" y="4797360"/>
            <a:ext cx="4923000" cy="158436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ole tekstowe 3"/>
          <p:cNvSpPr/>
          <p:nvPr/>
        </p:nvSpPr>
        <p:spPr>
          <a:xfrm>
            <a:off x="428760" y="214308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93" name="Prostokąt 3"/>
          <p:cNvSpPr/>
          <p:nvPr/>
        </p:nvSpPr>
        <p:spPr>
          <a:xfrm>
            <a:off x="250920" y="1700280"/>
            <a:ext cx="8569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5040" indent="-635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 Narrow"/>
              </a:rPr>
              <a:t>CASE MANAGEMENT – UJĘCIE INSTYTUCJONALNE: 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zasady przydziału spraw 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czynności organizacyjne (standaryzacja postępowań)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czynności administracyjne (wykorzystywanie technik informatycznych)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czynności orzecznicze (specjalizacja sędziów)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zarządzanie czasem postępowań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Narrow"/>
              </a:rPr>
              <a:t>zarządzanie kosztami postępowań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94" name="Tytuł 1"/>
          <p:cNvSpPr/>
          <p:nvPr/>
        </p:nvSpPr>
        <p:spPr>
          <a:xfrm>
            <a:off x="324000" y="0"/>
            <a:ext cx="85690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PROJEKT „PWP EDUKACJA W DZIEDZINIE ZARZĄDZANIA CZASEM I KOSZTAMI POSTĘPOWAŃ SĄDOWYCH – CASE MANAGEMENT”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95" name="Symbol zastępczy numeru slajdu 1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54CC3-794C-4303-91C8-B36FA8FEB081}" type="slidenum">
              <a:rPr b="0" lang="pl-PL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2771640" y="4149720"/>
            <a:ext cx="3672000" cy="21733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7T13:46:08Z</dcterms:created>
  <dc:creator>kssip</dc:creator>
  <dc:description/>
  <dc:language>en-US</dc:language>
  <cp:lastModifiedBy>tomkal</cp:lastModifiedBy>
  <dcterms:modified xsi:type="dcterms:W3CDTF">2012-12-09T11:22:34Z</dcterms:modified>
  <cp:revision>233</cp:revision>
  <dc:subject/>
  <dc:title>Slajd 1</dc:title>
</cp:coreProperties>
</file>