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434CF-A72A-482B-94C4-C8DB73CF8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2CC3C-14CF-4F7C-8AA1-08A3D9CD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6CD43-B2E5-4FF6-AF76-3020C2A1C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AD6DD-676F-4D54-B96A-11AF09A50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5087C-85A5-4933-95C7-2C0233989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5B455-5E21-4027-A2DE-85B881A8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4FE23-CA2D-4D46-A2C4-D113EB945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1CBFA-6268-4AE9-8622-973F6EB24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2EB97-572F-4BD5-B5D0-1FF6641C9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AE5E1-4E6E-431F-95C3-CF1141409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415D2-6880-4627-A5D0-D09F940D0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228B4-ACB7-44B0-8A37-3A033B05F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D5BF-E4C2-451E-BFB5-A090018D27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IVIL PROCEDURE RULES (introduced April 1999)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se Management is a vital and essential function for any judge involved with civil litigation. Indeed, it is the crucial lubricant of the Civil Procedure Rules without which it would be almost impossible for the Court to apply, and the parties to further, the Overriding Objective. Do it well and a case should proceed to trial smoothly; do it badly or inadequately and you will be left with a drifting case which will ultimately require more time and resource than would otherwise be needed.</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IAL WINDO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ver possible, timetable a case through to include a trial windo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 a time estima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UTES BETWEEN THE STATE AND PARENTS OVER CHILDRE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verriding objectiv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actice Direction has the overriding objective of enabling the court to deal with cases justly, having regard to the welfare issues involv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ling with a case justly includes, so far as is practicab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nsuring that it is dealt with expeditiously and fairl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aling with the case in ways which are proportionate to the nature, importance and complexity of the issu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ensuring that the parties are on an equal foot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saving expense; an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llotting to it an appropriate share of the court’s resources, while taking into account the need to allot resources to other cas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imetable for the Chil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2] The timetable for the child is defined by the rules as the timetable set by the court in accordance with the duties under ss 1 and 32 of the 1989 Act and shal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 take into account dates of significant steps in the life of the child who is the subject of the proceedings;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 be appropriate for the child. The court will set the timetable for the proceedings in accordance with the timetable for the child and review this timetable regularly. Where adjustments are made to the timetable for the child, the timetable for the proceedings will have to be reviewed. The timetable for the child is to be considered at every stage of th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ceedings and whenever the court is asked to make directions whether at a hearing or otherw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kills needed for effective Case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thorough knowledge of the c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lear idea of the key iss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ication of the evidence needed to resolve those iss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awareness of the ‘Timetable for the Chil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can these skills be implement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judicial continu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chieving co-operation between the par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ensuring that all directions are carried out in a timely mann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making the advocates aware throughout who is in the ‘driving se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p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 [5.5]states as follow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rties and their representatives should co-operate with the court in case management, including the fixing of timetables to avoid unacceptable delay, and in the crystallisation and resolution of the issues on which the case tur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MINAL PROCEEDING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riding Objec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1.1-(1). The overriding objective of this new code is that criminal cases be dealt with just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ealing with a criminal case justly inclu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acquitting the innocent and convicting the guil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dealing with the prosecution and defence fair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recognising the rights of a defendant particularly those under Article 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 respecting the interests of witnesses, victims and jurors and keeping them informed of the progress of the cas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 dealing with the case efficiently and expeditious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 ensuring that appropriate information is available to the court when bail and sentence are considered 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g) dealing with the case in ways that take in 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 the gravity of the offence alle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i) the complexity of what is i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ii) the severity of the consequences for the defendant and others affected 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v) the needs of other c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1.2. Every participant has a duty to conduct the case in accordance with the overriding objec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is includes complying with the Rules, practice directions and directions made by the court and informing the court of any failures to take steps required by the Rules or by court order-“the duty to gr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 1.3. The court itself has a duty to further the overriding objec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hands on case management, both pre-trial and throughout the trial itself, is now recognised as an essential part of the judge’s duty. The profession must understand that this has become and will remain part of the normal trial process and that cases must be prepared and conducted according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erms of the Rules, Part 3 is at the heart of the case management regime. It imposes obligations both on the court and the parti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1) The court must further the overriding objective by actively managing the case</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ctive case management includ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early identification of the real issu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 early identification of the needs of witness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 achieving certainty as to what must be done, by whom and when, in particular by the early setting of a timetable for the progress of the case</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 monitoring the progress of the case and compliance with direction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ensuring that evidence, whether disputed or not is presented in the shortest and clearest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ase Progression Offic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3.4- The parties and the court each have a duty to nominate a case progression officer. The role of that person is essentially to “monitor compliance with directions”. He or she is (or ought to be) a crucial link between the par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M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3.8(3)-In order to prepare for a trial in the crown court, the court must conduct a plea and case management hearing unless the circumstances make that un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RIDING OBJECTIV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R 1.1 - (1) These Rules are a new procedural code with the overriding objective of enabling the court to deal with cases just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Dealing with a case justly includes, so far as is practicable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ensuring that the parties are on an equal foot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saving expen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dealing with the case in ways which are proportionate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to the amount of money involv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to the importance of the c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o the complexity of the issues;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to the financial position of each part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COMPLIANCE WITH ORDERS AND RU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le 3.5(6)-If a party fails to comply with a rule or direction, the court m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fix, postpone, bring forward, extend, cancel or adjourn a hea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exercise its power to make a costs order 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impose such other sanction as may be appropri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Picture 8" descr="Bunker"/>
          <p:cNvPicPr/>
          <p:nvPr/>
        </p:nvPicPr>
        <p:blipFill>
          <a:blip r:embed="rId1"/>
          <a:stretch/>
        </p:blipFill>
        <p:spPr>
          <a:xfrm>
            <a:off x="2666880" y="2433600"/>
            <a:ext cx="3810240" cy="28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ensuring it is dealt with expeditiously and fairly; a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allotting to it an appropriate share of the court's resources, while taking into account the need to allot resources to other cas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 The court must seek to give effect to the overriding objective when it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exercises any power given to it by the Rules; 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interprets any ru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The parties are required to help the court to further the overriding objective CPR 3.1</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WHAT IS CASE MANAGE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e-management is actually defined in detail in CPR 1.4 where the requirement is that the court must “actively” manage cases; not, it will be noted, the parti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rt’s duty to manage c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1) The court must further the overriding objective by actively managing cas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ctive case management includes-(a) encouraging the parties to co-operate with each other in the conduct of the proceeding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identifying the issues at an early stag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deciding promptly which issues need full investigation and trial and accordingly disposing summarily of the othe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 deciding the order in which issues are to be resolv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encouraging the parties to use an alternative dispute resolution procedure if the court considers that appropriate and facilitating the use of such procedur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helping the parties to settle the whole or part of the c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fixing timetables or otherwise controlling the progress of the cas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considering whether the likely benefits of taking a particular step justify the cost of taking 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dealing with as many aspects of the case as it can on the same occas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 dealing with the case without the parties needing to attend at cour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k) making use of technology; 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 giving directions to ensure that the trial of a case proceeds quickly and efficient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URT’S GENERAL POWERS OF MANAG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R 3.1 - (1) The list of powers in this rule is in addition to any other powers given to the court by any other rule or practice direction or by any other enactment or any powers it may otherwise hav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Except where these Rules provide otherwise, the court may (a) extend or shorten the time for compliance with any with any rule, practice direction or court order (even if an application for extension is made after the time for compliance has expir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adjourn or bring forward a hear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require a party or a party's representative to attend the cour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 hold a hearing and receive evidence by telephone or by using any other method of direct oral communicati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direct that part of any proceedings (such as a counterclaim) be dealt with as separate proceeding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stay the whole or part of any proceedings either generally or until a specified date or ev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consolidate proceeding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try two or more claims on the same occas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direct a separate trial of any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 decide the order in which issues are to be tri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 exclude an issue from consider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 dismiss or give judgment on a claim after a decision on a preliminary iss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 take any other step or make any other order for the purpose of managing the case and furthering the overriding objectiv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TO TRACK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ce a defence is filed, the court sends an "allocation questionnaire" to the parties. It provides information to enable the court to allocate the case to a particular "track" and to give directions for the future conduct of the case, often without the need for a hearin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three track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mall claims tr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ast track; an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ulti-trac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mall claims track is the normal track f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claim which has a financial value of not more than £5,00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ast track is the normal track for any clai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has a financial value of not more than £25,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TRIAL CHECK LIS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vide information about the current state of play i.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the parties on target for the trial window?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any further directions need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oral expert evidence need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the time estimate chang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der them to be filed 14-28 days after the last direc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rial window should be 5 weeks later for fast track and 8 weeks later for multi-trac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trial check lists can be dispensed with, but probably only in the most straightforward of cases e.g. fast track assessment of damages or if there has been a very recent case management conferenc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5T13:14:57Z</dcterms:created>
  <dc:creator>gcn40d</dc:creator>
  <dc:description/>
  <dc:language>en-US</dc:language>
  <cp:lastModifiedBy>gcn40d</cp:lastModifiedBy>
  <dcterms:modified xsi:type="dcterms:W3CDTF">2012-12-06T14:53:34Z</dcterms:modified>
  <cp:revision>4</cp:revision>
  <dc:subject/>
  <dc:title>Slide 1</dc:title>
</cp:coreProperties>
</file>