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639240"/>
            <a:ext cx="85564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63924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3360" y="363924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2240" y="161928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5200" y="161928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63924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2240" y="363924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5200" y="363924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58920" y="358560"/>
            <a:ext cx="855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8920" y="363924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3360" y="363924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8920" y="3639240"/>
            <a:ext cx="85564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8920" y="3639240"/>
            <a:ext cx="85564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58920" y="363924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3360" y="363924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52240" y="161928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45200" y="161928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58920" y="363924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52240" y="363924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45200" y="3639240"/>
            <a:ext cx="27550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358560"/>
            <a:ext cx="855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63924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3360" y="363924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3360" y="1619280"/>
            <a:ext cx="41752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639240"/>
            <a:ext cx="8556480" cy="18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a0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801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2" marL="1187280" indent="-22860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3" marL="1606680" indent="-22860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4" marL="2006640" indent="-20952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5" marL="2006640" indent="-20952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6" marL="2006640" indent="-20952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5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21 mei 200730 juli 2007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920" y="6172200"/>
            <a:ext cx="482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Agenda van de Rechtspraak 2008-2011Rechtbank Amsterdam: Nieuwe Heldenda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42AF-7732-4F9F-BAAD-6985FD2362A4}" type="slidenum"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10"/>
          <p:cNvGraphicFramePr/>
          <p:nvPr/>
        </p:nvGraphicFramePr>
        <p:xfrm>
          <a:off x="7010280" y="228600"/>
          <a:ext cx="187344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228600"/>
                    <a:ext cx="18734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a0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6330-66C5-495D-BEE2-17165D768CD1}" type="slidenum"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Object 8"/>
          <p:cNvGraphicFramePr/>
          <p:nvPr/>
        </p:nvGraphicFramePr>
        <p:xfrm>
          <a:off x="7010280" y="228600"/>
          <a:ext cx="1873440" cy="80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228600"/>
                    <a:ext cx="18734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801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2" marL="1187280" indent="-22860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3" marL="1606680" indent="-22860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4" marL="2006640" indent="-20952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5" marL="2006640" indent="-20952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6" marL="2006640" indent="-209520">
              <a:lnSpc>
                <a:spcPts val="25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b1055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3021 mei 2007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NIueweAgenda van de Rechtspraak 2008-2011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SĄD W AMSTERDAMIE</a:t>
            </a:r>
            <a:br>
              <a:rPr sz="4000"/>
            </a:b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graphicFrame>
        <p:nvGraphicFramePr>
          <p:cNvPr id="89" name="Object 7"/>
          <p:cNvGraphicFramePr/>
          <p:nvPr/>
        </p:nvGraphicFramePr>
        <p:xfrm>
          <a:off x="2986200" y="1941480"/>
          <a:ext cx="3230280" cy="32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6200" y="1941480"/>
                    <a:ext cx="323028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Delegacja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ersonel sądowniczy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podstawowe szkolenie naukowe, analogicznie do sędziów z wyjątkiem wstępnego szkolenia dla sędziów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sporządzanie projektów decyzji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wspieranie sędziego w przygotowywaniu spraw, rozprawie, przesłuchaniach i doprowadzaniu spraw do końca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Delegacja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ersonel sądowniczo-administracyjny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wykonywanie prac prawnych </a:t>
            </a:r>
            <a:r>
              <a:rPr b="1" lang="pl-PL" sz="2500" spc="-1" strike="noStrike">
                <a:solidFill>
                  <a:srgbClr val="ff0000"/>
                </a:solidFill>
                <a:latin typeface="Arial"/>
              </a:rPr>
              <a:t>light to the ground </a:t>
            </a: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przez </a:t>
            </a: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sędziów w ustalonych ramach prawnych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postępowanie obejmuje ocenę spraw, wsparcie przy rozprawie, </a:t>
            </a: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rzesłuchaniu</a:t>
            </a:r>
            <a:r>
              <a:rPr b="1" lang="pl-PL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oraz przygotowywanie prostych decyzji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Delegacja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077840"/>
            <a:ext cx="88200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451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451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Monitorowanie jakości: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645120" indent="-2397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wszystkie decyzje przygotowywane przez personel sądowniczy sprawdzane przez sędziego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marL="2451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451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Metoda dot. personelu sądowniczo-administracyjnego: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645120" indent="-2397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Wszystkie postępowania prowadzone przez jednego pracownika sądowniczo-administracyjnego zostały sprawdzone przez innego pracownika sądowniczo-administracyjnego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645120" indent="-2397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Ochrona niektórych pracowników sądowniczych i sędziów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645120" indent="-2397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Regularne monitorowanie jakości pracy przez sędziów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Standardowe przetwarzanie spraw 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60.000 spraw cywilnych sądu w Amsterdamie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15.000 spraw cywilnych wykazujących sprzeczność przez sędziów i pracowników sądowniczych (średni obrót między 4 a 24 mies.)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45.000 spraw cywilnych bez sprzeczności przez pracowników sądowniczo-administracyjnych (obrót 2 tygodnie)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   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Standardowe przetwarzanie spraw 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rzetwarzane 45.000 spraw przez: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jasny proces roboczy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standardowe bloki tekstu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częściowo cyfrowo przetwarzane sprawy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cyfrowy podpis sędziego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AGENDA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Obieg pracy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-2919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lanowanie/wieża kontrolna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-2919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Wzory delegowania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-2919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Standaryzacja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-29196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rocesy robocze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Obieg pracy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Szybki obieg pracy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znaczna interwencja sędziego 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na podstawie prawodawstwa/społeczeństwa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decyzja w ciągu 4 tygodni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Regularny obieg pracy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znaczna interwencja sędziego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decyzja w ciągu 4 do 18 miesięcy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Obieg pracy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8920" y="148896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804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4804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Sądowniczy obieg prac administracyjnych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652680" indent="-24264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brak znacznej interwencji sędziego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652680" indent="-24264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ff0000"/>
                </a:solidFill>
                <a:latin typeface="Arial"/>
              </a:rPr>
              <a:t>little juridicial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652680" indent="-24264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delegowana władza sądownicza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652680" indent="-24264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decyzja w ciągu 2 tygodni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marL="24804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4804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Wyjątkowy obieg pracy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652680" indent="-24264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znaczna interwencja sędziego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652680" indent="-24264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duży nakład pracy / wykracza poza zwykły proces roboczy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652680" indent="-24264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decyzja do ustalenia (indywidualnie)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Planowanie/wieża kontrolna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lanowanie spraw cywilnych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skoncentrowanie planowania według sekcji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uwzględnianie rodzaju sprawy, dostępnych zasobów i sal sądowych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niektóre rodzaje spraw zarezerwowane do przeprowadzenia w rocznym harmonogramie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rzed konsultacją z radą w sprawie dnia  rozprawy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Planowanie/wieża kontrolna 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lanowanie spraw karnych przez wieżę kontrolną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kierowane przez sąd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ciągła współpraca z prokuraturą-radą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sędzia odpowiedzialny za proces planowania (kompletna sprawa i instrukcje sędziego przygotowane) oraz za wyznaczenie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uwaga dla podejmowania decyzji/utraconych możliwości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    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Wieża kontrolna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Rola wieży kontrolnej: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wspieranie sędziego w kompletnym procesie administracyjnym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kompletność akt 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wskazanie czasu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konsultacje z prokuraturą/radą  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żądanie sędziego wstrzymania biegu spraw (uprawnienie na podstawie krajowego protokołu)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Delegacja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postępowanie możliwie jak najniżej w organizacji w związku z aspektem kosztów z monitorowaniem    jakości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sędzia pozostaje odpowiedzialny za wydanie decyzji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8920" y="358560"/>
            <a:ext cx="8556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80166"/>
                </a:solidFill>
                <a:latin typeface="Times New Roman"/>
              </a:rPr>
              <a:t>Delegacja</a:t>
            </a:r>
            <a:endParaRPr b="0" lang="en-US" sz="4000" spc="-1" strike="noStrike">
              <a:solidFill>
                <a:srgbClr val="b801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8920" y="1619280"/>
            <a:ext cx="8556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b1055"/>
                </a:solidFill>
                <a:latin typeface="Arial"/>
              </a:rPr>
              <a:t>Projektowana organizacja</a:t>
            </a: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sędziowie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personel sądowniczy (szkolenie naukowe)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personel sądowniczo-administracyjny (wyższe zawodowe) 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lvl="1" marL="768240" indent="-285480">
              <a:lnSpc>
                <a:spcPts val="2500"/>
              </a:lnSpc>
              <a:spcBef>
                <a:spcPts val="624"/>
              </a:spcBef>
              <a:buClr>
                <a:srgbClr val="97acb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a0f52"/>
                </a:solidFill>
                <a:latin typeface="Arial"/>
              </a:rPr>
              <a:t>personel administracyjny (zawodowe drugiego stopnia)</a:t>
            </a:r>
            <a:r>
              <a:rPr b="0" lang="pl-PL" sz="2500" spc="-1" strike="noStrike">
                <a:solidFill>
                  <a:srgbClr val="0a0f52"/>
                </a:solidFill>
                <a:latin typeface="Arial"/>
              </a:rPr>
              <a:t>   </a:t>
            </a:r>
            <a:endParaRPr b="0" lang="en-US" sz="2500" spc="-1" strike="noStrike">
              <a:solidFill>
                <a:srgbClr val="0a0f52"/>
              </a:solidFill>
              <a:latin typeface="Arial"/>
            </a:endParaRPr>
          </a:p>
          <a:p>
            <a:pPr marL="291960" indent="0">
              <a:lnSpc>
                <a:spcPts val="25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b105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8:10:49Z</dcterms:created>
  <dc:creator/>
  <dc:description/>
  <dc:language>en-US</dc:language>
  <cp:lastModifiedBy>User</cp:lastModifiedBy>
  <cp:lastPrinted>2007-01-17T14:37:33Z</cp:lastPrinted>
  <dcterms:modified xsi:type="dcterms:W3CDTF">2013-01-11T13:03:40Z</dcterms:modified>
  <cp:revision>240</cp:revision>
  <dc:subject/>
  <dc:title>SĄD W AMSTERDAMIE </dc:title>
</cp:coreProperties>
</file>