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8C3-4CCA-465B-86AE-D0A3FEDF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A83A-061C-4403-B30C-5F9D69B04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EDD-33C9-43C0-A701-FFF39D9D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AFC-B0F0-40B7-8E73-444414F6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A3F-7465-4C44-B946-09204BF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349-4F26-441E-95C7-DF435458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E643-83CC-4A48-9D61-CBBB321C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A7A8-ED30-42A4-9CD4-8F35C64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D0A2-F997-4CA6-88DA-F148CFF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34E-B877-400E-BA27-541A28F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5933-FE66-4953-8FA6-791AADC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5943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8124-8810-4170-854F-F1D1FD4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FE0-7376-418E-966F-D71D0D5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5E-8D84-4961-BCEC-F4C32B0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BCD-A35C-4F29-B997-1F0D0FF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A56-A4B7-4A50-ABBC-EB7F357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78C3-56D1-4138-B6D2-A2607659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1B5F-A40C-4655-85AE-0AC5F34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848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240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848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240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897-F97E-468E-BAED-3B18A038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9A7-023E-4B54-8E0C-0D8869B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53D-1724-48A0-828B-C63CAB01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B4F-6194-4AA8-9635-84945D86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5943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ED2-41F1-4E66-B773-42C5EBA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8AF-9817-49F3-BBB3-E1D34D5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018-C45B-4E23-B71C-09E5199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C48-E412-4E82-B6D8-54CD62C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11e"/>
            </a:gs>
            <a:gs pos="100000">
              <a:srgbClr val="a702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591-FEAA-4CC2-9E01-249C506FB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11e"/>
            </a:gs>
            <a:gs pos="100000">
              <a:srgbClr val="a702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HMCTS_REV"/>
          <p:cNvPicPr/>
          <p:nvPr/>
        </p:nvPicPr>
        <p:blipFill>
          <a:blip r:embed="rId2"/>
          <a:stretch/>
        </p:blipFill>
        <p:spPr>
          <a:xfrm>
            <a:off x="395280" y="404640"/>
            <a:ext cx="2448000" cy="72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7C7-0A9F-47BB-B4DD-7F0A2E8251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166500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ffffff"/>
                </a:solidFill>
                <a:latin typeface="Arial"/>
              </a:rPr>
              <a:t>Podstawowe Wartości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7431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owane przez Manjit Birak, Kierownika ds. Biznesu i Zmian, HMCTS Londy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44800" y="28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Rozwiązywanie Konflikt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spotkaniach w cztery oczy z udziałem Kierownika Liniowego w roli mediat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Formalna Procedura Składania Ska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 pośrednictwem niezależnych Usług Mediacyjn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ądownictwo – Sędziowie Okręgow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k formalnych wartości podstawowy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siadają zestaw podstawowych kompetencji określających ich umiejętnoś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miejętności intelektualne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przyswajanie i analizowanie informa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         - odpowiednia wiedza z zakresu prawa i jego zasad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ość i niezależność umysłow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sądny osą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cyzyjnoś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iektywiz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dolność i gotowość do poszerzania wiedzy i rozwoju zawodow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godność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ędziowie pracujący na niepełny etat poddawani ocenie raz w roku pod względem kluczowych kompeten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rzystanie z częściowej samooceny i oceny przez sędziego pracującego na pełny et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rak formalnych ocen dla sędziów pracujących na pełny e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iązywanie Konfliktów – Sądownictw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38188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iędzyosobowe konflikty rozwiązywane są w drodze mediacji przez Wyznaczonego Sędziego Okręgowego lub Starszego Sędziwego, a jeśli nie zostaną rozwiązane, kierowane są do Lorda Najwyższego Sędziego (ang. Lord Chief Justice), jednakże nie ma formalnej struktury zarządzania dla sędzió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121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Personel Administracyj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bierani są na stanowiska na podstawie kryteriów merytorycznych, w drodze przejrzystego i otwartego konkur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czekuje się od nich pełnienia powierzonej roli z oddaniem i zaangażowaniem Służbie Cywilnej i jej podstawowym wartości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44800" y="28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tanowi część warunków pracy każdego Urzędnika Państwow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kreśla, czego oczekuje się od Urzędnika Państwow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tyczy naszych wartości i ma zastosowanie do wszystkich Urzędników Państwowych w Ministerstwie Sprawiedliwości oraz innych departamentach rządowy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121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Kodeks Służby Cywilnej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9944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Kodeks Służby Cywilnej nakreśla Podstawowe Wartości Służby Cywilnej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532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czci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ezstronnoś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iektywi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184428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lityka Postępowania opisuje standardy zachowania, których oczekuje się od poszczególnych urzędników państwowych w kontekście wspomnianych czterech wartoś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3908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o one oznaczają…………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447920"/>
            <a:ext cx="838188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czciw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cie prawdomównym i otwart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aw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dkładanie obowiązków wynikających ze służby publicznej nad interesy osobi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biektywiz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ierowanie się przy wydawaniu rekomendacji i decyzji dokładną analizą dowod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ezstronn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ziałanie wyłącznie według kryteriów danej sprawy i wypełnianie swoich obowiązków w profesjonalny sposób bez względu na ukierunkowanie polityczne danego rząd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04920" y="1447920"/>
            <a:ext cx="8381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warantują osiągnięcie najwyższych możliwych standardów w obszarze Służby Cywilnej. To z kolei pomaga zyskać i utrzymywać zaufanie ministrów, parlamentu, opinii publicznej i petent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59436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Zgodność jest zapewnio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0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Przez osoby podpisujące umowy i zaznajamiane z polityką postępowa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Szkolenia (niektóre obowiązkowe) z zakresu zabezpieczenia informacji, świadomości nadużyć finansowych, równości i różnorodności it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Sprawdzanie jakości danych w naszych procesach i procedur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ażdy Kierownik Sądu musi podpisać kwartalne oświadczenie o kontroli wewnętrznej jako potwierdzenie przeprowadzenia kontroli skierowane do Wyższych Kierownikó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Ankieta badająca zaangażowanie personel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żeli od urzędnika państwowego wymagane jest działanie niezgodne z wartościami Kodeksu lub jeśli taki pracownik wie, że inny pracownik państwowy działa w sprzeczności z tymi wartościami, może on zgłosić problem w ramach poufnej Procedury Zgłaszania Nieprawidłowoś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3:07:40Z</dcterms:created>
  <dc:creator/>
  <dc:description/>
  <dc:language>en-US</dc:language>
  <cp:lastModifiedBy>User</cp:lastModifiedBy>
  <cp:lastPrinted>2006-02-09T16:57:42Z</cp:lastPrinted>
  <dcterms:modified xsi:type="dcterms:W3CDTF">2013-01-11T13:03:23Z</dcterms:modified>
  <cp:revision>149</cp:revision>
  <dc:subject/>
  <dc:title> Podstawowe Wartości</dc:title>
</cp:coreProperties>
</file>