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9DB1-B042-457E-937E-0C5780092C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CB31-735A-4298-B81D-9082B694A9F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CEEF-C283-413D-B862-348BAF89EA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725C-A9AE-4A75-A3F2-E2EF0102C90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4A32-DF1E-469F-9A81-658FCD35E6C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4E23-22FA-412C-82A4-08355A6DD5F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3E74-A69E-4DB6-850D-F6522DBB552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7B0C-DB2E-4423-B80C-0DB502844DA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50B0-1AA7-4E95-B723-40BEEA253B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DE82-225C-440B-BCBB-8805B410D6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D362-9E69-449F-993B-E6778DDB6CD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B13-A747-49DF-976C-94D613BB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F3C-E4A4-493F-89FC-20DD7B84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093-A1AC-4920-B7E1-68F82DB4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465-671B-4106-BD83-C86F5CF3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813D-58A4-454C-AAF8-CE787AF5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281F-2251-4AF9-BA27-370B47A3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8179-A088-4D2B-9FAC-1AD1E977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3F0D-AF3C-4A17-A14D-C947CADF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8B6B-D62E-4050-A50A-1F8145C8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64DF-E4E7-4BF6-85DA-0C6E53C3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034D-1A5B-40A5-BA1B-02CE5738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EF9-B8AD-4B05-ADF8-B83FED87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5842-5278-4710-AC34-781EACEF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C3C0-E15E-42AF-9FA0-C7381D6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5090-E096-4A35-8EC7-ADF1B597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825E-D7F3-4CB2-B0D3-5B4F3AD7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FB26-108D-4EC0-8CBD-9D94C536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C00C-EFF0-4374-AA97-1ADA1CB8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B71E-8E31-499B-9819-D41CA151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7EF6-EF7D-4FAD-92CC-2A247E9D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C5D2-9D5D-45DD-ACBC-60926082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495D6-11CC-4134-9A6B-66403829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7A04-3C1B-46E0-842B-EAB26908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0312-78DB-4E35-9E76-41A6E02C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A27F-2C9E-41ED-A123-72174649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8B265-399C-4ADC-9C75-B769E5F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A04E-C409-40C3-B05F-74934409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F2200-0D13-4535-A7ED-8F0AA0AD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BAA7-5FB2-4491-9DDA-5F5226DA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C25A9-C898-4B90-912B-E36CE45E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4AC-C074-4916-9AC8-54F26D12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211-CAF4-4C5A-B5EA-66CBC905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BF9-91B7-4B14-964D-8890A599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A18-6243-4588-9AD4-12A21434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7C7-0572-42BC-97D4-8624C708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74F-A260-490A-A559-DD9F4FCB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27C6-5AE3-4E7B-8807-82880A2DBE61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86AB-DAD6-4AFC-AE11-52DD98100DB8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6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>
              <a:gd name="textAreaLeft" fmla="*/ 57600 w 8686800"/>
              <a:gd name="textAreaRight" fmla="*/ 8629200 w 8686800"/>
              <a:gd name="textAreaTop" fmla="*/ 57960 h 1828800"/>
              <a:gd name="textAreaBottom" fmla="*/ 1829520 h 1828800"/>
            </a:gdLst>
            <a:ahLst/>
            <a:rect l="textAreaLeft" t="textAreaTop" r="textAreaRight" b="textAreaBottom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lnTo>
                  <a:pt x="8489582" y="0"/>
                </a:lnTo>
                <a:arcTo wR="197218" hR="197218" stAng="-5400000" swAng="5400000"/>
                <a:lnTo>
                  <a:pt x="8686800" y="1828800"/>
                </a:lnTo>
                <a:lnTo>
                  <a:pt x="0" y="1828800"/>
                </a:lnTo>
                <a:lnTo>
                  <a:pt x="0" y="197218"/>
                </a:lnTo>
                <a:lnTo>
                  <a:pt x="0" y="197218"/>
                </a:lnTo>
                <a:arcTo wR="197218" hR="197218" stAng="10800000" swAng="5400000"/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4" name="Round Same Side Corner Rectangle 7"/>
          <p:cNvSpPr/>
          <p:nvPr/>
        </p:nvSpPr>
        <p:spPr>
          <a:xfrm>
            <a:off x="228600" y="228600"/>
            <a:ext cx="8686800" cy="4419720"/>
          </a:xfrm>
          <a:custGeom>
            <a:avLst/>
            <a:gdLst>
              <a:gd name="textAreaLeft" fmla="*/ 36360 w 8686800"/>
              <a:gd name="textAreaRight" fmla="*/ 8650440 w 8686800"/>
              <a:gd name="textAreaTop" fmla="*/ 36360 h 4419720"/>
              <a:gd name="textAreaBottom" fmla="*/ 4420080 h 4419720"/>
            </a:gdLst>
            <a:ahLst/>
            <a:rect l="textAreaLeft" t="textAreaTop" r="textAreaRight" b="textAreaBottom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lnTo>
                  <a:pt x="8562123" y="0"/>
                </a:lnTo>
                <a:arcTo wR="124677" hR="124677" stAng="-5400000" swAng="5400000"/>
                <a:lnTo>
                  <a:pt x="8686800" y="4419600"/>
                </a:lnTo>
                <a:lnTo>
                  <a:pt x="0" y="4419600"/>
                </a:lnTo>
                <a:lnTo>
                  <a:pt x="0" y="124677"/>
                </a:lnTo>
                <a:lnTo>
                  <a:pt x="0" y="124677"/>
                </a:lnTo>
                <a:arcTo wR="124677" hR="124677" stAng="10800000" swAng="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49FA-8DDF-4E3D-B374-35C30D63477B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2674-9086-49BB-8300-63D9614070FD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AD10-3F85-42DD-923E-727ACD7918FF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31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6DAC-35D3-421D-B3B8-FBC154130040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pl/imgres?q=business+partners&amp;start=270&amp;hl=pl&amp;biw=1366&amp;bih=683&amp;tbm=isch&amp;tbnid=yeTciN2_xpoPSM:&amp;imgrefurl=http://www.greenhornconnect.com/blog/5-characteristics-ideal-business-partner&amp;docid=i6kGrWnI0g03wM&amp;imgurl=http://absolutelyfreeads.webs.com/sales.jpg&amp;w=800&amp;h=564&amp;ei=O1BgUbyyEcnHPJKrgKAD&amp;zoom=1&amp;ved=1t:3588,r:82,s:200,i:250&amp;iact=rc&amp;dur=626&amp;page=14&amp;tbnh=188&amp;tbnw=267&amp;ndsp=20&amp;tx=150&amp;ty=85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ialystok.sa.gov.pl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pl/imgres?q=council+of+europe&amp;um=1&amp;hl=pl&amp;sa=N&amp;tbo=d&amp;biw=1093&amp;bih=546&amp;tbm=isch&amp;tbnid=0twEkvoffK9R_M:&amp;imgrefurl=http://www.shwebizonline.com/c/eucall/profiles/146-coe-council-of-europe.htm%3FItemid%3D58&amp;docid=GN2acYtOF_0fHM&amp;imgurl=http://www.shwebizonline.com/c/eucall/images/eucall/logo_employer/COECouncilofEurope_BB1A/COE_Council_of_Europe.jpg&amp;w=546&amp;h=395&amp;ei=TdDyUKHJJo_HtAaZ2oGgBw&amp;zoom=1&amp;iact=hc&amp;vpx=789&amp;vpy=44&amp;dur=2575&amp;hovh=191&amp;hovw=264&amp;tx=190&amp;ty=95&amp;sig=112572498328113172422&amp;page=2&amp;tbnh=141&amp;tbnw=195&amp;start=15&amp;ndsp=20&amp;ved=1t:429,r:19,s:0,i:138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659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    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I KOSZTAMI POSTĘPOWAŃ SĄDOWYCH – CASE MANAGEMENT”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rostokąt 5"/>
          <p:cNvSpPr/>
          <p:nvPr/>
        </p:nvSpPr>
        <p:spPr>
          <a:xfrm>
            <a:off x="4284720" y="1989000"/>
            <a:ext cx="48592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KOMPONENT PONADNARODOWY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V seminarium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rocław, 3-5.06.2013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grpSp>
        <p:nvGrpSpPr>
          <p:cNvPr id="136" name="Group 34"/>
          <p:cNvGrpSpPr/>
          <p:nvPr/>
        </p:nvGrpSpPr>
        <p:grpSpPr>
          <a:xfrm>
            <a:off x="250920" y="5516640"/>
            <a:ext cx="8713800" cy="792000"/>
            <a:chOff x="250920" y="5516640"/>
            <a:chExt cx="8713800" cy="792000"/>
          </a:xfrm>
        </p:grpSpPr>
        <p:pic>
          <p:nvPicPr>
            <p:cNvPr id="137" name="Picture 35" descr="znak_kapital_ludzki"/>
            <p:cNvPicPr/>
            <p:nvPr/>
          </p:nvPicPr>
          <p:blipFill>
            <a:blip r:embed="rId1"/>
            <a:stretch/>
          </p:blipFill>
          <p:spPr>
            <a:xfrm>
              <a:off x="250920" y="5516640"/>
              <a:ext cx="2178360" cy="69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36" descr="logoMRR"/>
            <p:cNvPicPr/>
            <p:nvPr/>
          </p:nvPicPr>
          <p:blipFill>
            <a:blip r:embed="rId2"/>
            <a:stretch/>
          </p:blipFill>
          <p:spPr>
            <a:xfrm>
              <a:off x="2719800" y="5654520"/>
              <a:ext cx="18878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7" descr="Logo-KSSiP-2"/>
            <p:cNvPicPr/>
            <p:nvPr/>
          </p:nvPicPr>
          <p:blipFill>
            <a:blip r:embed="rId3"/>
            <a:stretch/>
          </p:blipFill>
          <p:spPr>
            <a:xfrm>
              <a:off x="5414040" y="5516640"/>
              <a:ext cx="79128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8" descr="EFS_UE_Logo"/>
            <p:cNvPicPr/>
            <p:nvPr/>
          </p:nvPicPr>
          <p:blipFill>
            <a:blip r:embed="rId4"/>
            <a:stretch/>
          </p:blipFill>
          <p:spPr>
            <a:xfrm>
              <a:off x="6761520" y="5516640"/>
              <a:ext cx="2203200" cy="7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6" descr=""/>
          <p:cNvPicPr/>
          <p:nvPr/>
        </p:nvPicPr>
        <p:blipFill>
          <a:blip r:embed="rId5"/>
          <a:stretch/>
        </p:blipFill>
        <p:spPr>
          <a:xfrm>
            <a:off x="324000" y="2133720"/>
            <a:ext cx="4010040" cy="2447640"/>
          </a:xfrm>
          <a:prstGeom prst="rect">
            <a:avLst/>
          </a:prstGeom>
          <a:ln w="0">
            <a:noFill/>
          </a:ln>
        </p:spPr>
      </p:pic>
      <p:sp>
        <p:nvSpPr>
          <p:cNvPr id="142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2953-10CD-4865-B0E9-6152C42CD35A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659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ADA KONSULTACYJNA SĘDZIÓW EUROPEJSKICH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Consultative Council of European Judges (CCJE)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rostokąt 5"/>
          <p:cNvSpPr/>
          <p:nvPr/>
        </p:nvSpPr>
        <p:spPr>
          <a:xfrm>
            <a:off x="250920" y="1484280"/>
            <a:ext cx="864216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wprowadzenie: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ada Konsultacyjna Sędziów Europejskich przygotowała opinię w sprawie dematerializacji postępowania sądowego przy uwzględnieniu raportu „Europejskie systemy sądownicze” opracowanego przez Europejską Komisję na rzecz Efektywności Wymiaru Sprawiedliwości  (European Commission for the Efficiency of Justice – CEPEJ) oraz Europejskiej Strategii Wymiaru Sprawiedliwości w Unii Europejskiej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1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EAFA-B6D0-4018-947A-F1CD12D2C1B9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02" name="Picture 12" descr="Sąd Apelacyjny w Białymstoku"/>
          <p:cNvPicPr/>
          <p:nvPr/>
        </p:nvPicPr>
        <p:blipFill>
          <a:blip r:embed="rId1"/>
          <a:stretch/>
        </p:blipFill>
        <p:spPr>
          <a:xfrm>
            <a:off x="2147484240" y="-351000"/>
            <a:ext cx="2943360" cy="733680"/>
          </a:xfrm>
          <a:prstGeom prst="rect">
            <a:avLst/>
          </a:prstGeom>
          <a:ln w="0">
            <a:noFill/>
          </a:ln>
        </p:spPr>
      </p:pic>
      <p:pic>
        <p:nvPicPr>
          <p:cNvPr id="203" name="il_fi" descr="council_of_europe_logo11"/>
          <p:cNvPicPr/>
          <p:nvPr/>
        </p:nvPicPr>
        <p:blipFill>
          <a:blip r:embed="rId2"/>
          <a:stretch/>
        </p:blipFill>
        <p:spPr>
          <a:xfrm>
            <a:off x="7451640" y="260280"/>
            <a:ext cx="1279440" cy="936720"/>
          </a:xfrm>
          <a:prstGeom prst="rect">
            <a:avLst/>
          </a:prstGeom>
          <a:ln w="0">
            <a:noFill/>
          </a:ln>
        </p:spPr>
      </p:pic>
      <p:pic>
        <p:nvPicPr>
          <p:cNvPr id="204" name="il_fi" descr="14676860-zblizenie-drewnianego-mlotka-na-klawiaturze-komputera"/>
          <p:cNvPicPr/>
          <p:nvPr/>
        </p:nvPicPr>
        <p:blipFill>
          <a:blip r:embed="rId3"/>
          <a:stretch/>
        </p:blipFill>
        <p:spPr>
          <a:xfrm>
            <a:off x="2916360" y="4005360"/>
            <a:ext cx="3193920" cy="2278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659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ADA KONSULTACYJNA SĘDZIÓW EUROPEJSKICH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Consultative Council of European Judges (CCJE)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rostokąt 5"/>
          <p:cNvSpPr/>
          <p:nvPr/>
        </p:nvSpPr>
        <p:spPr>
          <a:xfrm>
            <a:off x="250920" y="1484280"/>
            <a:ext cx="864216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zakres opinii: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inia dotyczy stosowania nowoczesnych technologii informatycznych w sądach oraz przedstawia możliwości, jakie technologie oferują i wywierają na wymiar sprawiedliwości oraz postępowanie sądowe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inia uwzględnia: dostęp do wymiaru sprawiedliwości i rządy prawa, niezawisłość sędziów i niezależność sądów, funkcjonowanie sądownictwa  (z pominięciem technicznych aspektów  IT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7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7DE5-60D6-469E-96CC-A36D46B2EFA1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08" name="Picture 12" descr="Sąd Apelacyjny w Białymstoku"/>
          <p:cNvPicPr/>
          <p:nvPr/>
        </p:nvPicPr>
        <p:blipFill>
          <a:blip r:embed="rId1"/>
          <a:stretch/>
        </p:blipFill>
        <p:spPr>
          <a:xfrm>
            <a:off x="2147484240" y="-351000"/>
            <a:ext cx="2943360" cy="733680"/>
          </a:xfrm>
          <a:prstGeom prst="rect">
            <a:avLst/>
          </a:prstGeom>
          <a:ln w="0">
            <a:noFill/>
          </a:ln>
        </p:spPr>
      </p:pic>
      <p:pic>
        <p:nvPicPr>
          <p:cNvPr id="209" name="il_fi" descr="council_of_europe_logo11"/>
          <p:cNvPicPr/>
          <p:nvPr/>
        </p:nvPicPr>
        <p:blipFill>
          <a:blip r:embed="rId2"/>
          <a:stretch/>
        </p:blipFill>
        <p:spPr>
          <a:xfrm>
            <a:off x="7451640" y="260280"/>
            <a:ext cx="1279440" cy="936720"/>
          </a:xfrm>
          <a:prstGeom prst="rect">
            <a:avLst/>
          </a:prstGeom>
          <a:ln w="0">
            <a:noFill/>
          </a:ln>
        </p:spPr>
      </p:pic>
      <p:pic>
        <p:nvPicPr>
          <p:cNvPr id="210" name="rg_hi" descr="ANd9GcRy8nOwq_Pijd2VkoFUPgnPGylWptYtlaLRkpCOxwDwe0zHWB4r"/>
          <p:cNvPicPr/>
          <p:nvPr/>
        </p:nvPicPr>
        <p:blipFill>
          <a:blip r:embed="rId3"/>
          <a:stretch/>
        </p:blipFill>
        <p:spPr>
          <a:xfrm>
            <a:off x="2700360" y="4005360"/>
            <a:ext cx="3570120" cy="2376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659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ADA KONSULTACYJNA SĘDZIÓW EUROPEJSKICH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Consultative Council of European Judges (CCJE)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rostokąt 5"/>
          <p:cNvSpPr/>
          <p:nvPr/>
        </p:nvSpPr>
        <p:spPr>
          <a:xfrm>
            <a:off x="250920" y="1484280"/>
            <a:ext cx="864216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podstawowe zasady: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chnologie powinny być narzędziem lub środkiem służącym poprawie funkcjonowania sądownictwa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prowadzanie technologii informatycznych nie powinno naruszać ludzkiego i symbolicznego oblicza wymiaru sprawiedliwości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ryzyko derytualizacji postępowania sądowego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ieczność zachowania ludzkiego oblicza sądownictwa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ryzyko dehumanizacji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3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DB6F-6588-4632-8146-D2BEA9642C9C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14" name="Picture 12" descr="Sąd Apelacyjny w Białymstoku"/>
          <p:cNvPicPr/>
          <p:nvPr/>
        </p:nvPicPr>
        <p:blipFill>
          <a:blip r:embed="rId1"/>
          <a:stretch/>
        </p:blipFill>
        <p:spPr>
          <a:xfrm>
            <a:off x="2147484240" y="-351000"/>
            <a:ext cx="2943360" cy="733680"/>
          </a:xfrm>
          <a:prstGeom prst="rect">
            <a:avLst/>
          </a:prstGeom>
          <a:ln w="0">
            <a:noFill/>
          </a:ln>
        </p:spPr>
      </p:pic>
      <p:pic>
        <p:nvPicPr>
          <p:cNvPr id="215" name="il_fi" descr="council_of_europe_logo11"/>
          <p:cNvPicPr/>
          <p:nvPr/>
        </p:nvPicPr>
        <p:blipFill>
          <a:blip r:embed="rId2"/>
          <a:stretch/>
        </p:blipFill>
        <p:spPr>
          <a:xfrm>
            <a:off x="7451640" y="260280"/>
            <a:ext cx="1279440" cy="93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3"/>
          <a:stretch/>
        </p:blipFill>
        <p:spPr>
          <a:xfrm>
            <a:off x="3203640" y="4005360"/>
            <a:ext cx="2681280" cy="24336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659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ADA KONSULTACYJNA SĘDZIÓW EUROPEJSKICH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Consultative Council of European Judges (CCJE)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rostokąt 5"/>
          <p:cNvSpPr/>
          <p:nvPr/>
        </p:nvSpPr>
        <p:spPr>
          <a:xfrm>
            <a:off x="250920" y="1484280"/>
            <a:ext cx="864216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aktywność sędziów: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ędziowie powinni brać udział w podejmowaniu wszystkich decyzji dotyczących opracowywania i wdrażania technologii informatycznych w sądownictwie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chnologie informatyczne powinny być dostosowane do potrzeb sędziów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ędziowie winni indentyfikować korzyści i wady technologii informatycznych (również identyfikować i eliminować wszelkie zagrożenia dla właściwego wymierzania sprawiedliwości)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chnologie informatyczne nie mogą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niemożliwiać sędziom stosowania prawa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niezawisły i bezstronny sposób 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półodpowiedzialność sędziów za dostęp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 sprawnego, efektywnego i dostępnego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inansowo sposobu rozwiązywania sporów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9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0933-A743-441D-966F-B884A6278DCE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20" name="Picture 12" descr="Sąd Apelacyjny w Białymstoku"/>
          <p:cNvPicPr/>
          <p:nvPr/>
        </p:nvPicPr>
        <p:blipFill>
          <a:blip r:embed="rId1"/>
          <a:stretch/>
        </p:blipFill>
        <p:spPr>
          <a:xfrm>
            <a:off x="2147484240" y="-351000"/>
            <a:ext cx="2943360" cy="733680"/>
          </a:xfrm>
          <a:prstGeom prst="rect">
            <a:avLst/>
          </a:prstGeom>
          <a:ln w="0">
            <a:noFill/>
          </a:ln>
        </p:spPr>
      </p:pic>
      <p:pic>
        <p:nvPicPr>
          <p:cNvPr id="221" name="il_fi" descr="council_of_europe_logo11"/>
          <p:cNvPicPr/>
          <p:nvPr/>
        </p:nvPicPr>
        <p:blipFill>
          <a:blip r:embed="rId2"/>
          <a:stretch/>
        </p:blipFill>
        <p:spPr>
          <a:xfrm>
            <a:off x="7451640" y="260280"/>
            <a:ext cx="1279440" cy="936720"/>
          </a:xfrm>
          <a:prstGeom prst="rect">
            <a:avLst/>
          </a:prstGeom>
          <a:ln w="0">
            <a:noFill/>
          </a:ln>
        </p:spPr>
      </p:pic>
      <p:pic>
        <p:nvPicPr>
          <p:cNvPr id="222" name="rg_hi" descr="ANd9GcSVKVUssiKsK9iyyrbGyJYrJ0UrNweVdUKFhQ7PV86BMVB6T4OWbg"/>
          <p:cNvPicPr/>
          <p:nvPr/>
        </p:nvPicPr>
        <p:blipFill>
          <a:blip r:embed="rId3"/>
          <a:stretch/>
        </p:blipFill>
        <p:spPr>
          <a:xfrm>
            <a:off x="5508720" y="3933720"/>
            <a:ext cx="3402000" cy="2374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659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ADA KONSULTACYJNA SĘDZIÓW EUROPEJSKICH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Consultative Council of European Judges (CCJE)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rostokąt 5"/>
          <p:cNvSpPr/>
          <p:nvPr/>
        </p:nvSpPr>
        <p:spPr>
          <a:xfrm>
            <a:off x="250920" y="1484280"/>
            <a:ext cx="86421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technologie w postępowaniach sądowych: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stemy informatyczne oferują możliwość efektywniejszego, bardziej przejrzystego oraz pewnego prowadzenia spraw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chnologie powinny być narzędziem lub środkiem służącym poprawie funkcjonowania sądownictwa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żliwość międzynarodowej i europejskiej współpracy sądowniczej  (udzielanie pomocy prawnej, doręczanie dokumentów, czy gromadzenie dowodów np. w postaci wideokonferencji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5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9A46-A791-4C5E-A210-FCF724EFB9E1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26" name="Picture 12" descr="Sąd Apelacyjny w Białymstoku"/>
          <p:cNvPicPr/>
          <p:nvPr/>
        </p:nvPicPr>
        <p:blipFill>
          <a:blip r:embed="rId1"/>
          <a:stretch/>
        </p:blipFill>
        <p:spPr>
          <a:xfrm>
            <a:off x="2147484240" y="-351000"/>
            <a:ext cx="2943360" cy="733680"/>
          </a:xfrm>
          <a:prstGeom prst="rect">
            <a:avLst/>
          </a:prstGeom>
          <a:ln w="0">
            <a:noFill/>
          </a:ln>
        </p:spPr>
      </p:pic>
      <p:pic>
        <p:nvPicPr>
          <p:cNvPr id="227" name="il_fi" descr="council_of_europe_logo11"/>
          <p:cNvPicPr/>
          <p:nvPr/>
        </p:nvPicPr>
        <p:blipFill>
          <a:blip r:embed="rId2"/>
          <a:stretch/>
        </p:blipFill>
        <p:spPr>
          <a:xfrm>
            <a:off x="7451640" y="260280"/>
            <a:ext cx="1279440" cy="936720"/>
          </a:xfrm>
          <a:prstGeom prst="rect">
            <a:avLst/>
          </a:prstGeom>
          <a:ln w="0">
            <a:noFill/>
          </a:ln>
        </p:spPr>
      </p:pic>
      <p:pic>
        <p:nvPicPr>
          <p:cNvPr id="228" name="il_fi" descr="ANd9GcRybjcl11ZbJazrpqiaFo3fz6AsUh7hSn5R1uanBS1C_ZJbp-GdMa0CYmNqxA"/>
          <p:cNvPicPr/>
          <p:nvPr/>
        </p:nvPicPr>
        <p:blipFill>
          <a:blip r:embed="rId3"/>
          <a:stretch/>
        </p:blipFill>
        <p:spPr>
          <a:xfrm>
            <a:off x="2268360" y="4508640"/>
            <a:ext cx="4535640" cy="1863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659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ADA KONSULTACYJNA SĘDZIÓW EUROPEJSKICH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Consultative Council of European Judges (CCJE)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rostokąt 5"/>
          <p:cNvSpPr/>
          <p:nvPr/>
        </p:nvSpPr>
        <p:spPr>
          <a:xfrm>
            <a:off x="250920" y="1484280"/>
            <a:ext cx="864216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technologie w zarządzaniu sprawami: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stemy informatyczne pomagają zapewnić bardziej racjonalny obieg dokumentów, rejestrację i monitorowanie spraw (case flow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chnologie mogą być ważnym narzędziem umożliwiającym przydzielanie spraw i zarządzania sprawami  (case management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korzystywanie wzorców, szablonów i projektów ułatwiających przygotowywanie i wydawanie orzeczeń sądowych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rzystanie z baz danych zawierających odnośniki do orzeczeń sądowych, regulacji prawnych, komentarzy i innych form wymiany wiedzy między sędziami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31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34DA-D0C5-4CF4-BF05-AC86E46A8BBB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32" name="Picture 12" descr="Sąd Apelacyjny w Białymstoku"/>
          <p:cNvPicPr/>
          <p:nvPr/>
        </p:nvPicPr>
        <p:blipFill>
          <a:blip r:embed="rId1"/>
          <a:stretch/>
        </p:blipFill>
        <p:spPr>
          <a:xfrm>
            <a:off x="2147484240" y="-351000"/>
            <a:ext cx="2943360" cy="733680"/>
          </a:xfrm>
          <a:prstGeom prst="rect">
            <a:avLst/>
          </a:prstGeom>
          <a:ln w="0">
            <a:noFill/>
          </a:ln>
        </p:spPr>
      </p:pic>
      <p:pic>
        <p:nvPicPr>
          <p:cNvPr id="233" name="il_fi" descr="council_of_europe_logo11"/>
          <p:cNvPicPr/>
          <p:nvPr/>
        </p:nvPicPr>
        <p:blipFill>
          <a:blip r:embed="rId2"/>
          <a:stretch/>
        </p:blipFill>
        <p:spPr>
          <a:xfrm>
            <a:off x="7451640" y="260280"/>
            <a:ext cx="1279440" cy="936720"/>
          </a:xfrm>
          <a:prstGeom prst="rect">
            <a:avLst/>
          </a:prstGeom>
          <a:ln w="0">
            <a:noFill/>
          </a:ln>
        </p:spPr>
      </p:pic>
      <p:pic>
        <p:nvPicPr>
          <p:cNvPr id="234" name="il_fi" descr="change-simon-wordle-24"/>
          <p:cNvPicPr/>
          <p:nvPr/>
        </p:nvPicPr>
        <p:blipFill>
          <a:blip r:embed="rId3"/>
          <a:stretch/>
        </p:blipFill>
        <p:spPr>
          <a:xfrm>
            <a:off x="1619280" y="4797360"/>
            <a:ext cx="5964120" cy="1584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659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ADA KONSULTACYJNA SĘDZIÓW EUROPEJSKICH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Consultative Council of European Judges (CCJE)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rostokąt 5"/>
          <p:cNvSpPr/>
          <p:nvPr/>
        </p:nvSpPr>
        <p:spPr>
          <a:xfrm>
            <a:off x="250920" y="1557360"/>
            <a:ext cx="864216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wnioski i zalecenia: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CJE pozytywnie ocenia technologie informatyczne,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ako narzędzia służące poprawie zarządzania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miarem sprawiedliwości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chnologie mogą zapewnić lepszy dostęp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 wymiaru sprawiedliwości, poprawić jakość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rządzania sprawami oraz ocenę funkcjonowania sądownictwa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bsolutnie konieczny dialog między osobami opracowującymi i przygotowującymi do stosowania technologie informatyczne a osobami odpowiedzialnymi za postępowanie sądowe (aktywność sędziów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stemy informatyczne odgrywają kluczową rolę w zakresie dostarczania informacji sędziom, obsłudze prawnej, stronom postępowania oraz pozostałym uczestnikom systemu sądowniczego, jak również opinii publicznej i środkom masowego przekazu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37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3D1A-0806-49BA-936C-18DF33B74851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38" name="Picture 12" descr="Sąd Apelacyjny w Białymstoku"/>
          <p:cNvPicPr/>
          <p:nvPr/>
        </p:nvPicPr>
        <p:blipFill>
          <a:blip r:embed="rId1"/>
          <a:stretch/>
        </p:blipFill>
        <p:spPr>
          <a:xfrm>
            <a:off x="2147484240" y="-351000"/>
            <a:ext cx="2943360" cy="733680"/>
          </a:xfrm>
          <a:prstGeom prst="rect">
            <a:avLst/>
          </a:prstGeom>
          <a:ln w="0">
            <a:noFill/>
          </a:ln>
        </p:spPr>
      </p:pic>
      <p:pic>
        <p:nvPicPr>
          <p:cNvPr id="239" name="il_fi" descr="council_of_europe_logo11"/>
          <p:cNvPicPr/>
          <p:nvPr/>
        </p:nvPicPr>
        <p:blipFill>
          <a:blip r:embed="rId2"/>
          <a:stretch/>
        </p:blipFill>
        <p:spPr>
          <a:xfrm>
            <a:off x="7451640" y="260280"/>
            <a:ext cx="1279440" cy="936720"/>
          </a:xfrm>
          <a:prstGeom prst="rect">
            <a:avLst/>
          </a:prstGeom>
          <a:ln w="0">
            <a:noFill/>
          </a:ln>
        </p:spPr>
      </p:pic>
      <p:pic>
        <p:nvPicPr>
          <p:cNvPr id="240" name="rg_hi" descr="ANd9GcTDkUG-brz7IKGd5SUv-ePKgMVjqYfX4dQBVlMHkp1puXvwYVxCyA"/>
          <p:cNvPicPr/>
          <p:nvPr/>
        </p:nvPicPr>
        <p:blipFill>
          <a:blip r:embed="rId3"/>
          <a:stretch/>
        </p:blipFill>
        <p:spPr>
          <a:xfrm>
            <a:off x="6875640" y="1557360"/>
            <a:ext cx="2003400" cy="2087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rostokąt 3"/>
          <p:cNvSpPr/>
          <p:nvPr/>
        </p:nvSpPr>
        <p:spPr>
          <a:xfrm>
            <a:off x="250920" y="5013360"/>
            <a:ext cx="86421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Monotype Corsiva"/>
              </a:rPr>
              <a:t>dziękujemy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OMASZ KAŁUŻN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RZYSZTOF HEJOSZ prezes@bialystok.sr.gov.pl                                                k.hejosz@gmail.com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42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43" name="Picture 2" descr="http://t3.gstatic.com/images?q=tbn:ANd9GcTJp4faazC3WlUw7ZJaSKyzxhdSdETlpaZZO84YTjqHVS6Z9UXU"/>
          <p:cNvPicPr/>
          <p:nvPr/>
        </p:nvPicPr>
        <p:blipFill>
          <a:blip r:embed="rId1"/>
          <a:stretch/>
        </p:blipFill>
        <p:spPr>
          <a:xfrm>
            <a:off x="3132000" y="2421000"/>
            <a:ext cx="2814840" cy="2305080"/>
          </a:xfrm>
          <a:prstGeom prst="rect">
            <a:avLst/>
          </a:prstGeom>
          <a:ln w="0">
            <a:noFill/>
          </a:ln>
        </p:spPr>
      </p:pic>
      <p:sp>
        <p:nvSpPr>
          <p:cNvPr id="244" name="Prostokąt 2"/>
          <p:cNvSpPr/>
          <p:nvPr/>
        </p:nvSpPr>
        <p:spPr>
          <a:xfrm>
            <a:off x="2987640" y="1628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c0504d"/>
                </a:solidFill>
                <a:latin typeface="Monotype Corsiva"/>
              </a:rPr>
              <a:t>pytania ???</a:t>
            </a:r>
            <a:endParaRPr b="1" lang="en-US" sz="4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45" name="Prostokąt 1"/>
          <p:cNvSpPr/>
          <p:nvPr/>
        </p:nvSpPr>
        <p:spPr>
          <a:xfrm>
            <a:off x="250920" y="37944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                                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46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8B29-5B45-4FAD-A251-3159EA7EAF70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4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483920"/>
            <a:ext cx="856908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RTNERZY PROJEK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ISTRICT COURT OF ROERMOND -THE NETHER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XON STATE MINISTRY OF JUSTICE AND EUROPEAN AFFAIRS -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INISTRY OF JUSTICE, DEPARTMENT OF JUDICIAL ADMINISTRATION, TRAINING UNIT - F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YAL COURT OF JUSTICE, JUDICIAL OFFICE - ENG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RAJOWA SZKOŁA SĄDOWNICTWA I PROKURATURY - POL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7EFC-D75B-4D6A-8576-1D9041565092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47" name="Picture 7" descr="ANd9GcQqoSlmbpBMRvjy1yT4p2w_HBix46OlY-1LtTQTrNwyXgxC6U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4076640"/>
            <a:ext cx="4319640" cy="2305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9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0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8506-7906-48C9-AF7B-FF91CD11909D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1" name="Prostokąt 6"/>
          <p:cNvSpPr/>
          <p:nvPr/>
        </p:nvSpPr>
        <p:spPr>
          <a:xfrm>
            <a:off x="1258920" y="227664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2" name="Prostokąt 7"/>
          <p:cNvSpPr/>
          <p:nvPr/>
        </p:nvSpPr>
        <p:spPr>
          <a:xfrm>
            <a:off x="1258920" y="306864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II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3" name="Prostokąt 9"/>
          <p:cNvSpPr/>
          <p:nvPr/>
        </p:nvSpPr>
        <p:spPr>
          <a:xfrm>
            <a:off x="1258920" y="386064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III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4" name="Prostokąt 10"/>
          <p:cNvSpPr/>
          <p:nvPr/>
        </p:nvSpPr>
        <p:spPr>
          <a:xfrm>
            <a:off x="1258920" y="465300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IV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5" name="Prostokąt 11"/>
          <p:cNvSpPr/>
          <p:nvPr/>
        </p:nvSpPr>
        <p:spPr>
          <a:xfrm>
            <a:off x="1187280" y="558972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V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6" name="Prostokąt 12"/>
          <p:cNvSpPr/>
          <p:nvPr/>
        </p:nvSpPr>
        <p:spPr>
          <a:xfrm>
            <a:off x="1908000" y="2276640"/>
            <a:ext cx="6336000" cy="58392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zarządzanie przepływem spraw – case flow i case managemen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7" name="Prostokąt 13"/>
          <p:cNvSpPr/>
          <p:nvPr/>
        </p:nvSpPr>
        <p:spPr>
          <a:xfrm>
            <a:off x="1908000" y="3068640"/>
            <a:ext cx="63360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zarządzanie czasem i kosztami postępowań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tandaryzacja postępowań sądowych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8" name="Prostokąt 14"/>
          <p:cNvSpPr/>
          <p:nvPr/>
        </p:nvSpPr>
        <p:spPr>
          <a:xfrm>
            <a:off x="1908000" y="3860640"/>
            <a:ext cx="63360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zarządzanie obciążeniem pracą w sądach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9" name="Prostokąt 15"/>
          <p:cNvSpPr/>
          <p:nvPr/>
        </p:nvSpPr>
        <p:spPr>
          <a:xfrm>
            <a:off x="1908000" y="4653000"/>
            <a:ext cx="63360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wykorzystywanie technik informatycznych IT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w zarządzaniu sprawą i przepływem spraw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0" name="Prostokąt 16"/>
          <p:cNvSpPr/>
          <p:nvPr/>
        </p:nvSpPr>
        <p:spPr>
          <a:xfrm>
            <a:off x="1908000" y="5445000"/>
            <a:ext cx="6336000" cy="100836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„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Dobre praktyki” – szkolenia sędziów i pracowników w zakresie: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zarządzania przepływem spraw, zarządzania czasem i kosztami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postępowań sądowych, profesjonalizacji czynności sądowych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1" name="Prostokąt 3"/>
          <p:cNvSpPr/>
          <p:nvPr/>
        </p:nvSpPr>
        <p:spPr>
          <a:xfrm>
            <a:off x="250920" y="1628640"/>
            <a:ext cx="889308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MINARIA UCZESTNIKÓW PROJEKTU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3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4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01E7-4A04-4415-A8C6-1101200FC712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5" name="Prostokąt 6"/>
          <p:cNvSpPr/>
          <p:nvPr/>
        </p:nvSpPr>
        <p:spPr>
          <a:xfrm>
            <a:off x="1258920" y="227664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6" name="Prostokąt 11"/>
          <p:cNvSpPr/>
          <p:nvPr/>
        </p:nvSpPr>
        <p:spPr>
          <a:xfrm>
            <a:off x="1258920" y="321300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II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7" name="Prostokąt 12"/>
          <p:cNvSpPr/>
          <p:nvPr/>
        </p:nvSpPr>
        <p:spPr>
          <a:xfrm>
            <a:off x="1908000" y="2276640"/>
            <a:ext cx="6215400" cy="58392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„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Efektywność, skuteczność i sprawność w zarządzaniu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ądami i sprawami – standardy europejskie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8" name="Prostokąt 16"/>
          <p:cNvSpPr/>
          <p:nvPr/>
        </p:nvSpPr>
        <p:spPr>
          <a:xfrm>
            <a:off x="1908000" y="3068640"/>
            <a:ext cx="6215400" cy="86364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„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Popularyzacja i upowszechnianie europejskich rozwiązań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usprawniających przepływ spraw i tok postępowań sądowych”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9" name="Prostokąt 3"/>
          <p:cNvSpPr/>
          <p:nvPr/>
        </p:nvSpPr>
        <p:spPr>
          <a:xfrm>
            <a:off x="250920" y="1628640"/>
            <a:ext cx="889308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TWARTE KONFERENCJE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70" name="Picture 9" descr="http://sphotos-a.xx.fbcdn.net/hphotos-ash4/303367_387350761305216_2083167439_n.jpg"/>
          <p:cNvPicPr/>
          <p:nvPr/>
        </p:nvPicPr>
        <p:blipFill>
          <a:blip r:embed="rId1"/>
          <a:stretch/>
        </p:blipFill>
        <p:spPr>
          <a:xfrm>
            <a:off x="1908000" y="4292640"/>
            <a:ext cx="5832720" cy="2073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2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3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680D-7877-436D-89A8-EC4B1B3606FF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4" name="Prostokąt 3"/>
          <p:cNvSpPr/>
          <p:nvPr/>
        </p:nvSpPr>
        <p:spPr>
          <a:xfrm>
            <a:off x="395280" y="1773360"/>
            <a:ext cx="841680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MINARIUM IV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YKORZYSTANIE TECHNIK INFORMATYCZNYCH IT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 ZARZĄDZANIU SPRAWĄ I PRZEPŁYWEM SPRAW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75" name="il_fi" descr="14931458-sad-gavel-na-klawiaturze-komputera-przenosnego"/>
          <p:cNvPicPr/>
          <p:nvPr/>
        </p:nvPicPr>
        <p:blipFill>
          <a:blip r:embed="rId1"/>
          <a:stretch/>
        </p:blipFill>
        <p:spPr>
          <a:xfrm>
            <a:off x="2556000" y="3357720"/>
            <a:ext cx="4025880" cy="2676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7" name="Prostokąt 3"/>
          <p:cNvSpPr/>
          <p:nvPr/>
        </p:nvSpPr>
        <p:spPr>
          <a:xfrm>
            <a:off x="250920" y="1700280"/>
            <a:ext cx="864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ŁOŻENIE MERYTORYCZNE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marL="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CEPCJA WYMIANY DOŚWIADCZEŃ W TRZECH PŁASZCZYZNACH: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JĘCIE INSTYTUCJONALNE – MODERNIZACJA ORGANIZACJI PRACY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JĘCIE KADROWE – MODERNIZACJA ZARZĄDZANIA KADRAMI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JĘCIE JEDNOSTKOWE – MODERNIZACJA „SAMOZARZĄDZANIA”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8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79" name="Obraz 5" descr="MPj04392730000[1].jpg"/>
          <p:cNvPicPr/>
          <p:nvPr/>
        </p:nvPicPr>
        <p:blipFill>
          <a:blip r:embed="rId1"/>
          <a:stretch/>
        </p:blipFill>
        <p:spPr>
          <a:xfrm>
            <a:off x="3035160" y="4145040"/>
            <a:ext cx="3073680" cy="4145040"/>
          </a:xfrm>
          <a:prstGeom prst="rect">
            <a:avLst/>
          </a:prstGeom>
          <a:ln w="0">
            <a:noFill/>
          </a:ln>
        </p:spPr>
      </p:pic>
      <p:sp>
        <p:nvSpPr>
          <p:cNvPr id="180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0139-8CB9-416A-BB4C-883D984236AA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2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3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8843-C664-47FF-AF30-8D51133D0C2D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4" name="Prostokąt 3"/>
          <p:cNvSpPr/>
          <p:nvPr/>
        </p:nvSpPr>
        <p:spPr>
          <a:xfrm>
            <a:off x="395280" y="1773360"/>
            <a:ext cx="841680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MINARIUM IV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YKORZYSTANIE TECHNIK INFORMATYCZNYCH IT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 ZARZĄDZANIU SPRAWĄ I PRZEPŁYWEM SPRAW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85" name="Picture 2" descr="http://t2.gstatic.com/images?q=tbn:ANd9GcSXuH9fByb8TDl_cHDOx-ogSFbQAADTxYewAN8Ep9WMUYXG2DKD"/>
          <p:cNvPicPr/>
          <p:nvPr/>
        </p:nvPicPr>
        <p:blipFill>
          <a:blip r:embed="rId1"/>
          <a:stretch/>
        </p:blipFill>
        <p:spPr>
          <a:xfrm>
            <a:off x="1835280" y="3357720"/>
            <a:ext cx="5499000" cy="2158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250920" y="5805360"/>
            <a:ext cx="8642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prezentacje partnerów projektu - otwarta dyskusja 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17E9-AA3A-439D-B3F9-B918FBA6BACC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88" name="Picture 12" descr="Sąd Apelacyjny w Białymsto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7484240" y="-351000"/>
            <a:ext cx="2943360" cy="733680"/>
          </a:xfrm>
          <a:prstGeom prst="rect">
            <a:avLst/>
          </a:prstGeom>
          <a:ln w="0">
            <a:noFill/>
          </a:ln>
        </p:spPr>
      </p:pic>
      <p:sp>
        <p:nvSpPr>
          <p:cNvPr id="189" name="Prostokąt 5"/>
          <p:cNvSpPr/>
          <p:nvPr/>
        </p:nvSpPr>
        <p:spPr>
          <a:xfrm>
            <a:off x="0" y="1484280"/>
            <a:ext cx="9144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MIAR SPRAWIEDLIWOŚCI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A TECHNOLOGIE INFORMATYCZNE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90" name="rg_hi" descr="ANd9GcSr--uvM3yxelvxWrhVt-0fv4sbGC95CDBHIWV2kRLUI-kx6s4r5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84360" y="3068640"/>
            <a:ext cx="4208400" cy="3044880"/>
          </a:xfrm>
          <a:prstGeom prst="rect">
            <a:avLst/>
          </a:prstGeom>
          <a:ln w="0">
            <a:noFill/>
          </a:ln>
        </p:spPr>
      </p:pic>
      <p:pic>
        <p:nvPicPr>
          <p:cNvPr id="191" name="rg_hi" descr="ANd9GcSZrmM2TKIgeoRuM1lw2E6coLDh72mVqAUyW7rECJktn9l5Kc6T2g"/>
          <p:cNvPicPr/>
          <p:nvPr/>
        </p:nvPicPr>
        <p:blipFill>
          <a:blip r:embed="rId5"/>
          <a:stretch/>
        </p:blipFill>
        <p:spPr>
          <a:xfrm>
            <a:off x="2411280" y="3068640"/>
            <a:ext cx="4248360" cy="2327400"/>
          </a:xfrm>
          <a:prstGeom prst="rect">
            <a:avLst/>
          </a:prstGeom>
          <a:ln w="0">
            <a:noFill/>
          </a:ln>
        </p:spPr>
      </p:pic>
      <p:sp>
        <p:nvSpPr>
          <p:cNvPr id="192" name="Tytuł 1"/>
          <p:cNvSpPr/>
          <p:nvPr/>
        </p:nvSpPr>
        <p:spPr>
          <a:xfrm>
            <a:off x="25092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659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ADA KONSULTACYJNA SĘDZIÓW EUROPEJSKICH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Consultative Council of European Judges (CCJE)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rostokąt 5"/>
          <p:cNvSpPr/>
          <p:nvPr/>
        </p:nvSpPr>
        <p:spPr>
          <a:xfrm>
            <a:off x="0" y="1484280"/>
            <a:ext cx="9144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Opinia CCJE nr (2011)14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rzyjęta na 12 posiedzeniu plenarnym CCJE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trasburg, 7-9 listopada 2011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2484360" y="3429000"/>
            <a:ext cx="4010040" cy="2448000"/>
          </a:xfrm>
          <a:prstGeom prst="rect">
            <a:avLst/>
          </a:prstGeom>
          <a:ln w="0">
            <a:noFill/>
          </a:ln>
        </p:spPr>
      </p:pic>
      <p:sp>
        <p:nvSpPr>
          <p:cNvPr id="196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5BF8-9F3E-4C41-909E-B5C9433C3337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97" name="Picture 12" descr="Sąd Apelacyjny w Białymstoku"/>
          <p:cNvPicPr/>
          <p:nvPr/>
        </p:nvPicPr>
        <p:blipFill>
          <a:blip r:embed="rId2"/>
          <a:stretch/>
        </p:blipFill>
        <p:spPr>
          <a:xfrm>
            <a:off x="2147484240" y="-351000"/>
            <a:ext cx="2943360" cy="733680"/>
          </a:xfrm>
          <a:prstGeom prst="rect">
            <a:avLst/>
          </a:prstGeom>
          <a:ln w="0">
            <a:noFill/>
          </a:ln>
        </p:spPr>
      </p:pic>
      <p:pic>
        <p:nvPicPr>
          <p:cNvPr id="198" name="il_fi" descr="council_of_europe_logo11"/>
          <p:cNvPicPr/>
          <p:nvPr/>
        </p:nvPicPr>
        <p:blipFill>
          <a:blip r:embed="rId3"/>
          <a:stretch/>
        </p:blipFill>
        <p:spPr>
          <a:xfrm>
            <a:off x="7451640" y="260280"/>
            <a:ext cx="1279440" cy="936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3:46:08Z</dcterms:created>
  <dc:creator>kssip</dc:creator>
  <dc:description/>
  <dc:language>en-US</dc:language>
  <cp:lastModifiedBy>tomkal</cp:lastModifiedBy>
  <dcterms:modified xsi:type="dcterms:W3CDTF">2013-05-30T12:59:15Z</dcterms:modified>
  <cp:revision>294</cp:revision>
  <dc:subject/>
  <dc:title>Slajd 1</dc:title>
</cp:coreProperties>
</file>