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FE35-AD52-47D1-833D-5611CB5C755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0617-94D1-4427-9947-5C9E9BB5A7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1502-7D52-4592-9627-938E0AAF2C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B4FA-EC59-434A-8BA3-386F46BA9A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2C2E-2187-42A5-B33E-94E4752FF3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9E09-B35F-47C8-B00E-5549C326602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798E-F504-408E-A967-CEDAD17AEA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A6FF-429C-413C-AB4C-A1E1E87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DCB2-1E20-4AD4-8DD8-46D52104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2348-A9F3-47A0-84DE-56D52DDCB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727200"/>
            <a:ext cx="665460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4945-4D00-4C16-8CCF-339C094E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20C9-9F95-4464-9BD8-A0587A0F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19E2-12A3-4B28-8639-820B8A8B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BCD6-5F6B-4BC0-926F-A6C9EB9B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727200"/>
            <a:ext cx="665460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FBB1-5480-4F30-917A-A9AFE631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D812-BD1F-430B-9765-0CAB47B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1976-4793-41FD-9E7C-12AB75B5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E0E2-E147-471E-952E-7CEC02D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4360" y="6597360"/>
            <a:ext cx="59752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algn="r">
              <a:lnSpc>
                <a:spcPct val="100000"/>
              </a:lnSpc>
              <a:buClr>
                <a:srgbClr val="8284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82848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284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A639-C441-4E21-96A4-0252C18A2ED5}" type="slidenum">
              <a:rPr b="0" lang="de-DE" sz="24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Picture 7" descr="SMJus_003_O_GR_100"/>
          <p:cNvPicPr/>
          <p:nvPr/>
        </p:nvPicPr>
        <p:blipFill>
          <a:blip r:embed="rId2"/>
          <a:stretch/>
        </p:blipFill>
        <p:spPr>
          <a:xfrm>
            <a:off x="5651640" y="189000"/>
            <a:ext cx="334008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räs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57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WelleOben"/>
          <p:cNvPicPr/>
          <p:nvPr/>
        </p:nvPicPr>
        <p:blipFill>
          <a:blip r:embed="rId4"/>
          <a:srcRect l="0" t="33067" r="0" b="0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SMJus_003_O_GR_100"/>
          <p:cNvPicPr/>
          <p:nvPr/>
        </p:nvPicPr>
        <p:blipFill>
          <a:blip r:embed="rId5"/>
          <a:stretch/>
        </p:blipFill>
        <p:spPr>
          <a:xfrm>
            <a:off x="5497560" y="363600"/>
            <a:ext cx="3340080" cy="49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981000"/>
            <a:ext cx="66549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.1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pływ obciążenia pracą na system sprawiedliw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-3520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ierwszy przykład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–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prawa KWL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zkoda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: 285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ln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ur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fak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biecana ugod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yrok izby ds. przestępstw gospodarczych w Lipsku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yrok federalnego Sądu Najwyższeg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nowne skierowanie sprawy do sądu w Dreźni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rugi przykład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–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prawa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achsenLB (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zkoda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nad 1 mld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ur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padek banku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skarżenie publiczn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92440" indent="-362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jak poradzić sobie z tą sprawą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.1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pływ obciążenia pracą na system sprawiedliw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goda sądow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rozwiązanie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stawa o Ugodzie sądowej z roku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aktyka w Niemczech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nieformalne porozumie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rzeczenie Federalnego Sądu Konstytucyjnego z dnia 19 marca 2013 roku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goda sądowa jako taka nigdy nie może stanowić wyłącznej podstawy dla wyroku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yznanie się do winy w ramach ugody sądowej musi zostać zweryfikowan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rozwiązywania grupowe”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amykanie innych spraw przez prokuratora) nie jest dopuszczaln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kluczowymi aspektami są transparentność i dokumentacj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.2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grożenia wynikające z przeciążenia prac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aklęty krąg przeciążenia pracą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gromna liczba ak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użo poczty przychodzącej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trzeba czasu przeczytanie i odpowiedzeni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niej czasu na pracę nad aktam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większająca się liczba ak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akta są tylko administrowan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jedynie powierzchowne procesowanie spra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trata reputacji sędziów i sąd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867564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.3.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powiedzialność członków zespołu za realizację zad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1:28:42Z</dcterms:created>
  <dc:creator>Biuro Tłumaczeń VIVALANG | www.vivalang.pl</dc:creator>
  <dc:description/>
  <dc:language>en-US</dc:language>
  <cp:lastModifiedBy>PM3</cp:lastModifiedBy>
  <dcterms:modified xsi:type="dcterms:W3CDTF">2013-04-08T13:29:53Z</dcterms:modified>
  <cp:revision>108</cp:revision>
  <dc:subject/>
  <dc:title>Oberlandesgericht Dresden</dc:title>
</cp:coreProperties>
</file>