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4D5-1277-4220-831B-6DFF902F43C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274-A034-40F6-AAB9-B193C06593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F17-9725-4595-8D25-34A74582DE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240F-5EF7-44E6-AD69-5B028B7751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354-8A27-47AB-A27D-4D2DBD6FB2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640-B118-48E7-9CEA-1505B6AE8B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6287-A085-4F5B-8BC1-2BC49B6FF6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10B1-E457-486A-95F0-315F0C48DC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BB2-BB6C-421F-8A69-5BD2E998AF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B7A-3AD3-40F8-9E1B-98E06F001D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D0C-D857-4666-B6AF-1C11F58F54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BA6-B83A-46B4-82A3-23B7E82ECC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806F-8EB6-491D-8A28-9131C85E4B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102-DCED-4C45-9BC4-B6A05AD4B2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DE15-0CB9-4D88-AA02-1D06DFEA05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81D3-69D6-45C9-8874-14F5B75CA2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C11E-C4E3-493F-84E6-DED25A0EF9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BE14-8F4C-4605-90F0-DC6F2A955D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244B-BB46-461A-A65E-51387B0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0E1C-9E88-4920-80B4-2CDD652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2E8A-4CC1-4BC8-939B-67ECF059A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1580-7DBE-4020-B5E4-4C05D60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932A-E355-48A9-A6DF-52B64235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5327-BC40-4A6D-98A7-BC68A4D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04D3-1C58-4FE1-8FFA-E9E2C0B4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7FD7-5A62-4983-ADAB-E2360F77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39BE-5EB5-44A9-9A80-5EEBB0B5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CFCA-2E30-43CD-B803-2D877CB9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15D1-8FFE-43B0-B28B-71C6E21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360" y="6597360"/>
            <a:ext cx="59752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2848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72C-FBBA-4957-BEC5-C72BDE115E6D}" type="slidenum">
              <a:rPr b="0" lang="de-DE" sz="24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7" descr="SMJus_003_O_GR_100"/>
          <p:cNvPicPr/>
          <p:nvPr/>
        </p:nvPicPr>
        <p:blipFill>
          <a:blip r:embed="rId2"/>
          <a:stretch/>
        </p:blipFill>
        <p:spPr>
          <a:xfrm>
            <a:off x="5651640" y="189000"/>
            <a:ext cx="334008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räs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57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WelleOben"/>
          <p:cNvPicPr/>
          <p:nvPr/>
        </p:nvPicPr>
        <p:blipFill>
          <a:blip r:embed="rId4"/>
          <a:srcRect l="0" t="33067" r="0" b="0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MJus_003_O_GR_100"/>
          <p:cNvPicPr/>
          <p:nvPr/>
        </p:nvPicPr>
        <p:blipFill>
          <a:blip r:embed="rId5"/>
          <a:stretch/>
        </p:blipFill>
        <p:spPr>
          <a:xfrm>
            <a:off x="5497560" y="363600"/>
            <a:ext cx="334008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981000"/>
            <a:ext cx="66549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bb§y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38120" y="1393920"/>
          <a:ext cx="8267760" cy="5121360"/>
        </p:xfrm>
        <a:graphic>
          <a:graphicData uri="http://schemas.openxmlformats.org/drawingml/2006/table">
            <a:tbl>
              <a:tblPr/>
              <a:tblGrid>
                <a:gridCol w="893880"/>
                <a:gridCol w="5691240"/>
                <a:gridCol w="1682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umer produ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ąd rejonowy – sędzio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średni czas w minutach (do chwili obecnej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odpowiedzialność lekarska, procesy budowlane, procesy dotyczące architektów, prawo spółek, prawo antytrustow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9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techniczne prawa własności intelektualnej (pate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1</a:t>
                      </a: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rawo najmu, prawo leasingu, prawo kredyt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36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wypadki drogowe, prawo umów ubezpieczeniowych, prawo inwestycji kapitał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64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ozostałe sprawy cywilne, niezależne procedury zbierania dowod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4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prawy odwoławcz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5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kar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3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zynności podejmowane w izbie ds. handl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karne z zakresu ochrony środowiska, przestępstw podatkowych i handl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18</a:t>
                      </a: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ozostałe postępowania karne prowadzone w pierwszej instan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4</a:t>
                      </a: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ąd przysięgł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13</a:t>
                      </a: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odwoławcze prawa kar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1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ozprawy w sądzie dla nieletn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(7</a:t>
                      </a: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RL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bb§y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3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3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38120" y="1370160"/>
          <a:ext cx="8267760" cy="3941640"/>
        </p:xfrm>
        <a:graphic>
          <a:graphicData uri="http://schemas.openxmlformats.org/drawingml/2006/table">
            <a:tbl>
              <a:tblPr/>
              <a:tblGrid>
                <a:gridCol w="965160"/>
                <a:gridCol w="5276880"/>
                <a:gridCol w="202572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umer produ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yżsi rangą urzędnicy sądow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średni czas w minut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ycena kosztów, pomoc prawna i inne w prace zakresie spraw cywil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ycena kosztów, wynagrodzenia dla wyznaczonego przez sąd obrońcę oraz inne w prace zakresie spraw kar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związane z  komitetem pracowniczy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kontrola komornika sądow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kręgowy kontroler, przedstawiciel skarbu państw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duk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zkol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zarządzanie personelem (H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gólne obowiązki administracyj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L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związane z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bb§y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38120" y="1346040"/>
          <a:ext cx="8267760" cy="5237280"/>
        </p:xfrm>
        <a:graphic>
          <a:graphicData uri="http://schemas.openxmlformats.org/drawingml/2006/table">
            <a:tbl>
              <a:tblPr/>
              <a:tblGrid>
                <a:gridCol w="1187640"/>
                <a:gridCol w="5054400"/>
                <a:gridCol w="2025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umer produ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ąd rejonowy – zespoły obsłu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średni czas w minut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cywilne – pierwsza instan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cywilne – odwołania co do faktów i pr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kargi (opieka prawna, sprawy cywilne, sprawy rodzinn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zynności podejmowane w izbie ds. handl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karne pierwsza instan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karne pierwsza instan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ykonywanie orzeczeń sądu i nadzór nad postępowani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ostępność pod telefo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sparcie dla kuratorów sąd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ada pracownicza, przedstawiciel niepełnosprawnych pracowników, pełnomocnik ds. równych sza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duk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zkol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zarządzanie personelem (H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gólne sprawy administracyj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L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prawy związane z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4440" y="588600"/>
            <a:ext cx="66549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ne statystycz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93816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5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dane statystyczne dotyczące napływu spraw, liczby zakończonych i niezakończonych spraw 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obciążenie pracą izb sądu rejonowego w Lipsku w styczniu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izby cywiln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Rectangle 81"/>
          <p:cNvSpPr/>
          <p:nvPr/>
        </p:nvSpPr>
        <p:spPr>
          <a:xfrm>
            <a:off x="-1549440" y="46368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6"/>
          <p:cNvSpPr/>
          <p:nvPr/>
        </p:nvSpPr>
        <p:spPr>
          <a:xfrm>
            <a:off x="-1549440" y="463680"/>
            <a:ext cx="12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0840" y="1633680"/>
          <a:ext cx="8856720" cy="5200560"/>
        </p:xfrm>
        <a:graphic>
          <a:graphicData uri="http://schemas.openxmlformats.org/drawingml/2006/table">
            <a:tbl>
              <a:tblPr/>
              <a:tblGrid>
                <a:gridCol w="1423800"/>
                <a:gridCol w="2133720"/>
                <a:gridCol w="1185840"/>
                <a:gridCol w="974880"/>
                <a:gridCol w="1050840"/>
                <a:gridCol w="20876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iz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rzewodniczący składu sędziowsk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ierwsza instanc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iezakończone spraw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pły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zakońc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iezakończone sprawy według stanu na koniec miesią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koni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1. ZK = </a:t>
                      </a: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krót od iz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2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3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4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2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5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Wiceprezes </a:t>
                      </a: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De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6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rez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7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8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7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6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1800" y="588600"/>
            <a:ext cx="66549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ne statystycz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96984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5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dane statystyczne dotyczące napływu spraw, liczby zakończonych i niezakończonych spraw 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obciążenie pracą izb sądu rejonowego w Lipsku w styczniu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333333"/>
                </a:solidFill>
                <a:latin typeface="Arial"/>
              </a:rPr>
              <a:t>izby cywiln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-1549440" y="46368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1549440" y="463680"/>
            <a:ext cx="12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5600" y="1679400"/>
          <a:ext cx="8597880" cy="5151600"/>
        </p:xfrm>
        <a:graphic>
          <a:graphicData uri="http://schemas.openxmlformats.org/drawingml/2006/table">
            <a:tbl>
              <a:tblPr/>
              <a:tblGrid>
                <a:gridCol w="1208160"/>
                <a:gridCol w="2111400"/>
                <a:gridCol w="1217520"/>
                <a:gridCol w="741240"/>
                <a:gridCol w="1055880"/>
                <a:gridCol w="1208160"/>
                <a:gridCol w="10555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iz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rzewodniczący składu sędziowsk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apelac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kar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prawy na koniec miesią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pły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zakońc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prawy na koniec miesią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koni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1. ZK = </a:t>
                      </a: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krót od iz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2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3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4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5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Wiceprezes </a:t>
                      </a: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De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6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Prez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7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8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7. Z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nazwisko przewodniczącego składu sędziow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3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miar efektywności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eferenci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cena i awansowanie urzędników sądowy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m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badanie zespołów obsług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ciążenie pracą wydziałów ksiąg wieczysty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miar indywidualnych wynik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727200"/>
            <a:ext cx="784872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4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między administracją a orzecznictw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8120" y="1267920"/>
            <a:ext cx="826776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34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0">
              <a:lnSpc>
                <a:spcPct val="50000"/>
              </a:lnSpc>
              <a:spcBef>
                <a:spcPts val="1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kład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: 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prowadzenie elektronicznych rejestrów ksiąg wieczystych i elektronicznych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okumentów dotyczących w Saksoni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1400"/>
              </a:spcBef>
              <a:spcAft>
                <a:spcPts val="1001"/>
              </a:spcAft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rajowe Ministerstwo Sprawiedliwości ustala wprowadzenie takiego rozwiąza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1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rajowe Ministerstwo Sprawiedliwości powołuje zespół projektowy składający się z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47440" indent="-34452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ekspertów w dziedzinie I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47440" indent="-34452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ewnętrznych konsultantów organizacj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47440" indent="-34452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oświadczonego pracownika jednego sąd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rganizacyjny przegląd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analiza procedu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pracowywanie oprogramowania w związku z proceduram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Testowan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oskonalenie oprogramowa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rugie testowan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prowadzenie plików danych nieruchomości w jednym sądz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4080" indent="-3340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ruchomienie w pozostałych sądach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strukturyzacja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dministracji sądowe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37680" indent="-337680"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dania rejestru sądowego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realizuje wszystkie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ozostałe funkcj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a również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jmuje się zapisywaniem dyktowanych tekst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Restrukturyzacja do zespołów obsługi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spcBef>
                <a:spcPts val="1749"/>
              </a:spcBef>
              <a:spcAft>
                <a:spcPts val="601"/>
              </a:spcAft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niektórzy pracownicy zajmowali się tylko zapisywaniem dyktowanych tekstów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inni wydawali zaświadczenia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zkolenie w ramach 14-tygodniowego kursu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teraz każdy musi wykonywać wszystkie zadania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rojekt: „wsparcie sędziego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espoły obsługi potrafią wykonywać dodatkowe zadania, takie jak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rządzanie terminami rozpraw sądowych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obliczanie pomocy prawnej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5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nadzór kurator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oprogramowanie forumSTAR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dania biurowe dla sędzi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75880"/>
            <a:ext cx="784872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ęż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stawienia uzasadnienia wyroków sądowy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nności administr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8120" y="1268280"/>
            <a:ext cx="82677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4880" indent="-344880">
              <a:lnSpc>
                <a:spcPct val="90000"/>
              </a:lnSpc>
              <a:spcBef>
                <a:spcPts val="25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33"/>
                </a:solidFill>
                <a:latin typeface="Arial"/>
              </a:rPr>
              <a:t>Zmniejszenie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333333"/>
                </a:solidFill>
                <a:latin typeface="Arial"/>
              </a:rPr>
              <a:t>obciążenia dotyczącego przedstawienia uzasadnienia wyroków sądowych poprzez wprowadzenie statutowych regulacj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Kodeks postępowania cywiln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Par.</a:t>
            </a:r>
            <a:r>
              <a:rPr b="1" lang="en-GB" sz="1400" spc="-1" strike="noStrike">
                <a:solidFill>
                  <a:srgbClr val="333333"/>
                </a:solidFill>
                <a:latin typeface="Arial"/>
              </a:rPr>
              <a:t> 313</a:t>
            </a:r>
            <a:br>
              <a:rPr sz="1400"/>
            </a:b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Form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i treść wyroku sądow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(1)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yrok sądu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1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skazuje strony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ich przedstawicieli prawnych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i adwokatów występujących w sprawi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2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skazuje sąd oraz nazwiska sędziów uczestniczących w podejmowaniu decyzji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3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Termin, w którym postępowanie sądowe zostało uznane za zakończon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4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Sentencja wyroku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5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Podstawy prawne prowadzonej sprawy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6.  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Uzasadnienie orzeczeni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(2)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Część dotycząca faktów i kwestii merytorycznych sprawy stanowi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krótkie podsumowanie</a:t>
            </a:r>
            <a:r>
              <a:rPr b="1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i zawiera tylko istotne treści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uzasadnione roszczenia oraz środki zaskarżenia lub obrony stosowane w sądzi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ze szczególnym uwzględnieniem złożonych wniosków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Szczegóły dotyczące okoliczności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i faktów, jak również dotychczasowy status sporu muszą być ujęt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 formie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odniesieni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dotyczącego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pism procesowych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protokołów z posiedzeń sądu oraz innych dokumentów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7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(3)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Uzasadnienie wyroku zawiera krótkie podsumowanie kwestii dotyczących faktów i okoliczności sprawy oraz aspekty prawne, na których oparto wydane orzeczeni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812520"/>
            <a:ext cx="784872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ęż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stawienia uzasadnienia wyroków sądowy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nności administr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8120" y="1268280"/>
            <a:ext cx="82677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74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Kodeks postępowania cywiln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542880" indent="0" algn="ctr">
              <a:spcBef>
                <a:spcPts val="1749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Par.</a:t>
            </a:r>
            <a:r>
              <a:rPr b="1" i="1" lang="en-GB" sz="1400" spc="-1" strike="noStrike">
                <a:solidFill>
                  <a:srgbClr val="333333"/>
                </a:solidFill>
                <a:latin typeface="Arial"/>
              </a:rPr>
              <a:t> 540</a:t>
            </a:r>
            <a:br>
              <a:rPr sz="1400"/>
            </a:b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Treść wyroku apelacyjn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542880" indent="0">
              <a:spcBef>
                <a:spcPts val="1749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(1)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Zamiast faktów dotyczących sprawy i podstawy wydania orzeczeni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yrok apelacyjny zawier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542880" indent="0">
              <a:spcBef>
                <a:spcPts val="1749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1.  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Odniesienie</a:t>
            </a:r>
            <a:r>
              <a:rPr b="1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do faktycznych ustaleń poczynionych w kwestionowanym orzeczeniu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opisujące wszelkie zmiany lub poprawki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542880" indent="0">
              <a:spcBef>
                <a:spcPts val="1749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2.  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Krótkie omówieni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powodów dokonanej zmiany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odrzucenia lub przyjęcia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zakwestionowanego orzeczenia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542880" indent="0">
              <a:spcBef>
                <a:spcPts val="1749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W przypadku, gdy wyrok zostaje ogłoszony na posiedzeniu, na którym zakończone zostanie postępowanie sądowe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i="1" lang="pl-PL" sz="1400" spc="-1" strike="noStrike">
                <a:solidFill>
                  <a:srgbClr val="333333"/>
                </a:solidFill>
                <a:latin typeface="Arial"/>
              </a:rPr>
              <a:t>przedstawienie sprawy, według zapisu zawartego w pierwszym zdaniu niniejszego ustępu może również zostać dołączone do protokołu z posiedzenia sądu</a:t>
            </a: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ciążenie pracą sędziów w Niemcz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cywiln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liczba spraw wpływających w ciągu roku przypadających na jednego sędzi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343160"/>
          <a:ext cx="90871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3160"/>
                    <a:ext cx="90871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923760" y="57056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127320" y="59594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369040" y="595944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sąd handl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602400" y="5969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skar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60480" y="5950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666699"/>
                </a:solidFill>
                <a:latin typeface="Arial"/>
              </a:rPr>
              <a:t>skar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246560" y="5940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apelac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31880" y="59500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666699"/>
                </a:solidFill>
                <a:latin typeface="Arial"/>
              </a:rPr>
              <a:t>apelac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7812000" y="57103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sąd lok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156120" y="56894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808000"/>
                </a:solidFill>
                <a:latin typeface="Arial"/>
              </a:rPr>
              <a:t>sąd rejon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740720" y="5969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cywiln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as procesowania w miesiąc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141120" y="1268280"/>
          <a:ext cx="90028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68280"/>
                    <a:ext cx="90028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771480" y="5861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492360" y="586728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808000"/>
                </a:solidFill>
                <a:latin typeface="Arial"/>
              </a:rPr>
              <a:t>sąd rejonow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335640" y="585792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3366"/>
                </a:solidFill>
                <a:latin typeface="Arial"/>
              </a:rPr>
              <a:t>sąd lok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087720" y="61214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960800" y="610884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sąd handl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794640" y="61167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189080" y="61279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666699"/>
                </a:solidFill>
                <a:latin typeface="Arial"/>
              </a:rPr>
              <a:t>apelac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karn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a spraw wpływających w ciągu roku przypadających na jednego sędzi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04760" y="1344600"/>
          <a:ext cx="9163080" cy="47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344600"/>
                    <a:ext cx="916308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5"/>
          <p:cNvSpPr/>
          <p:nvPr/>
        </p:nvSpPr>
        <p:spPr>
          <a:xfrm>
            <a:off x="2230560" y="61689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527280" y="618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apelac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94200" y="6178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skar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537320" y="61786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postępowania dot. kar finans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175440" y="617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sprawy karne 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65280" y="579600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989000" y="58482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808000"/>
                </a:solidFill>
                <a:latin typeface="Arial"/>
              </a:rPr>
              <a:t>sąd rejon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516720" y="583416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3366"/>
                </a:solidFill>
                <a:latin typeface="Arial"/>
              </a:rPr>
              <a:t>sąd lok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karne – czas procesowania w miesiąc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41120" y="1268280"/>
          <a:ext cx="90028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68280"/>
                    <a:ext cx="90028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2135160" y="613080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666699"/>
                </a:solidFill>
                <a:latin typeface="Arial"/>
              </a:rPr>
              <a:t>skargi dot. kwestii pra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92360" y="61405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710240" y="61498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8000"/>
                </a:solidFill>
                <a:latin typeface="Arial"/>
              </a:rPr>
              <a:t>apelac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927760" y="61405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sprawy karne 1. instan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226280" y="6130800"/>
            <a:ext cx="127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3366"/>
                </a:solidFill>
                <a:latin typeface="Arial"/>
              </a:rPr>
              <a:t>postępowania dot. kar finans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00000" y="612612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666699"/>
                </a:solidFill>
                <a:latin typeface="Arial"/>
              </a:rPr>
              <a:t>apelacje dot. kwestii pra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23760" y="585792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371760" y="586116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808000"/>
                </a:solidFill>
                <a:latin typeface="Arial"/>
              </a:rPr>
              <a:t>sąd rejon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084720" y="5864400"/>
            <a:ext cx="22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3366"/>
                </a:solidFill>
                <a:latin typeface="Arial"/>
              </a:rPr>
              <a:t>sąd lok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rodzinn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a spraw wpływających w ciągu roku przypadających na jednego sędzi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571680" y="1343160"/>
          <a:ext cx="795168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343160"/>
                    <a:ext cx="79516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5"/>
          <p:cNvSpPr/>
          <p:nvPr/>
        </p:nvSpPr>
        <p:spPr>
          <a:xfrm>
            <a:off x="1692360" y="60674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kar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042920" y="5749920"/>
            <a:ext cx="33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941720" y="573408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66"/>
                </a:solidFill>
                <a:latin typeface="Arial"/>
              </a:rPr>
              <a:t>sąd rejo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13720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3366"/>
                </a:solidFill>
                <a:latin typeface="Arial"/>
              </a:rPr>
              <a:t>1. instan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727200"/>
            <a:ext cx="77040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rawy rodzinn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as procesowania w miesiąc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79280" y="1628640"/>
          <a:ext cx="83440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344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1171440" y="556092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6699"/>
                </a:solidFill>
                <a:latin typeface="Arial"/>
              </a:rPr>
              <a:t>sąd okręg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745160" y="55418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66"/>
                </a:solidFill>
                <a:latin typeface="Arial"/>
              </a:rPr>
              <a:t>sąd rejo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501920" y="59324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6699"/>
                </a:solidFill>
                <a:latin typeface="Arial"/>
              </a:rPr>
              <a:t>skar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37040" y="5940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3366"/>
                </a:solidFill>
                <a:latin typeface="Arial"/>
              </a:rPr>
              <a:t>1. instan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2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eryfikacja obciążenia pracą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bb§y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ebb§y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jest matematyczno-analityczną metodą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liczania zapotrzebowania na person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ostanie zaktualizowane w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tematy analizy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ciążenie pracą sądów powszechny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5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 odniesieniu do sędziów, wyższych rangą urzędników sądowych i personelu biuroweg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uczestnicy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50 sąd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cel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średni czas potrzebny na wykonanie określonego zada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28:42Z</dcterms:created>
  <dc:creator>Biuro Tłumaczeń VIVALANG | www.vivalang.pl</dc:creator>
  <dc:description/>
  <dc:language>en-US</dc:language>
  <cp:lastModifiedBy>PM3</cp:lastModifiedBy>
  <dcterms:modified xsi:type="dcterms:W3CDTF">2013-04-08T14:05:07Z</dcterms:modified>
  <cp:revision>148</cp:revision>
  <dc:subject/>
  <dc:title>Oberlandesgericht Dresden</dc:title>
</cp:coreProperties>
</file>