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EA35-C5FF-4599-8202-5BD0F92174CD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A35C-FAC6-4E7E-B17E-2FA0C0A92DD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1188-BEF7-45C3-904A-DBED606340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E05-373F-4DA4-B1E9-C466EE6647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5800-0634-4494-92D5-A005A43DDA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8662-8828-4696-BD8F-1B4C4E06AC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B172-E444-4ECC-8BA3-D5844744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A118-7185-434D-A0DC-F7FA8DA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CCB6-4B55-4481-BA28-73B323E7BB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727200"/>
            <a:ext cx="665460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2016-7EE7-4D3C-89D9-1EE63D41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E3D2-87BB-4E56-94EA-2EFD6801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F56F-BEE4-4A49-93DB-897DAC43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2CEE-F343-4AB5-9850-0AEDDB71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727200"/>
            <a:ext cx="665460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4E23-8BC3-46BA-ABC5-42C235EB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C70F-5ED1-43FF-ADB8-E840F8AC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F917-4D47-404F-B5C0-2CB62B9A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3B98-0D83-48EF-8D41-CE70D3E4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4360" y="6597360"/>
            <a:ext cx="59752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algn="r">
              <a:lnSpc>
                <a:spcPct val="100000"/>
              </a:lnSpc>
              <a:buClr>
                <a:srgbClr val="8284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82848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284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45AA-765F-467E-986B-F1DA572850E4}" type="slidenum">
              <a:rPr b="0" lang="de-DE" sz="24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" name="Picture 7" descr="SMJus_003_O_GR_100"/>
          <p:cNvPicPr/>
          <p:nvPr/>
        </p:nvPicPr>
        <p:blipFill>
          <a:blip r:embed="rId2"/>
          <a:stretch/>
        </p:blipFill>
        <p:spPr>
          <a:xfrm>
            <a:off x="5651640" y="189000"/>
            <a:ext cx="334008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räs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576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WelleOben"/>
          <p:cNvPicPr/>
          <p:nvPr/>
        </p:nvPicPr>
        <p:blipFill>
          <a:blip r:embed="rId4"/>
          <a:srcRect l="0" t="33067" r="0" b="0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SMJus_003_O_GR_100"/>
          <p:cNvPicPr/>
          <p:nvPr/>
        </p:nvPicPr>
        <p:blipFill>
          <a:blip r:embed="rId5"/>
          <a:stretch/>
        </p:blipFill>
        <p:spPr>
          <a:xfrm>
            <a:off x="5497560" y="363600"/>
            <a:ext cx="3340080" cy="49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8120" y="981000"/>
            <a:ext cx="66549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V.1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e zespołowe w kwestii obciążenia prac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prawnienia prezydiu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asada równośc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iedza zdobywana w drodze doświadczen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ypracowane praktyk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stanowienia i zasady stosowane do harmonogramu obowiązkó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średnie obciążenie pracą jako podstawa do przeciążen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V.2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lider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Co może zrobić administracja sądu, aby stworzyć system pracy zespołowej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nie może zarządzić pracy zespołowej w wydziałach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oże odpowiednio zmotywować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oże udzielić wskazówek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ożliwe działania obejmują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instytucjonalizowaną wymianę i przekazywanie doświadczen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jour fixe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 stały (dzień tygodnia wyznaczony na załatwianie spraw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arszta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amieszczanie informacji w interneci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867564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V.3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praca między wydział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dział etatów pomiędzy wydział cywilny i karn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łagodzenie konfliktów między wydziałem cywilnym a karnym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delegowanie zadań sądowych do zespołów obsług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espoły obsługi wraz z sędziami omawiają możliwości zoptymalizowania procedu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1:28:42Z</dcterms:created>
  <dc:creator>Biuro Tłumaczeń VIVALANG | www.vivalang.pl</dc:creator>
  <dc:description/>
  <dc:language>en-US</dc:language>
  <cp:lastModifiedBy>PM3</cp:lastModifiedBy>
  <dcterms:modified xsi:type="dcterms:W3CDTF">2013-04-08T13:30:46Z</dcterms:modified>
  <cp:revision>106</cp:revision>
  <dc:subject/>
  <dc:title>Oberlandesgericht Dresden</dc:title>
</cp:coreProperties>
</file>