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FBD8-E8F7-47D1-9045-DFE0A71DBFE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B115-A31D-420A-80DF-E8A6E97AD4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0D2-4782-4059-9E35-A6010AE1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B86-C7F0-4A1E-823C-B1BD73AA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222-5343-4155-908C-8679CBC4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8F1-E86B-4AE8-9EBF-259B0A03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4ACD-0BDE-4E88-9AB7-8BD02415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0B0A-098D-425E-8F7B-C01EDCA8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0E7E-7D28-4402-8F7C-337303BB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D075-F332-4460-A3A8-3ED543B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5C5B-1988-49A4-9D24-D65425E0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25D5-9B83-4A23-B04C-0CA8E395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30FF-67C9-41D3-8500-8712CB87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399-9A61-470D-991B-965AD594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21BE-53EC-474D-8B09-EA999D13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F9BB-2080-463E-A510-1436681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23A3-6B88-49BE-BC80-AB700288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00FD-C529-4488-B4DC-4E5D3420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A026-BFFE-4324-85B4-6AC8D27C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707E-E77D-4E4B-9B48-0647C2D6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617E-71F4-415F-85DE-A1E523E4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74A2-F353-412B-9848-06F196EE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C6E5-8D60-4201-B620-4BA94F6A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4F7D-9C02-422D-A9C4-6646CBE2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2EB-8239-46E8-A8EF-A391BF5B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1F67-E6A4-439D-8C4A-FB4308E8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E606-3349-406F-8C77-A6C8E86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DD5D9-528A-420C-9263-1092E018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66D2-F426-4BBA-B9C8-B476257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FCA6-0218-4F47-BBB3-F97E6526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0D2D-80D6-4D26-B78A-CBC78DCA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3182-0271-4D74-B045-CE890EC8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E4B-7FCA-4E5B-9C5E-4B1CF414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38B-967D-46F4-8250-04776641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1AC-49E2-4242-BBF3-A33829B2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319-CB98-4E73-A215-4FD0667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C65-5D41-403D-834F-1DD638FC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814-DCA3-402F-A575-D150F0C0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F411-FB69-4659-BD61-6BD8FC259740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5672-6500-41EB-A957-813CA4492BB4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6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4" name="Round Same Side Corner Rectangle 7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63DA-8EAD-45B8-A958-50334C432A1F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BE1-28A9-483A-BAC6-B7075C260187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886A-69EB-4BD3-9EBE-2B364630B9C5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0FF9-3A5B-4C1B-8967-E2EC557ABAED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pl/imgres?q=good+practice&amp;hl=pl&amp;biw=1366&amp;bih=683&amp;tbm=isch&amp;tbnid=3vexoTFVuJTnlM:&amp;imgrefurl=http://booleanstrings.com/2011/02/08/7-best-practices-for-searching/&amp;docid=8O9jqa4nfHVAFM&amp;imgurl=http://booleanstrings.com/wp-content/uploads/2011/02/best-practice1.jpg%253Fw%253D150&amp;w=512&amp;h=384&amp;ei=h0hgUa3LKsi54ASyy4H4AQ&amp;zoom=1&amp;ved=1t:3588,r:24,s:0,i:158&amp;iact=rc&amp;dur=1206&amp;page=2&amp;tbnh=178&amp;tbnw=259&amp;start=18&amp;ndsp=25&amp;tx=187&amp;ty=8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pl/imgres?q=business+partners&amp;start=270&amp;hl=pl&amp;biw=1366&amp;bih=683&amp;tbm=isch&amp;tbnid=yeTciN2_xpoPSM:&amp;imgrefurl=http://www.greenhornconnect.com/blog/5-characteristics-ideal-business-partner&amp;docid=i6kGrWnI0g03wM&amp;imgurl=http://absolutelyfreeads.webs.com/sales.jpg&amp;w=800&amp;h=564&amp;ei=O1BgUbyyEcnHPJKrgKAD&amp;zoom=1&amp;ved=1t:3588,r:82,s:200,i:250&amp;iact=rc&amp;dur=626&amp;page=14&amp;tbnh=188&amp;tbnw=267&amp;ndsp=20&amp;tx=150&amp;ty=8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pl/imgres?q=workload+management&amp;hl=pl&amp;sa=X&amp;biw=1366&amp;bih=683&amp;tbm=isch&amp;tbnid=66SoGXoCgOu4VM:&amp;imgrefurl=http://www.compasswebsite.com/s_workload_management.htm&amp;docid=7uaYdELRcY1EzM&amp;imgurl=http://www.compasswebsite.com/images/image_thumb27.jpg&amp;w=230&amp;h=164&amp;ei=7D5gUfS6BoKL7Aa2mYHoDg&amp;zoom=1&amp;ved=1t:3588,r:17,s:0,i:132&amp;iact=rc&amp;dur=919&amp;page=1&amp;tbnh=131&amp;tbnw=184&amp;start=0&amp;ndsp=18&amp;tx=113&amp;ty=68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workload&amp;source=images&amp;cd=&amp;cad=rja&amp;docid=z7lQTP853km_hM&amp;tbnid=ciwgxFHo9rD0sM:&amp;ved=0CAUQjRw&amp;url=http%3A%2F%2Fmichaelhyatt.com%2Fwhen-you-feel-overwhelmed-by-your-workload.html&amp;ei=WzNgUY7PGYOvPLvegNgI&amp;bvm=bv.44770516,d.ZGU&amp;psig=AFQjCNGsmLahtgRqECLlPalNzTlxl2U9xQ&amp;ust=1365344683972223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   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I KOSZTAMI POSTĘPOWAŃ SĄDOWYCH – CASE MANAGEMENT”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rostokąt 5"/>
          <p:cNvSpPr/>
          <p:nvPr/>
        </p:nvSpPr>
        <p:spPr>
          <a:xfrm>
            <a:off x="4284720" y="1989000"/>
            <a:ext cx="48592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KOMPONENT PONADNARODOWY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II seminarium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szawa, 8-10.04.2013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250920" y="5516640"/>
            <a:ext cx="8713800" cy="792000"/>
            <a:chOff x="250920" y="5516640"/>
            <a:chExt cx="8713800" cy="792000"/>
          </a:xfrm>
        </p:grpSpPr>
        <p:pic>
          <p:nvPicPr>
            <p:cNvPr id="137" name="Picture 35" descr="znak_kapital_ludzki"/>
            <p:cNvPicPr/>
            <p:nvPr/>
          </p:nvPicPr>
          <p:blipFill>
            <a:blip r:embed="rId1"/>
            <a:stretch/>
          </p:blipFill>
          <p:spPr>
            <a:xfrm>
              <a:off x="250920" y="5516640"/>
              <a:ext cx="2178360" cy="69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6" descr="logoMRR"/>
            <p:cNvPicPr/>
            <p:nvPr/>
          </p:nvPicPr>
          <p:blipFill>
            <a:blip r:embed="rId2"/>
            <a:stretch/>
          </p:blipFill>
          <p:spPr>
            <a:xfrm>
              <a:off x="2719800" y="5654520"/>
              <a:ext cx="18878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7" descr="Logo-KSSiP-2"/>
            <p:cNvPicPr/>
            <p:nvPr/>
          </p:nvPicPr>
          <p:blipFill>
            <a:blip r:embed="rId3"/>
            <a:stretch/>
          </p:blipFill>
          <p:spPr>
            <a:xfrm>
              <a:off x="5414040" y="5516640"/>
              <a:ext cx="7912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8" descr="EFS_UE_Logo"/>
            <p:cNvPicPr/>
            <p:nvPr/>
          </p:nvPicPr>
          <p:blipFill>
            <a:blip r:embed="rId4"/>
            <a:stretch/>
          </p:blipFill>
          <p:spPr>
            <a:xfrm>
              <a:off x="6761520" y="5516640"/>
              <a:ext cx="220320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324000" y="2133720"/>
            <a:ext cx="4010040" cy="2447640"/>
          </a:xfrm>
          <a:prstGeom prst="rect">
            <a:avLst/>
          </a:prstGeom>
          <a:ln w="0">
            <a:noFill/>
          </a:ln>
        </p:spPr>
      </p:pic>
      <p:sp>
        <p:nvSpPr>
          <p:cNvPr id="142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AF0D-DF93-41DC-B01B-F40AE1161E44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7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8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36B8-DEC7-431E-9A95-01D810B008B1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9" name="Prostokąt 3"/>
          <p:cNvSpPr/>
          <p:nvPr/>
        </p:nvSpPr>
        <p:spPr>
          <a:xfrm>
            <a:off x="395280" y="1628640"/>
            <a:ext cx="8416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OBRE PRAKTYKI”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IME AND COAST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RKLOAD MANAGEMENT 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50920" y="5805360"/>
            <a:ext cx="8642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zajęcia warsztatowe w grupach (narodowych)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1" name="Picture 2" descr="ANd9GcQmFvX5Wv5Qv_p2I5gSLng4TWzeK8qB8I9Uje2RTP82j8AhHk4r-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3549600"/>
            <a:ext cx="3960720" cy="2111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3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6A03-74F0-42BB-990A-1AF4E1757A8A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79280" y="5445000"/>
            <a:ext cx="87138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podsumowanie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5" name="Prostokąt 3"/>
          <p:cNvSpPr/>
          <p:nvPr/>
        </p:nvSpPr>
        <p:spPr>
          <a:xfrm>
            <a:off x="395280" y="1844640"/>
            <a:ext cx="84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f68"/>
                </a:solidFill>
                <a:latin typeface="Arial"/>
              </a:rPr>
              <a:t>UPGRADE YOUR MANAGEMENT SKILLS</a:t>
            </a: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6" name="irc_mi" descr="foto_1265984137"/>
          <p:cNvPicPr/>
          <p:nvPr/>
        </p:nvPicPr>
        <p:blipFill>
          <a:blip r:embed="rId1"/>
          <a:stretch/>
        </p:blipFill>
        <p:spPr>
          <a:xfrm>
            <a:off x="2484360" y="2924280"/>
            <a:ext cx="4286160" cy="2401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rostokąt 3"/>
          <p:cNvSpPr/>
          <p:nvPr/>
        </p:nvSpPr>
        <p:spPr>
          <a:xfrm>
            <a:off x="250920" y="5013360"/>
            <a:ext cx="86421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Monotype Corsiva"/>
              </a:rPr>
              <a:t>dziękujemy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OMASZ KAŁUŻN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RZYSZTOF HEJOSZ prezes@bialystok.sr.gov.pl                                      prezes@katowice-zachod.sr.gov.pl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8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9" name="Picture 2" descr="http://t3.gstatic.com/images?q=tbn:ANd9GcTJp4faazC3WlUw7ZJaSKyzxhdSdETlpaZZO84YTjqHVS6Z9UXU"/>
          <p:cNvPicPr/>
          <p:nvPr/>
        </p:nvPicPr>
        <p:blipFill>
          <a:blip r:embed="rId1"/>
          <a:stretch/>
        </p:blipFill>
        <p:spPr>
          <a:xfrm>
            <a:off x="3132000" y="2421000"/>
            <a:ext cx="2814840" cy="2305080"/>
          </a:xfrm>
          <a:prstGeom prst="rect">
            <a:avLst/>
          </a:prstGeom>
          <a:ln w="0">
            <a:noFill/>
          </a:ln>
        </p:spPr>
      </p:pic>
      <p:sp>
        <p:nvSpPr>
          <p:cNvPr id="210" name="Prostokąt 2"/>
          <p:cNvSpPr/>
          <p:nvPr/>
        </p:nvSpPr>
        <p:spPr>
          <a:xfrm>
            <a:off x="2987640" y="1628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c0504d"/>
                </a:solidFill>
                <a:latin typeface="Monotype Corsiva"/>
              </a:rPr>
              <a:t>pytania ???</a:t>
            </a:r>
            <a:endParaRPr b="1" lang="en-US" sz="4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1" name="Prostokąt 1"/>
          <p:cNvSpPr/>
          <p:nvPr/>
        </p:nvSpPr>
        <p:spPr>
          <a:xfrm>
            <a:off x="250920" y="37944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                                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2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D8C-1AC0-4755-8A2F-F28CCAA17382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4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483920"/>
            <a:ext cx="856908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RTNERZY PROJEK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ISTRICT COURT OF ROERMOND -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XON STATE MINISTRY OF JUSTICE AND EUROPEAN AFFAIRS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NISTRY OF JUSTICE, DEPARTMENT OF JUDICIAL ADMINISTRATION, TRAINING UNIT -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YAL COURT OF JUSTICE, JUDICIAL OFFICE - EN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RAJOWA SZKOŁA SĄDOWNICTWA I PROKURATURY - POL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4C29-1915-42BA-A47D-DCD82FFF2752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47" name="Picture 7" descr="ANd9GcQqoSlmbpBMRvjy1yT4p2w_HBix46OlY-1LtTQTrNwyXgxC6U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076640"/>
            <a:ext cx="4319640" cy="2305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9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0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D112-C9FD-4A07-BC50-E27338FB2225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1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2" name="Prostokąt 7"/>
          <p:cNvSpPr/>
          <p:nvPr/>
        </p:nvSpPr>
        <p:spPr>
          <a:xfrm>
            <a:off x="1258920" y="3068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3" name="Prostokąt 9"/>
          <p:cNvSpPr/>
          <p:nvPr/>
        </p:nvSpPr>
        <p:spPr>
          <a:xfrm>
            <a:off x="1258920" y="3860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4" name="Prostokąt 10"/>
          <p:cNvSpPr/>
          <p:nvPr/>
        </p:nvSpPr>
        <p:spPr>
          <a:xfrm>
            <a:off x="1258920" y="465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5" name="Prostokąt 11"/>
          <p:cNvSpPr/>
          <p:nvPr/>
        </p:nvSpPr>
        <p:spPr>
          <a:xfrm>
            <a:off x="1187280" y="558972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6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przepływem spraw – case flow i case managemen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7" name="Prostokąt 13"/>
          <p:cNvSpPr/>
          <p:nvPr/>
        </p:nvSpPr>
        <p:spPr>
          <a:xfrm>
            <a:off x="1908000" y="3068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czasem i kosztami postępowań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andaryzacja postępowań sądowych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8" name="Prostokąt 14"/>
          <p:cNvSpPr/>
          <p:nvPr/>
        </p:nvSpPr>
        <p:spPr>
          <a:xfrm>
            <a:off x="1908000" y="3860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obciążeniem pracą w sąda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9" name="Prostokąt 15"/>
          <p:cNvSpPr/>
          <p:nvPr/>
        </p:nvSpPr>
        <p:spPr>
          <a:xfrm>
            <a:off x="1908000" y="465300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wykorzystywanie technik informatyczny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– 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IT case managamen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0" name="Prostokąt 16"/>
          <p:cNvSpPr/>
          <p:nvPr/>
        </p:nvSpPr>
        <p:spPr>
          <a:xfrm>
            <a:off x="1908000" y="544500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zkolenia dla sędziów w zakresie: zarządzania przepływem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praw, zarządzania czasem i kosztami postępowań sądowych,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rofesjonalizacji czynności sądowy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1" name="Prostokąt 3"/>
          <p:cNvSpPr/>
          <p:nvPr/>
        </p:nvSpPr>
        <p:spPr>
          <a:xfrm>
            <a:off x="250920" y="1628640"/>
            <a:ext cx="88930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IA UCZESTNIKÓW PROJEKTU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3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4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3A28-D2A8-4D35-810C-AB6E22A07172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5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6" name="Prostokąt 11"/>
          <p:cNvSpPr/>
          <p:nvPr/>
        </p:nvSpPr>
        <p:spPr>
          <a:xfrm>
            <a:off x="1258920" y="321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7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Efektywność, skuteczność i sprawność sądownictwa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8" name="Prostokąt 16"/>
          <p:cNvSpPr/>
          <p:nvPr/>
        </p:nvSpPr>
        <p:spPr>
          <a:xfrm>
            <a:off x="1908000" y="306864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opularyzacja i upowszechnianie europejskich rozwiązań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usprawniających przepływ spraw i tok postępowań sądowych”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9" name="Prostokąt 3"/>
          <p:cNvSpPr/>
          <p:nvPr/>
        </p:nvSpPr>
        <p:spPr>
          <a:xfrm>
            <a:off x="250920" y="1628640"/>
            <a:ext cx="88930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WARTE KONFERENCJE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0" name="Picture 9" descr="http://sphotos-a.xx.fbcdn.net/hphotos-ash4/303367_387350761305216_2083167439_n.jpg"/>
          <p:cNvPicPr/>
          <p:nvPr/>
        </p:nvPicPr>
        <p:blipFill>
          <a:blip r:embed="rId1"/>
          <a:stretch/>
        </p:blipFill>
        <p:spPr>
          <a:xfrm>
            <a:off x="1908000" y="4292640"/>
            <a:ext cx="5832720" cy="2073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2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3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A27E-76E1-4AE5-8FD3-4934C264DF65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4" name="Prostokąt 3"/>
          <p:cNvSpPr/>
          <p:nvPr/>
        </p:nvSpPr>
        <p:spPr>
          <a:xfrm>
            <a:off x="395280" y="1628640"/>
            <a:ext cx="841680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IUM III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RZĄDZANIE OBCIĄŻENIEM PRACĄ W SĄDACH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5" name="Picture 7" descr="ANd9GcSQed9QuaHhPESzXs8dMpTB_VzHbiQ-Iij_RDsa_irEzIBE4Aox"/>
          <p:cNvPicPr/>
          <p:nvPr/>
        </p:nvPicPr>
        <p:blipFill>
          <a:blip r:embed="rId1"/>
          <a:stretch/>
        </p:blipFill>
        <p:spPr>
          <a:xfrm>
            <a:off x="2916360" y="2565360"/>
            <a:ext cx="3311280" cy="3868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7" name="Prostokąt 3"/>
          <p:cNvSpPr/>
          <p:nvPr/>
        </p:nvSpPr>
        <p:spPr>
          <a:xfrm>
            <a:off x="250920" y="170028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ŁOŻENIE MERYTORYCZNE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marL="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CEPCJA WYMIANY DOŚWIADCZEŃ W TRZECH PŁASZCZYZNACH: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INSTYTUCJONALNE – MODERNIZACJA ORGANIZACJI PRACY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KADROWE – MODERNIZACJA ZARZĄDZANIA KADRAMI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JEDNOSTKOWE – MODERNIZACJA „SAMOZARZĄDZANIA”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8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9" name="Obraz 5" descr="MPj04392730000[1].jpg"/>
          <p:cNvPicPr/>
          <p:nvPr/>
        </p:nvPicPr>
        <p:blipFill>
          <a:blip r:embed="rId1"/>
          <a:stretch/>
        </p:blipFill>
        <p:spPr>
          <a:xfrm>
            <a:off x="3035160" y="4145040"/>
            <a:ext cx="3073680" cy="4145040"/>
          </a:xfrm>
          <a:prstGeom prst="rect">
            <a:avLst/>
          </a:prstGeom>
          <a:ln w="0">
            <a:noFill/>
          </a:ln>
        </p:spPr>
      </p:pic>
      <p:sp>
        <p:nvSpPr>
          <p:cNvPr id="18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81D4-2F16-4D63-AB65-C25A628C8CB8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2" name="Prostokąt 3"/>
          <p:cNvSpPr/>
          <p:nvPr/>
        </p:nvSpPr>
        <p:spPr>
          <a:xfrm>
            <a:off x="179280" y="155736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RZĄDZANIE OBCIĄŻENIEM PRACĄ – WORKLOAD MANAGEMENT :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aliza wpływu spraw, załatwialności i pozostałości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tymalizacja obciążenia – etatyzacja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fesjonalizacja zarządzania kadrami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kresy czynności sędziów, przydział spraw do referatów sędziów, zmiany przydziałów, zastępstwa sędziów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rządzanie kadrami i zarządzanie sprawami między sądami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nności organizacyjne i nadzorcze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poziomie wydziału, sądu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jednostek nadrzędn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3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4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C62C-B67E-46E3-A740-1E9202DB15FC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5" name="Picture 7" descr="ANd9GcS4Nf5cr3wNJ4suRedtHzHWMAcLIOJhmSePzvj-kl5TbO0lcDD4F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4753080" cy="2111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rostokąt 3"/>
          <p:cNvSpPr/>
          <p:nvPr/>
        </p:nvSpPr>
        <p:spPr>
          <a:xfrm>
            <a:off x="179280" y="1557360"/>
            <a:ext cx="5616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RZĄDZANIE OBCIĄŻENIEM PRACĄ –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DNIESIENU DO GRUP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OWNICZ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aliza obciążenia sędziów i podejmowanie czynności zaradcz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ryfikacja obciążenia referendarzy sądowych i asystentów sędziów – efektywność  wykonywanych zadań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miary efektywności urzędników sądowych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półpraca i współdziałanie administracji sądowej z orzekającymi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konywanie w systemach elektronicznych czynności mających bezpośrednio wpływ na sprawność i jakość czynności orzecznicz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7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8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A028-5683-49D2-A3E6-84D56D45CE96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9" name="il_fi" descr="sukces"/>
          <p:cNvPicPr/>
          <p:nvPr/>
        </p:nvPicPr>
        <p:blipFill>
          <a:blip r:embed="rId1"/>
          <a:stretch/>
        </p:blipFill>
        <p:spPr>
          <a:xfrm>
            <a:off x="5580000" y="2492280"/>
            <a:ext cx="3168720" cy="2978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1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2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4F1A-865E-488C-A0FA-7787364202D7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3" name="Prostokąt 3"/>
          <p:cNvSpPr/>
          <p:nvPr/>
        </p:nvSpPr>
        <p:spPr>
          <a:xfrm>
            <a:off x="395280" y="1628640"/>
            <a:ext cx="84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POZYCJE PROFESJONALIZACJI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RZĄDZANIA OBCIĄŻENIEM PRACĄ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50920" y="5805360"/>
            <a:ext cx="8642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prezentacje partnerów projektu - otwarta dyskusja 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5" name="irc_mi" descr="iStock_000009744255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421000"/>
            <a:ext cx="4997520" cy="3168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3:46:08Z</dcterms:created>
  <dc:creator>kssip</dc:creator>
  <dc:description/>
  <dc:language>en-US</dc:language>
  <cp:lastModifiedBy>tomkal</cp:lastModifiedBy>
  <dcterms:modified xsi:type="dcterms:W3CDTF">2013-04-07T20:37:49Z</dcterms:modified>
  <cp:revision>282</cp:revision>
  <dc:subject/>
  <dc:title>Slajd 1</dc:title>
</cp:coreProperties>
</file>