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FB3E-B11A-40E6-BAF2-31EE87EB7C94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D4DC-8C7E-4CED-8C98-985E89EC18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2D8F-F9BE-4224-8B49-0DCDBF3CCD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5F25-551B-49B1-8717-04E1DFB52F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2C43-EC98-43EC-81C5-C618651CB9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0D06-7A34-452D-839E-DD16F25DC3B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89B-00CF-4285-B1AE-7EFDF96FC7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7C9F-D7BF-4CF3-8BCC-FC5F8C9076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69CF-F001-4BA8-A728-B6D71FFE48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DC0C-F140-4BA9-84A4-97181A2352A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B219-DA93-4A72-939B-EE624749D9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7EB2-666D-47FD-A2BF-0770706B6D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EAED-F150-49E9-AE98-0A73226C8A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0264-06A5-42D4-94A4-F6F8C86633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D41F-7E4F-4E7D-909F-0CE6894F6C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TE – pełne et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207-EE3F-44A4-99CB-469A74ED7B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TE – pełne et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8270-8E5E-4911-8563-B5D975CE50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TE – pełne et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D71F-CE1C-4DB5-BC29-F416F0D8D7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1B4A-000E-4FEF-A282-0960347F1A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3ED4-7800-4A09-A59B-BF7B0904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9A09-137B-4311-B5D6-733313CB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1FF7E-84C5-4EAB-BAE7-C14D38A88D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727200"/>
            <a:ext cx="665460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2FE5-2368-47DD-A00F-A6C55E13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684C-1658-4A89-93BE-7557EA0B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7A70-FC6E-497E-9848-7EC28AEC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25D3-18C4-4D10-B2BD-1EDAF1C2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727200"/>
            <a:ext cx="665460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5C1F-6F0D-4CAF-BB79-D082B948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8985-9AA5-4C8E-8E77-22C1D9C3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72FC-9D03-4260-ABDC-7B54DD04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A5BE-5F7A-4D8D-88FD-2C822E69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4360" y="6597360"/>
            <a:ext cx="59752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algn="r">
              <a:lnSpc>
                <a:spcPct val="100000"/>
              </a:lnSpc>
              <a:buClr>
                <a:srgbClr val="8284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828480"/>
                </a:solidFill>
                <a:latin typeface="Arial"/>
                <a:ea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284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0D6E-7A08-47EB-BBCC-8B36BE970B2D}" type="slidenum">
              <a:rPr b="0" lang="de-DE" sz="2400" spc="-1" strike="noStrike">
                <a:solidFill>
                  <a:srgbClr val="82848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" name="Picture 7" descr="SMJus_003_O_GR_100"/>
          <p:cNvPicPr/>
          <p:nvPr/>
        </p:nvPicPr>
        <p:blipFill>
          <a:blip r:embed="rId2"/>
          <a:stretch/>
        </p:blipFill>
        <p:spPr>
          <a:xfrm>
            <a:off x="5651640" y="189000"/>
            <a:ext cx="334008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räs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576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WelleOben"/>
          <p:cNvPicPr/>
          <p:nvPr/>
        </p:nvPicPr>
        <p:blipFill>
          <a:blip r:embed="rId4"/>
          <a:srcRect l="0" t="33067" r="0" b="0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SMJus_003_O_GR_100"/>
          <p:cNvPicPr/>
          <p:nvPr/>
        </p:nvPicPr>
        <p:blipFill>
          <a:blip r:embed="rId5"/>
          <a:stretch/>
        </p:blipFill>
        <p:spPr>
          <a:xfrm>
            <a:off x="5497560" y="363600"/>
            <a:ext cx="3340080" cy="49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8120" y="981000"/>
            <a:ext cx="66549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726840"/>
            <a:ext cx="806436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.1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rządzanie obciążeniem pracą systemu sądownictw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dzielanie prac sądowych przez prezydium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8120" y="1773360"/>
            <a:ext cx="82677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dstawa prawna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stawa o Ustroju sądów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(C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Ustalen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zygotowywane przed rozpoczęciem roku obrotoweg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ogą zostać zmienion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 uwagi na nadmierne lub niewystarczające obciążenie pracą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Prezydiu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dejmuje decyzje większością głosó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.2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obieganie przeciążen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ezes sądu wyznacza liczbę izb orzeczniczych (w sprawach cywilnych, w sprawach karnych, izby handlowe itd.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ezydium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ezes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+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ianowani sędziowie określa na następny rok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kład izb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zydzielanie spraw izbom w sposób abstrakcyjny (zasada przestrzegania prawa i naturalności sędziego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)!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ytuacje szczególn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ezydium może dokonać zmian w przydzieleniu spraw w ciągu trwania roku obrotoweg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zykład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dłuższa nieobecność sędziego z powodu choroby, przeciążenie izby </a:t>
            </a: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granicza się liczbę przydzielanych spraw tej izbi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.3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rodki zaradc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48480" indent="-3484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asady orzecznictwa w Niemczech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sędziowie powoływani dożywotni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przydzielanie spraw w sposób bezosobowy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sprawy nie są przenoszone pomiędzy sądami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Delegowanie sędziów do innych sądów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odpowiedzialny organ</a:t>
            </a: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Krajowe Ministerstwo Sprawiedliwości, na wniosek sądu okręgoweg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jedynie za zgodą sędzieg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możliwe</a:t>
            </a: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częściowe oddelegowanie</a:t>
            </a:r>
            <a:r>
              <a:rPr b="0" lang="en-GB" sz="1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sędzia pracuje w dwóch sądach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Przenoszenie akt do innego sądu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nie dotyczy pracy sędziów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możliwe w przypadku specjalnych zadań urzędników sądowych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9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przykłady</a:t>
            </a: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decyzje odnośnie ustalania kosztów, rachunki kosztów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.4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res obowiąz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484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według Kodeksu postępowania cywilnego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lnSpc>
                <a:spcPct val="80000"/>
              </a:lnSpc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333333"/>
                </a:solidFill>
                <a:latin typeface="Arial"/>
              </a:rPr>
              <a:t>Sędzia</a:t>
            </a:r>
            <a:r>
              <a:rPr b="1" lang="en-US" sz="15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80000"/>
              </a:lnSpc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Pomoc przy kosztach sądowych (pomoc prawna)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80000"/>
              </a:lnSpc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Przygotowanie do przesłuchania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80000"/>
              </a:lnSpc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Kierowanie przebiegiem postępowania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80000"/>
              </a:lnSpc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Zbieranie dowodów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80000"/>
              </a:lnSpc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Przygotowanie protokołu z przysłuchania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lnSpc>
                <a:spcPct val="80000"/>
              </a:lnSpc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333333"/>
                </a:solidFill>
                <a:latin typeface="Arial"/>
              </a:rPr>
              <a:t>Orzeczenie sądu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80000"/>
              </a:lnSpc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ma być ogłoszone podczas rozprawy bądź w terminie wyznaczonym na trzy tygodnie po rozprawie 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lnSpc>
                <a:spcPct val="80000"/>
              </a:lnSpc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w momencie ogłaszania ma być pełne i kompletne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348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.4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res obowiąz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8120" y="1483920"/>
            <a:ext cx="82677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według Kodeksu postępowania cywilnego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333333"/>
                </a:solidFill>
                <a:latin typeface="Arial"/>
              </a:rPr>
              <a:t>przez referentów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Procedura wyceny kosztów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Przymusowa egzekucja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333333"/>
                </a:solidFill>
                <a:latin typeface="Arial"/>
              </a:rPr>
              <a:t>wykonywane przez rejestr sądowy</a:t>
            </a:r>
            <a:r>
              <a:rPr b="1" lang="en-US" sz="15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obsługa rejestrów i dokumentów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874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33"/>
                </a:solidFill>
                <a:latin typeface="Arial"/>
              </a:rPr>
              <a:t>wzywanie świadków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.4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res obowiąz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adania sądowe są przydzielane wyższym rangą urzędnikom sądowym</a:t>
            </a: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Ustawa o wyższych rangą urzędnikach sądowych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wiązani wyłącznie prawem i porządkie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Przydzielane zadania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wszelkie zadania Sądu w określonych obszarach (w innych przypadkach, wykonywane przez sędziego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362960" indent="-3358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sprawy dotyczące ksiąg wieczystych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2.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 wyjątkami </a:t>
            </a: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niektóre sprawy są zarezerwowane dla sędziego</a:t>
            </a: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362960" indent="-3358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sprawy dotyczące dzieci i rodziców oraz sprawy adopcyjn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362960" indent="-3358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opieka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362960" indent="-3358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rejestr spółek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856440" indent="-3484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3. </a:t>
            </a: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zadania wymienione osobno w konkretnych sekcjach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362960" indent="-335880">
              <a:lnSpc>
                <a:spcPct val="80000"/>
              </a:lnSpc>
              <a:spcBef>
                <a:spcPts val="174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33"/>
                </a:solidFill>
                <a:latin typeface="Arial"/>
              </a:rPr>
              <a:t>ustalanie kosztów postępowania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.5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dzielanie sp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2677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ezydium ustala roczny harmonogram dla całego sądu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dwa sposoby przydzielania wpływających spraw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a) 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zasada rotacj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prawa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1   </a:t>
            </a: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izba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prawa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2   </a:t>
            </a: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izba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prawa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3   </a:t>
            </a: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izba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prawa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4   </a:t>
            </a: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izba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prawa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5   </a:t>
            </a: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izba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it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.5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dzielanie sp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276200"/>
            <a:ext cx="799308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specjalne kompetencje poszczególnych izb/pane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na przykład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Federalny Trybunał Sprawiedliwości 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–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zydzielanie spraw cywilnyc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4480" y="1846440"/>
          <a:ext cx="8893080" cy="4902120"/>
        </p:xfrm>
        <a:graphic>
          <a:graphicData uri="http://schemas.openxmlformats.org/drawingml/2006/table">
            <a:tbl>
              <a:tblPr/>
              <a:tblGrid>
                <a:gridCol w="1387440"/>
                <a:gridCol w="7505640"/>
              </a:tblGrid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ziedzina pra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autorskie, </a:t>
                      </a:r>
                      <a:r>
                        <a:rPr b="0" i="1" lang="en-GB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law, </a:t>
                      </a: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publikacji</a:t>
                      </a:r>
                      <a:r>
                        <a:rPr b="0" i="1" lang="en-GB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, </a:t>
                      </a: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a własności przemysłowej </a:t>
                      </a:r>
                      <a:r>
                        <a:rPr b="0" i="1" lang="en-GB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</a:t>
                      </a: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 szczególności prawo konkurencji), prawo w zakresie holowania, magazynowania i przewoz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spółek, postępowanie w świetle Ustawy o stabilizacji rynków finans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zwy o odszkodowanie przeciwko Państwu i podmiotom prawnym podlegającym pod prawo publiczne, pozwy o odszkodowanie z tytułu wywłaszczenia i poświęc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spadkowe, prawo umów ubezpieczeniow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nieruchomości, prawo w zakresie naruszania porządku, prawo w zakresie wynajmu gospodarstw rolnych, prawo więzie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zwy o odszkodowanie z tytułu prawa deliktów (np. wypadek drogowy, sprawy dotyczące odpowiedzialności z tytułu nadużyć w zakresie produktów lub działań medyczny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umów o pracę i usługo, prawo architekt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sprzedaży </a:t>
                      </a:r>
                      <a:r>
                        <a:rPr b="0" i="1" lang="en-GB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</a:t>
                      </a: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 zakresie dóbr ruchomy</a:t>
                      </a:r>
                      <a:r>
                        <a:rPr b="0" i="1" lang="en-GB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), </a:t>
                      </a: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wynajmu mieszkań, prawo leasing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niewypłacalności, pozwy o odszkodowanie przeciwko prawnikom, notariuszom i konsultantom podatkowy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patentowe, prawo przyznawania kontraktów, prawo umów na usługi podróż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X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bankowe, giełdowe i papierów wartościowych, prawo regulujące pożyczki i gwaranc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nel Cywilny X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awo osobowe i rodzinne, prawo wynajmu przemysłow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.6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organizacyjne i nadzorc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8120" y="1412640"/>
            <a:ext cx="826776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interwizja jako konsultacj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koledzy z sądu są obecni podczas rozpraw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bserwacja zachowania w zakresie komunikacj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narzędzie poprawiające jakości metody sądowniczej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zansa na otrzymanie informacji zwrotnej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2.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konsultacje dotyczące organizacji we wszystkich segmentach sądu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3.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nadzór prezesa, sądu najwyższego, ministerstwa sprawiedliwośc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.6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organizacyjne i nadzorc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8120" y="1412640"/>
            <a:ext cx="826776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4.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roczne sprawozdania dotyczące zaległośc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5.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kontrolowanie lub badanie sądó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co pięć l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bejmuj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ocedury organizacj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prawy personelu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możliwości racjonalizacji funkcjonowan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18624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a sądów w Niemczech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01.01.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564000" y="63752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ą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27000" y="1116000"/>
            <a:ext cx="8881920" cy="556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4549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179280" y="1844640"/>
          <a:ext cx="83822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382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27200"/>
            <a:ext cx="684036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a sędziów i prokuratorów państwowych w Niemcz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77080" y="572292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125360" y="18334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ędziowi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gółem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421080" y="42861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kuratorzy państwow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797440" y="2631960"/>
            <a:ext cx="26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ędziowie sądów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wszech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692360" y="5589720"/>
            <a:ext cx="7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b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688080" y="5637240"/>
            <a:ext cx="9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b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726840"/>
            <a:ext cx="6654600" cy="5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stępowania pierwszej instancji zakończone przez sądy powszechne właściwości ogólne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209520" y="1514520"/>
          <a:ext cx="854244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514520"/>
                    <a:ext cx="854244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726840"/>
            <a:ext cx="806436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.1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rządzanie obciążeniem pracą systemu sądownictwa – Jaspers i oddelegowan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8120" y="1773360"/>
            <a:ext cx="82677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33"/>
                </a:solidFill>
                <a:latin typeface="Arial"/>
              </a:rPr>
              <a:t>Obliczanie zapotrzebowania zasobów ludzkich za pomocą programu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Jasper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Jaspers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kazuje zapotrzebowanie w zakresi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sędzió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wyższych rangą urzędników sądowych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referentów i pracowników biurowych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lanowania wielkości zatrudnien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obowiązkó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niedoboru personelu sądoweg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zeniesień sędziów i innych pracowników sądu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czegółowy miesięczny przegląd personelu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ędziow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-317520" y="1557360"/>
          <a:ext cx="907416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7520" y="1557360"/>
                    <a:ext cx="907416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4"/>
          <p:cNvSpPr/>
          <p:nvPr/>
        </p:nvSpPr>
        <p:spPr>
          <a:xfrm>
            <a:off x="2340000" y="1544760"/>
            <a:ext cx="1368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-27,88 </a:t>
            </a:r>
            <a:r>
              <a:rPr b="1" lang="pl-PL" sz="1300" spc="-1" strike="noStrike">
                <a:solidFill>
                  <a:srgbClr val="3333cc"/>
                </a:solidFill>
                <a:latin typeface="Arial"/>
              </a:rPr>
              <a:t>etató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96,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0" y="4545000"/>
            <a:ext cx="1224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- 0,34 </a:t>
            </a:r>
            <a:r>
              <a:rPr b="1" lang="pl-PL" sz="1300" spc="-1" strike="noStrike">
                <a:solidFill>
                  <a:srgbClr val="3333cc"/>
                </a:solidFill>
                <a:latin typeface="Arial"/>
              </a:rPr>
              <a:t>etató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99,4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020000" y="4560840"/>
            <a:ext cx="1297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+ 5,32 </a:t>
            </a:r>
            <a:r>
              <a:rPr b="1" lang="pl-PL" sz="1300" spc="-1" strike="noStrike">
                <a:solidFill>
                  <a:srgbClr val="3333cc"/>
                </a:solidFill>
                <a:latin typeface="Arial"/>
              </a:rPr>
              <a:t>etató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109,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665460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czegółowy miesięczny przegląd personel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żsi rangą urzędnicy sądo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-249120" y="1557360"/>
          <a:ext cx="907416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9120" y="1557360"/>
                    <a:ext cx="907416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2330280" y="1422360"/>
            <a:ext cx="1305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- 30,94 </a:t>
            </a:r>
            <a:r>
              <a:rPr b="1" lang="pl-PL" sz="1300" spc="-1" strike="noStrike">
                <a:solidFill>
                  <a:srgbClr val="3333cc"/>
                </a:solidFill>
                <a:latin typeface="Arial"/>
              </a:rPr>
              <a:t>etató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96,3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716360" y="4545000"/>
            <a:ext cx="12956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- 2,69 </a:t>
            </a:r>
            <a:r>
              <a:rPr b="1" lang="pl-PL" sz="1300" spc="-1" strike="noStrike">
                <a:solidFill>
                  <a:srgbClr val="3333cc"/>
                </a:solidFill>
                <a:latin typeface="Arial"/>
              </a:rPr>
              <a:t>etató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93,9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164360" y="4560840"/>
            <a:ext cx="11527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-1,61 </a:t>
            </a:r>
            <a:r>
              <a:rPr b="1" lang="pl-PL" sz="1300" spc="-1" strike="noStrike">
                <a:solidFill>
                  <a:srgbClr val="3333cc"/>
                </a:solidFill>
                <a:latin typeface="Arial"/>
              </a:rPr>
              <a:t>etató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95,9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727200"/>
            <a:ext cx="806436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czegółowy miesięczny przegląd personel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ferenci i pracownicy biuro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-324000" y="1557360"/>
          <a:ext cx="908712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557360"/>
                    <a:ext cx="908712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4"/>
          <p:cNvSpPr/>
          <p:nvPr/>
        </p:nvSpPr>
        <p:spPr>
          <a:xfrm>
            <a:off x="2411280" y="1268280"/>
            <a:ext cx="1224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+ 6,3 </a:t>
            </a:r>
            <a:r>
              <a:rPr b="1" lang="pl-PL" sz="1300" spc="-1" strike="noStrike">
                <a:solidFill>
                  <a:srgbClr val="3333cc"/>
                </a:solidFill>
                <a:latin typeface="Arial"/>
              </a:rPr>
              <a:t>etató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100,3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716360" y="4653000"/>
            <a:ext cx="1224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- 1,48 </a:t>
            </a:r>
            <a:r>
              <a:rPr b="1" lang="pl-PL" sz="1300" spc="-1" strike="noStrike">
                <a:solidFill>
                  <a:srgbClr val="3333cc"/>
                </a:solidFill>
                <a:latin typeface="Arial"/>
              </a:rPr>
              <a:t>etató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97,8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164360" y="4653000"/>
            <a:ext cx="1224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- 4,16 </a:t>
            </a:r>
            <a:r>
              <a:rPr b="1" lang="pl-PL" sz="1300" spc="-1" strike="noStrike">
                <a:solidFill>
                  <a:srgbClr val="3333cc"/>
                </a:solidFill>
                <a:latin typeface="Arial"/>
              </a:rPr>
              <a:t>etató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333cc"/>
                </a:solidFill>
                <a:latin typeface="Arial"/>
              </a:rPr>
              <a:t>93,8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726840"/>
            <a:ext cx="806436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.1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rządzanie obciążeniem pracą systemu sądownictw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dzielanie prac sądowych przez prezydium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8120" y="1773360"/>
            <a:ext cx="82677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odstawa prawna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stawa o Ustroju sądów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(C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Prezydiu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stanawiane w każdym sądzi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złożone z prezesa i mianowanych sędzió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członkowie wybierani na okres czterech l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33"/>
                </a:solidFill>
                <a:latin typeface="Arial"/>
              </a:rPr>
              <a:t>Prezydiu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ustala składy organów orzekającyc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reguluje kwestie reprezentacj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33"/>
                </a:solidFill>
                <a:latin typeface="Arial"/>
              </a:rPr>
              <a:t>przydziela prace sądow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1:28:42Z</dcterms:created>
  <dc:creator>Biuro Tłumaczeń VIVALANG | www.vivalang.pl</dc:creator>
  <dc:description/>
  <dc:language>en-US</dc:language>
  <cp:lastModifiedBy>PM3</cp:lastModifiedBy>
  <dcterms:modified xsi:type="dcterms:W3CDTF">2013-04-08T13:28:56Z</dcterms:modified>
  <cp:revision>151</cp:revision>
  <dc:subject/>
  <dc:title>Oberlandesgericht Dresden</dc:title>
</cp:coreProperties>
</file>