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D02-E3C8-4AC4-A626-97EFB1E1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A83-53F7-419C-9668-2F06A5AE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8AB-33FB-4261-B706-65ACC654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12E-CE71-4973-859D-AE03859C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104-671F-4522-A568-812B45F7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6B0-B73B-4494-950F-FBFD854F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55D-4768-418B-9DEF-C27B80DF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B78-9351-42E0-8977-DACDB30F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6CB-0A0B-4280-92C3-A7BBF75E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F1E-AE5D-4605-A138-99495471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677-9C09-422A-AC0E-D9FFBF5E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7E2-CB1D-415E-96B7-0BF3B0B2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9A49-CF7D-40E2-8EBB-79DB714952A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32000" y="2349360"/>
            <a:ext cx="676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dyskusj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olskim Sądzie Najwyższ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7007040" cy="56055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3157920" y="259560"/>
            <a:ext cx="54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posoby zapewnienia jednolitości decyzji sądowy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3511440" y="-52560"/>
            <a:ext cx="208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stępowanie w trybie przyspieszonym dotyczące nakazu płatnicz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4570560" y="476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995640" y="692280"/>
            <a:ext cx="1152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wódz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692360" y="4869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yrok zaocz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250920" y="4869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wierdzen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chylenie wyro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3708360" y="4869000"/>
            <a:ext cx="1727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stateczny wyr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4572000" y="98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338280" y="1125360"/>
            <a:ext cx="297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bsługa po uprzednim op‎łaceniu kosz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 flipH="1">
            <a:off x="2700000" y="1413000"/>
            <a:ext cx="180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4500720" y="1413000"/>
            <a:ext cx="1511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755640" y="1413000"/>
            <a:ext cx="18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postępowanie przygotowawcze prowadzone w formie pisem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9040" y="1268280"/>
            <a:ext cx="145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stęp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pierwsza rozpra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>
            <a:off x="684000" y="1989000"/>
            <a:ext cx="1368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1550160" y="33577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ak odpowied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755640" y="38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>
            <a:off x="2050920" y="1989000"/>
            <a:ext cx="73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253080" y="342900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wierdzen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dstąpie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5"/>
          <p:cNvSpPr/>
          <p:nvPr/>
        </p:nvSpPr>
        <p:spPr>
          <a:xfrm>
            <a:off x="2124000" y="364500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"/>
          <p:cNvSpPr/>
          <p:nvPr/>
        </p:nvSpPr>
        <p:spPr>
          <a:xfrm>
            <a:off x="7667640" y="4869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wierdzen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chylenie wyro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6084720" y="4869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yrok zaocz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8"/>
          <p:cNvSpPr/>
          <p:nvPr/>
        </p:nvSpPr>
        <p:spPr>
          <a:xfrm>
            <a:off x="2050920" y="1989000"/>
            <a:ext cx="1800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"/>
          <p:cNvSpPr/>
          <p:nvPr/>
        </p:nvSpPr>
        <p:spPr>
          <a:xfrm>
            <a:off x="3704400" y="1819440"/>
            <a:ext cx="155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mia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wadzenia obr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3851280" y="3429000"/>
            <a:ext cx="1152360" cy="360360"/>
          </a:xfrm>
          <a:prstGeom prst="rect">
            <a:avLst/>
          </a:prstGeom>
          <a:solidFill>
            <a:srgbClr val="f1c0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zprawa głów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3635280" y="242100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dpowiedź na poz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5"/>
          <p:cNvSpPr/>
          <p:nvPr/>
        </p:nvSpPr>
        <p:spPr>
          <a:xfrm>
            <a:off x="4068360" y="285264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nowie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7"/>
          <p:cNvSpPr/>
          <p:nvPr/>
        </p:nvSpPr>
        <p:spPr>
          <a:xfrm flipV="1">
            <a:off x="2340000" y="4220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2463840" y="395460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9"/>
          <p:cNvSpPr/>
          <p:nvPr/>
        </p:nvSpPr>
        <p:spPr>
          <a:xfrm flipV="1">
            <a:off x="3059280" y="3645000"/>
            <a:ext cx="64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1"/>
          <p:cNvSpPr/>
          <p:nvPr/>
        </p:nvSpPr>
        <p:spPr>
          <a:xfrm flipH="1">
            <a:off x="5003280" y="1773360"/>
            <a:ext cx="1513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2"/>
          <p:cNvSpPr/>
          <p:nvPr/>
        </p:nvSpPr>
        <p:spPr>
          <a:xfrm>
            <a:off x="4427640" y="2232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442764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4"/>
          <p:cNvSpPr/>
          <p:nvPr/>
        </p:nvSpPr>
        <p:spPr>
          <a:xfrm>
            <a:off x="442764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6516720" y="1773360"/>
            <a:ext cx="576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7"/>
          <p:cNvSpPr/>
          <p:nvPr/>
        </p:nvSpPr>
        <p:spPr>
          <a:xfrm>
            <a:off x="7742880" y="256536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wierdzen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dstąpie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6732360" y="3860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9"/>
          <p:cNvSpPr/>
          <p:nvPr/>
        </p:nvSpPr>
        <p:spPr>
          <a:xfrm>
            <a:off x="6588000" y="1773360"/>
            <a:ext cx="1440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6805800" y="3357720"/>
            <a:ext cx="6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br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1"/>
          <p:cNvSpPr/>
          <p:nvPr/>
        </p:nvSpPr>
        <p:spPr>
          <a:xfrm>
            <a:off x="8388360" y="299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3"/>
          <p:cNvSpPr/>
          <p:nvPr/>
        </p:nvSpPr>
        <p:spPr>
          <a:xfrm>
            <a:off x="5076720" y="2421000"/>
            <a:ext cx="172728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branie dowod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przedni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płacenie kosz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4"/>
          <p:cNvSpPr/>
          <p:nvPr/>
        </p:nvSpPr>
        <p:spPr>
          <a:xfrm flipV="1">
            <a:off x="4788000" y="314172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5"/>
          <p:cNvSpPr/>
          <p:nvPr/>
        </p:nvSpPr>
        <p:spPr>
          <a:xfrm flipV="1">
            <a:off x="6156360" y="177300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6"/>
          <p:cNvSpPr/>
          <p:nvPr/>
        </p:nvSpPr>
        <p:spPr>
          <a:xfrm>
            <a:off x="5435640" y="407664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7"/>
          <p:cNvSpPr/>
          <p:nvPr/>
        </p:nvSpPr>
        <p:spPr>
          <a:xfrm flipH="1" flipV="1">
            <a:off x="6012000" y="4365720"/>
            <a:ext cx="28872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8"/>
          <p:cNvSpPr/>
          <p:nvPr/>
        </p:nvSpPr>
        <p:spPr>
          <a:xfrm flipH="1" flipV="1">
            <a:off x="5076720" y="3789360"/>
            <a:ext cx="71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9"/>
          <p:cNvSpPr/>
          <p:nvPr/>
        </p:nvSpPr>
        <p:spPr>
          <a:xfrm>
            <a:off x="4427640" y="386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0"/>
          <p:cNvSpPr/>
          <p:nvPr/>
        </p:nvSpPr>
        <p:spPr>
          <a:xfrm flipH="1">
            <a:off x="3203640" y="530064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1"/>
          <p:cNvSpPr/>
          <p:nvPr/>
        </p:nvSpPr>
        <p:spPr>
          <a:xfrm>
            <a:off x="4427640" y="530064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2"/>
          <p:cNvSpPr/>
          <p:nvPr/>
        </p:nvSpPr>
        <p:spPr>
          <a:xfrm>
            <a:off x="1908000" y="5950080"/>
            <a:ext cx="1368720" cy="57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womoc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5"/>
          <p:cNvSpPr/>
          <p:nvPr/>
        </p:nvSpPr>
        <p:spPr>
          <a:xfrm>
            <a:off x="5435640" y="5950080"/>
            <a:ext cx="1368360" cy="57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środki apelacyj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6"/>
          <p:cNvSpPr/>
          <p:nvPr/>
        </p:nvSpPr>
        <p:spPr>
          <a:xfrm>
            <a:off x="0" y="3933720"/>
            <a:ext cx="29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7"/>
          <p:cNvSpPr/>
          <p:nvPr/>
        </p:nvSpPr>
        <p:spPr>
          <a:xfrm flipV="1">
            <a:off x="2916360" y="3141720"/>
            <a:ext cx="129528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8"/>
          <p:cNvSpPr/>
          <p:nvPr/>
        </p:nvSpPr>
        <p:spPr>
          <a:xfrm>
            <a:off x="4211640" y="31417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9"/>
          <p:cNvSpPr/>
          <p:nvPr/>
        </p:nvSpPr>
        <p:spPr>
          <a:xfrm flipV="1">
            <a:off x="4859280" y="2349000"/>
            <a:ext cx="4334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0"/>
          <p:cNvSpPr/>
          <p:nvPr/>
        </p:nvSpPr>
        <p:spPr>
          <a:xfrm>
            <a:off x="5292720" y="2349360"/>
            <a:ext cx="136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1"/>
          <p:cNvSpPr/>
          <p:nvPr/>
        </p:nvSpPr>
        <p:spPr>
          <a:xfrm>
            <a:off x="6659640" y="2349360"/>
            <a:ext cx="21744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2"/>
          <p:cNvSpPr/>
          <p:nvPr/>
        </p:nvSpPr>
        <p:spPr>
          <a:xfrm>
            <a:off x="6877080" y="299736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3"/>
          <p:cNvSpPr/>
          <p:nvPr/>
        </p:nvSpPr>
        <p:spPr>
          <a:xfrm>
            <a:off x="6877080" y="3860640"/>
            <a:ext cx="226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4"/>
          <p:cNvSpPr/>
          <p:nvPr/>
        </p:nvSpPr>
        <p:spPr>
          <a:xfrm>
            <a:off x="108720" y="13644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postępowanie przygotowawc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05360" y="1051200"/>
            <a:ext cx="8637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rganizacja postępowania przygotowawcz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elu przygotowania rozprawy głównej sędzia/sąd mu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poinstruować strony, by dokonały zmiany swoich pism procesowych i dostarczył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lsze informac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ustalić termin przedkładania wyjaśn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sprawić, by organy publiczne przekazały rejestry i dostarczyły informac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nakazać stronom stawienie się na rozpra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wezwać świadków, których strony powołały, do stawiennic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powołać ekspertów, by się stawili w sąd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poinstruować strony lub stronę trzecią, by przedstawiła akta lub dokumenty,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 również wszelkie inne materiał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poinstruować strony, by przedstawiły dokumenty znajdujące się w ich posiadan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poinstruować o przedstawieniu wizualnych dowod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poinstruować ekspertów, by sporządzili ra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poinstruować daną stronę lub stronę trzecią, by przedstawiła przedmiot znajdując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ię w jej posiadan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wydać nakaz przedstawienia dowod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881520" y="189000"/>
            <a:ext cx="48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Organizacja postępowania przygotowawcz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483120" y="1295280"/>
            <a:ext cx="78616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pekty czasowe w postępowani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owiązek sądu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‎łówna rozprawa musi być wszechstronnie przygotowana (art. 272 KP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owiązki s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żda strona musi niezwłocznie przedstawić sądowi środki prawne dotyczące wysuwanych zarzutów lub obron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oskarżenia, zaprzeczenia, sprzeciwy, dowod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az musi wspomagać proces realizacji całego postępowania (art. 282 KPC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drzucenie spóźnionych zgłoszeń (przed zamknięciem rozprawy; po zamknięciu, żadne środki prawne dotycząc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ysuwanych zarzutów lub obrony nie będą przedkładane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Środki prawne dotyczące wysuwanych zarzutów i obro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619280" y="4437000"/>
          <a:ext cx="5848200" cy="1554120"/>
        </p:xfrm>
        <a:graphic>
          <a:graphicData uri="http://schemas.openxmlformats.org/drawingml/2006/table">
            <a:tbl>
              <a:tblPr/>
              <a:tblGrid>
                <a:gridCol w="2924280"/>
                <a:gridCol w="292392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erwsza zasad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) złożone po terminie ustalonym przez sędzieg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) opóźniające proces i rozwiązanie sporu prawn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) gdy strona nie przedstawia wystarczającego usprawiedliwi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nie będą dopuszczane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ga zasad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) nie zgłoszone w odpowiednim czasie (art. 28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) opóźniające proces i rozwiązanie sporu prawn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) skutkujące znaczącym zaniedbani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według uznania sądu (sąd może odmówić ich dopuszczeni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20"/>
          <p:cNvSpPr/>
          <p:nvPr/>
        </p:nvSpPr>
        <p:spPr>
          <a:xfrm>
            <a:off x="-1544760" y="4842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5438520" y="42372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Aspekty czasowe w postępowan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79280" y="743760"/>
            <a:ext cx="10261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rt. 278 Kodeksu postępowania cywiln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lubowne rozstrzygnięcie sporu; rozprawa pojednawcza; rozstrzygnięc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1) We wszystkich okolicznościach dotyczących postępowania, sąd ma działać w interesie osiągnięcia polubowneg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zstrzygnięcia sporu prawnego lub poszczególnych spornych kwest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2) W celu osiągnięcia polubownego rozwiązania prawnego sporu, rozprawa zostanie poprzedzona postępowaniem pojednawczy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yba że podjęto już wysiłki zmierzające do osiągnięcia porozumienia przed pozasądowym organem zajmującym się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zstrzyganiem sporów lub gdy jest oczywiste, że rozprawa pojednawcza nie ma żadnych szans powodzenia. W trakcie rozpraw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jednawczej sąd ma omówić ze stronami okoliczności i fakty, jak również dotychczasowy status sporu, dokonując ocen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szystkich okoliczności bez żadnych ograniczeń oraz zadając pytania, gdy tylko będzie to konieczne. Stawające strony mają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ć przesłuchane osobiście odnośnie tych kwest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3) Strony otrzymają nakaz osobistego stawiennictwa na rozprawie pojednawczej, jak również winny być obecne w trakcie jakichkolwiek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nych czynności pojednawcz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tykuł 141 (1), zdanie drugie, ust. (2) i (3) stosuje się mutatis mutand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) W przypadku, gdy żadna ze stron nie stawi się na rozprawie pojednawczej, postępowanie zostanie zawiesz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5) Sąd może odesłać strony sporu do sędziego odpowiednio oddelegowanego lub wyznaczonego do prowadzenia rozpraw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jednawczej. Tam, gdzie jest to uzasadnione, sąd może zaproponować stronom, by wniosły o przekazanie rozstrzygnięcia sporu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 postępowania pozasądowego. W przypadku, gdy strony sporu postanowią tak postąpić, art. 251 stosuje się mutatis mutand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6) Rozstrzygnięcie może również zapaść przed sądem, gdy strony sporu przedłożą sądowi pisemną propozycję odnośnie sposobu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związania kwestii lub poprzez przyjęcie, w formie stosownego pisma przesłanego sądowi, zaproponowanego rozstrzygnię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zygotowanego na piśmie przez sąd. Wydając stosowne orzeczenie, sąd stwierdzi, iż rozstrzygnięcie zawarte zgodn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 pierwszym zdaniem zostało osiągnięte, podając w tym orzeczeniu jego treść. Artykuł 164 stosuje się mutatis mutand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456160" y="1159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rozstrzyganie sporów; medi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-178920" y="4797000"/>
            <a:ext cx="9735120" cy="13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2920" bIns="11412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rt. 278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diacja, außergerichtliche Konfliktbeileg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1) Das Gericht kann den Parteien eine Mediation oder ein anderes Verfahren der außergerichtlichen Konfliktbeileg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orschl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2) Entscheiden sich die Parteien zur Durchführung einer Mediation oder eines anderen Verfahrens der außergerichtlichen Konflik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ilegung, ordnet das Gericht das Ruhen d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3144240" y="62064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wiązania polubow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40880" y="136044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G‎łówna zasada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każdym etapie postępowania sąd musi mieć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zględzie osiągnięcie rozstrzygnięcia spo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781560" y="2297160"/>
            <a:ext cx="831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Rozprawa pojednawcza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usi odbyć się przed wstępną pierwszą rozprawą lub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prawą głów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d nakazuje stronom osobiste stawiennictw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706680" y="3592440"/>
            <a:ext cx="792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Porozumienie zawarte na piśm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pozycja są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pozycja zgłoszona przez strony/prawni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d wydaje orzeczenie o rozstrzygnięciu (bez wysłuchania st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759240" y="53211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Mediacja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rodki mediacji w trakcie rozprawy pojednawcz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asądowa medi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5454720" y="11592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dialog sędziego ze stro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-42840" y="383400"/>
            <a:ext cx="966636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rt. 139 Kodeksu postępowania cywilnego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uczenie odnośnie istoty postępow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niezbędnym zakresie, sąd ma omówić ze stronami okoliczności i fakty, jak również relacje pomiędzy stronami sporu, zarówn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odniesieniu do rzeczywistych względów dotyczących sprawy, jak i jej prawnych konsekwencji oraz ma zadawać pytania. Są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 działać na rzecz zapewnienia, by w odpowiednim czasie i w sposób wyczerpujący strony sporu złożyły deklaracje dotycząc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szystkich istotnych faktów, a w szczególności ma zapewnić, by na podstawie dalszych informacji strony dokonały korekty tyc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któw, które zostały przez nie przedstawione w niepełny sposób, by wskazały dowody oraz by wystąpiły z właściwymi wnioska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2) Sąd może oprzeć swoją decyzję na aspekcie, który dana strona znacząco przeoczyła lub uznała za nieistotny, pod warunkiem,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że nie dotyczy to wyłącznie roszczenia ubocznego, z zastrzeżeniem, że powiadomił on o tym fakcie w stosownym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wiadomieniu i zapewnił możliwość odniesienia się do tej kwestii. To samo dotyczy jakiegokolwiek aspektu, który sąd oceni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dmiennie niż obie str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3) Sąd ma zwrócić uwagę stron na swoje obawy dotyczące wszelkich kwestii, które musi uwzględni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) Zgodnie z niniejszą zasadą, sąd musi przekazać zawiadomienie w najszybszym możliwym terminie oraz musi przygotować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semną dokumentację. Fakt, że takie zawiadomienie zostało przekazane, można udowodnić jedynie na podstawie zawartości akt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wartość akt można podważyć wyłącznie przedkładając dowód, że zostały one sfałszow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5) Jeżeli nie jest możliwe, by dana strona niezwłocznie złożyła oświadczenie dotyczące zawiadomienia z sądu, wówczas, p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łożeniu przez tę stronę odpowiedniego wniosku, sąd musi ustalić termin, w którym ta strona może dołączyć swoje oświadczen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 pisma procesow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862560" y="4004280"/>
            <a:ext cx="61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wyrównywanie szans, gdy jedna ze stron nie ma adwokat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52640" y="4534920"/>
            <a:ext cx="9185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rt. 121 Kodeksu postępowania cywiln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ydzielenie obroń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przypadku, gdy przeprowadzenie właściwego procesu sądowego wymaga, by strony były reprezentowane przez adwokatów,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ie takiej zostanie przydzielony adwokat jako radca prawny, który wyraża wolę reprezentowania takiej strony i któreg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a ta wybrał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2) W przypadku, gdy przeprowadzenie właściwego procesu sądowego nie wymaga by strony były reprezentowane przez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wokatów, stronie takiej zostanie przydzielony adwokat, który wyraża wolę reprezentowania takiej strony i którego strona t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ybrała, jeżeli taka reprezentacja przez adwokata uznana zostanie za konieczną, w przypadku, gdy</a:t>
            </a:r>
            <a:br>
              <a:rPr sz="1200"/>
            </a:br>
            <a:r>
              <a:rPr b="1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trona przeciwna wynajęła adwokata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2799000" y="189000"/>
            <a:ext cx="42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Pouczenie odnośnie istoty postępo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62880" y="620640"/>
            <a:ext cx="81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d musi omówić okoliczności i fakty, zarówno w odniesieniu do rzeczywisty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zględów i aspektów prawnych (sędziowie przedstawiają swoją opinię prawną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twarci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24000" y="1557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d musi zapewnić, by w odpowiednim czasie, w sposób wyczerpujący, strony sporu złożyły deklarac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24000" y="242100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d musi powiadomić o tych faktach i aspektach, na podstawie których podejmie swoją decyzj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324000" y="342900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d musi przekazać zawiadomienie w najszybszym możliwym terminie oraz musi przygotować pisemną dokumentację. Fakt, że takie zawiadomienie zostało przekazane, można udowodnić jedynie na podstawie zawartości ak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250920" y="479736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żeli nie jest możliwe, by dana strona niezwłocznie złożyła oświadczenie dotyczące zawiadomienia z sądu, wówczas, po złożeniu przez tę stronę odpowiedniego wniosku, sąd musi ustalić odpowiedni ter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79280" y="2067480"/>
            <a:ext cx="871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osoby zapewnienia jednolitości decyzji sądo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Niemczech obowiązuje system prawa cywilnego, a zapewnienie jednolitego orzecznictwa jest zadaniem realizowanym w formie apelacji dotyczącej kwestii prawnych (art. 543) oraz pozwu dotyczącego kwestii praw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art. 57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rt. 543 ust. 2 pkt 2 K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pelacja dotycząca kwestii prawnych musi być dopuszczona wówczas, g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lsze kształtowanie prawa lub interesów mających zapewnić jednolite orzecznictwo wymaga, by sąd wydał swoje orzeczenie po wysłuchaniu apelacji dotyczącej kwestii prawnych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454200" y="476280"/>
            <a:ext cx="54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Sposoby zapewnienia jednolitości decyzji sądo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4:38:06Z</dcterms:created>
  <dc:creator/>
  <dc:description/>
  <dc:language>en-US</dc:language>
  <cp:lastModifiedBy>User</cp:lastModifiedBy>
  <dcterms:modified xsi:type="dcterms:W3CDTF">2013-02-14T11:11:48Z</dcterms:modified>
  <cp:revision>41</cp:revision>
  <dc:subject/>
  <dc:title>Prezentacja programu PowerPoint</dc:title>
</cp:coreProperties>
</file>