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3981-2452-4930-A8A4-C1AF7BFDDDC2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76D6-CF50-4FC9-846E-61FC85CF2BCE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6AA-E863-4970-8705-EAA99D75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6400"/>
            <a:ext cx="8278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D46-8E9D-4142-80EE-97C78224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640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04640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57F-039C-47B6-9390-50084304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640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04640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046400"/>
            <a:ext cx="2665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DB8-B7CF-4553-81ED-6A4BD295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6C5-14D1-4CBF-BBD3-7F58FAE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91-A25C-465D-A8BC-33D1674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EE7-BEA6-4C3F-A353-7B3CBD8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548-7CAF-4D2C-B6EA-C0E0DA5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86B-11A3-40E1-B14C-C4B9167D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640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27D-208C-4A6B-A5B4-2067AA0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04640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9D1-5854-438D-BF84-B80C188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6400"/>
            <a:ext cx="82789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8F3-5D8A-47CC-854F-51B028B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E934C-5A24-4DFE-9C2D-A49560B11EA6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LEPSZENIE PROCESÓW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Y W FINLAND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80"/>
                </a:solidFill>
                <a:latin typeface="Arial"/>
              </a:rPr>
              <a:t>Petra Pekkanen; </a:t>
            </a:r>
            <a:r>
              <a:rPr b="0" lang="pl-PL" sz="3200" spc="-1" strike="noStrike">
                <a:solidFill>
                  <a:srgbClr val="000080"/>
                </a:solidFill>
                <a:latin typeface="Arial"/>
              </a:rPr>
              <a:t>Rozprawa Doktorska</a:t>
            </a:r>
            <a:r>
              <a:rPr b="0" lang="fi-FI" sz="3200" spc="-1" strike="noStrike">
                <a:solidFill>
                  <a:srgbClr val="000080"/>
                </a:solidFill>
                <a:latin typeface="Arial"/>
              </a:rPr>
              <a:t>, 2011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80"/>
                </a:solidFill>
                <a:latin typeface="Arial"/>
              </a:rPr>
              <a:t>REDUKCJA OPÓŹNIEŃ W SĄDACH </a:t>
            </a:r>
            <a:r>
              <a:rPr b="0" lang="fi-FI" sz="32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l-PL" sz="3200" spc="-1" strike="noStrike">
                <a:solidFill>
                  <a:srgbClr val="000080"/>
                </a:solidFill>
                <a:latin typeface="Arial"/>
              </a:rPr>
              <a:t>MOŻLIWOŚCI I WYZWANIA DOTYCZĄCE ULEPSZENIA PROCESÓW W PUBLICZNYCH ORGANIZACJACH ZAWODOWYC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80"/>
                </a:solidFill>
                <a:latin typeface="Arial"/>
              </a:rPr>
              <a:t>www.coe.int/t/dghl/cooperation/cepej/Delais/Doctoral_dissertation_Pekkanen_2011.pdf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8:56:48Z</dcterms:created>
  <dc:creator>Karola (BDM)</dc:creator>
  <dc:description/>
  <dc:language>en-US</dc:language>
  <cp:lastModifiedBy>User</cp:lastModifiedBy>
  <dcterms:modified xsi:type="dcterms:W3CDTF">2013-02-21T13:58:18Z</dcterms:modified>
  <cp:revision>5</cp:revision>
  <dc:subject/>
  <dc:title>ULEPSZENIE PROCESÓW PROJEKTY W FINLANDII</dc:title>
</cp:coreProperties>
</file>