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0B357-C3E3-4080-A88F-1BD06FEC5A7D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6D64D-EC66-495C-ACB7-0194A7A8A8FA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C04B3-DD76-4B58-8D7B-0BBEE81BCE40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B186A-EE4C-42AD-B6A2-E64DC9A86E98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792F4-447F-4AE6-96A5-093303940CC1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3414F-4FFA-4ED1-A582-2A8C8C2CDA58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2C476-D983-4D2E-8161-4FC832F9D66B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914-A2EE-4067-B4D7-33A5261E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375876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2FA-8E8D-43DE-90C5-1451C04F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F54-E988-4B13-A19E-FDC37B72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37587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37587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37587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889-2591-4E4E-A2A0-F94B5990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B98-823D-4EC2-8D3A-622614AF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1B8-52DA-48B7-A9DD-301A8AAD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1F8-F80E-471D-9D29-18EA006A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D22-33A5-4CC8-A7C6-4B97EB0B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BF5-7642-4675-9183-F9177C91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2C9-EFBE-496F-BC88-AE623949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37587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B8E-C0D7-4049-B441-2E823FE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375876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D24-588B-4F04-8C7C-C8F2AB8D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738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77E3C-4859-4091-BBD8-49EB1E024934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400" spc="-1" strike="noStrike">
                <a:solidFill>
                  <a:srgbClr val="800000"/>
                </a:solidFill>
                <a:latin typeface="Arial"/>
              </a:rPr>
              <a:t>WIĘKSZE SPRAWY</a:t>
            </a:r>
            <a:br>
              <a:rPr sz="4400"/>
            </a:br>
            <a:r>
              <a:rPr b="1" i="1" lang="pl-PL" sz="4400" spc="-1" strike="noStrike">
                <a:solidFill>
                  <a:srgbClr val="800000"/>
                </a:solidFill>
                <a:latin typeface="Arial"/>
              </a:rPr>
              <a:t>Sąd Apelacyjny w Helsinkach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iększe sprawy rozpatrywane są w jednym wydziale (specjalizacj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ądy okręgowe trzy razy w roku przekazują Sądowi Apelacyjnemu niezbędne informacje (zestawienie) większych spraw procesowanych przez sądy okręg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zacowany czas trwania głównej rozpra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zacowany czas ogłoszenia wy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400" spc="-1" strike="noStrike">
                <a:solidFill>
                  <a:srgbClr val="800000"/>
                </a:solidFill>
                <a:latin typeface="Arial"/>
              </a:rPr>
              <a:t>Dlaczego</a:t>
            </a:r>
            <a:r>
              <a:rPr b="1" i="1" lang="fi-FI" sz="4400" spc="-1" strike="noStrike">
                <a:solidFill>
                  <a:srgbClr val="800000"/>
                </a:solidFill>
                <a:latin typeface="Arial"/>
              </a:rPr>
              <a:t>?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iczba większych spraw od kilku lat stale roś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ieczne są informacje dotyczące wyników corocznych negocjacji prowadzonych z Ministerstwem Sprawiedliwości (w kwestii budżetu i zasobó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iększe sprawy wymagają znacznych zasobów (czas, miejsce, zasoby ludzk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łaściwe planowanie poprawia efektywność pracy są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400" spc="-1" strike="noStrike">
                <a:solidFill>
                  <a:srgbClr val="800000"/>
                </a:solidFill>
                <a:latin typeface="Arial"/>
              </a:rPr>
              <a:t>Z wyprzedzeniem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 podstawie informacji przekazywanych przez sądy okręgowe or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oparciu o sprawy, które toczą się przed są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ąd Apelacyjny przygotowuje odpowiednio wcześniej wstępny harmonogram większych spraw, które mają być rozpatrywane w ciągu najbliższych 12-u miesięcy (w okresach 6-miesięczny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400" spc="-1" strike="noStrike">
                <a:solidFill>
                  <a:srgbClr val="800000"/>
                </a:solidFill>
                <a:latin typeface="Arial"/>
              </a:rPr>
              <a:t>Postępowanie przed Sądem Apelacyjnym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zas trwania głównej rozprawy jest wstępnie uzgadniany wspólnie ze stro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cześniejsze określenie istotnych kwest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cześniejsze określenie czasu trwania głównej rozpra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cześniejsze ustalenie harmonogramu postępu spra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onitorowanie postępu spra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71640" y="1792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400" spc="-1" strike="noStrike">
                <a:solidFill>
                  <a:srgbClr val="800000"/>
                </a:solidFill>
                <a:latin typeface="Arial"/>
              </a:rPr>
              <a:t>Sprawa jako projek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280" y="1258920"/>
            <a:ext cx="9288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iększa sprawa traktowana jest jak projek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ygotowan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kazywanie się aktywnością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larowny plan czynności do wykonania, kto ma je wykonać i ki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onitorowanie postępu spraw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ozprawa główn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ygotowanie jasnego pla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rezerwowanie wystarczającej ilości czasu na przesłuchanie str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ygotowanie wyrok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rezerwowanie wystarczającej ilości czasu na przygotowanie wyro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400" spc="-1" strike="noStrike">
                <a:solidFill>
                  <a:srgbClr val="800000"/>
                </a:solidFill>
                <a:latin typeface="Arial"/>
              </a:rPr>
              <a:t>Wyniesione lekcj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09440" y="16192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zas trwania postępowania uległ skróce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Bardziej efektywna praca są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atwiej uzgodnić czas trwania rozprawy głównej z prokuraturą i prawni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pływ spraw stał się bardziej płynny, włącznie ze sprawami z postępowaniem prowadzonym w przyśpieszonym cza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mniejszenie poziomu stresu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lepszyły się warunki pracy sędzi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7:48:16Z</dcterms:created>
  <dc:creator>Karola (BDM)</dc:creator>
  <dc:description/>
  <dc:language>en-US</dc:language>
  <cp:lastModifiedBy>User</cp:lastModifiedBy>
  <dcterms:modified xsi:type="dcterms:W3CDTF">2013-02-21T13:57:46Z</dcterms:modified>
  <cp:revision>14</cp:revision>
  <dc:subject/>
  <dc:title>WIĘKSZE SPRAWY Sąd Apelacyjny w Helsinkach</dc:title>
</cp:coreProperties>
</file>