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7AE-B559-4161-8888-94AD7223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DD7-2CBA-416A-998D-F5CA591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FA7-BDDB-4F0D-BA50-2487BE80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7EF-8F1C-4298-903F-4C590303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BAE-BB78-4D24-9D7E-8CB9702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AE0-74FC-411D-9232-18B7E1D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77B-1C99-4B3A-A901-A30FE94D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C98-9050-406E-A60C-B835B023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B9C-819E-4D82-9B76-21E881B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173-F846-4644-8EE7-54C5298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F6C-C2F7-4B1A-B6C4-3AA93CA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5D8-2AA2-4A87-9F53-99C6BD9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5DE-48AC-4DEE-A6C5-4AF6699BFD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2349360"/>
            <a:ext cx="67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arządzanie czas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ądach w Niemcz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492360" y="0"/>
            <a:ext cx="20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tępowanie w trybie przyspieszonym dotyczące nakazu płatnicz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4500720" y="47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95640" y="692280"/>
            <a:ext cx="1152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ódz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69236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509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hylenie wyro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708360" y="4869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stateczny wy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572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351600" y="1125360"/>
            <a:ext cx="297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ługa po uprzednim op‎łaceniu kosz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2700000" y="1413000"/>
            <a:ext cx="180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500720" y="141300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755640" y="1413000"/>
            <a:ext cx="18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postępowanie przygotowawcze prowadzone w formie pisem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089040" y="12682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stęp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pierwsza rozpr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684000" y="1989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550160" y="33577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k odpowied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755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050920" y="1989000"/>
            <a:ext cx="7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253080" y="34290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stąp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12400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766764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hylenie wyro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60847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2050920" y="198900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685680" y="1841400"/>
            <a:ext cx="155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ia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wadzenia 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3851280" y="3429000"/>
            <a:ext cx="1152360" cy="360360"/>
          </a:xfrm>
          <a:prstGeom prst="rect">
            <a:avLst/>
          </a:prstGeom>
          <a:solidFill>
            <a:srgbClr val="f1c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rawa głów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635280" y="242100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powiedź na poz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4068360" y="28526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ow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2340000" y="4220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2463840" y="39546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3059280" y="364500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H="1">
            <a:off x="5003280" y="1773360"/>
            <a:ext cx="15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42764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442764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>
            <a:off x="442764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>
            <a:off x="6516720" y="1773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7742880" y="256536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stąp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 flipH="1">
            <a:off x="6732360" y="38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7"/>
          <p:cNvSpPr/>
          <p:nvPr/>
        </p:nvSpPr>
        <p:spPr>
          <a:xfrm>
            <a:off x="6588000" y="177336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6805800" y="3357720"/>
            <a:ext cx="6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838836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5076720" y="2421000"/>
            <a:ext cx="172728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branie dowo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przedni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łacenie kosz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4788000" y="314172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 flipV="1">
            <a:off x="6156360" y="1773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5435640" y="4076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4"/>
          <p:cNvSpPr/>
          <p:nvPr/>
        </p:nvSpPr>
        <p:spPr>
          <a:xfrm flipH="1" flipV="1">
            <a:off x="6012000" y="4365720"/>
            <a:ext cx="288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 flipH="1" flipV="1">
            <a:off x="5076720" y="378936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>
            <a:off x="442764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 flipH="1">
            <a:off x="3203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4427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1908000" y="5950080"/>
            <a:ext cx="136872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omoc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środki apelacyj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167040" y="651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1. inst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419640" y="260280"/>
            <a:ext cx="23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rok 1. insta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940360" y="479736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rok 2. instanc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4572000" y="54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213440" y="7650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elac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2484000" y="1413000"/>
            <a:ext cx="20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0" y="141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562920" y="2349360"/>
            <a:ext cx="191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wołanie na art. 522 (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PO (*następna str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040800" y="249228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min rozprawy ustalony przez są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406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406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6732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3780000" y="5013360"/>
            <a:ext cx="158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364000" y="501336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305928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omoc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elacja w kwesti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4572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783240" y="112536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zczegóły apelac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710160" y="321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powied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4716360" y="2707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6157800" y="321300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powiedź na apelacj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362840" y="1773360"/>
            <a:ext cx="182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elacja dopuszcza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979560" y="1773360"/>
            <a:ext cx="20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elacja niedopuszcza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4500360" y="206064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932360" y="206064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673272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5796000" y="3860640"/>
            <a:ext cx="194472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min rozpraw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as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branie dowo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4716360" y="501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1"/>
          <p:cNvSpPr/>
          <p:nvPr/>
        </p:nvSpPr>
        <p:spPr>
          <a:xfrm>
            <a:off x="1403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95280" y="4797360"/>
            <a:ext cx="20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kaz sądowy: „odrzucon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o niedopuszczalna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 flipH="1">
            <a:off x="1116000" y="515772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>
            <a:off x="1403280" y="5157720"/>
            <a:ext cx="180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538560" y="234936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wołanie na art. 52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PO (*następna str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6"/>
          <p:cNvSpPr/>
          <p:nvPr/>
        </p:nvSpPr>
        <p:spPr>
          <a:xfrm flipV="1">
            <a:off x="1979640" y="1988640"/>
            <a:ext cx="23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7"/>
          <p:cNvSpPr/>
          <p:nvPr/>
        </p:nvSpPr>
        <p:spPr>
          <a:xfrm>
            <a:off x="140328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973440" y="321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powied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9"/>
          <p:cNvSpPr/>
          <p:nvPr/>
        </p:nvSpPr>
        <p:spPr>
          <a:xfrm>
            <a:off x="140328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116280" y="1159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. inst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680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2843280" y="479736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kaz sądow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mowa prawa do apelacji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elacja w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westi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5"/>
          <p:cNvSpPr/>
          <p:nvPr/>
        </p:nvSpPr>
        <p:spPr>
          <a:xfrm>
            <a:off x="46836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elacja w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westi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-108000" y="1085400"/>
            <a:ext cx="9664920" cy="42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Art. 522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dopuszczalności apelacji; nakaz sądowy odmawiający prawa do apelac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ąd apelacyjny dokona, ex officio, przeglądu, czy apelacja jako taka jest dopuszczalna, czy została wniesiona w form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maganej prawem i w ustalonym terminie i czy przedstawione zostały jej szczegóły. W przypadku, gdy jeden z tych wymogów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 zostanie spełniony, apelacja zostanie odrzucona jako niedopuszczalna. Decyzja może zostać wydana jako nakaz sądowy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kaz sądowy może zostać zakwestionowany poprzez złożenie skargi odnośnie kwestii praw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Sąd apelacyjny musi niezwłocznie odmówić prawa do apelacji w swojej decyzji, w przypadku, gdy wszyscy członkowie są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dnogłośnie przekonani, i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 Apelacja w sposób oczywisty nie ma żadnych szans powodzen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 Kwestia prawna nie ma żadnego fundamentalnego znaczen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 Dalsze kształtowanie prawa lub interesów mających zapewnić jednolite orzecznictwo nie wymaga, by sąd wydał swoj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zeczenie po wysłuchaniu apelacji dotyczącej kwestii prawnych or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 Nie jest uprawnione przeprowadzenie żadnej rozprawy dla wysłuchania argument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d ogłoszeniem takiego orzeczenia sąd apelacyjny lub sędzia przewodniczący ma podać stronom sporu swój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iar odmowy prawa do apelacji i jej przyczyny oraz w ramach apelacji ma zapewnić powodowi możliwoś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dstawienia swojego stanowiska w terminie, który zostanie ustalony. Dopóki przyczyny odmowy prawa do apelacji nie zostaną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dstawione w zawiadomieniu, o którym mowa w drugim zdaniu, nakaz sądowy, o którym mowa w pierwszym zdaniu, m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reślić te przyczyny. Ponadto nakaz sądowy, który podlega zakwestionowaniu, ma dotyczyć ustalonych przez są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przedniej instancji faktów w orzeczeniu, które jest kwestionowane, oraz ma omawiać wszelkie modyfikacje lub zmiany, któ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gły zostać dokon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3) Powód w ramach apelacji ma prawo założyć taki środek odwoławczy przeciw nakazowi sądowemu zgodnie z ust. (2) pierws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danie, który byłby dopuszczalny, gdyby sąd przedstawił swoją decyzję w orzeczeni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165480" y="3333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Odmowa prawa do apelacji bez przesłuchania s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61960" y="76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gul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162864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wskazać strony, którym zamierza odmówić prawa do apelacji oraz podać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w ramach apelacji zapewnić powodowi możliwość przedstawienia swojego stanowi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yscy członkowie sądu są jednogłośnej opi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407664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Apelacja nie ma żadnych szans powod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estia prawna nie ma żadnego fundamentalnego zna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jednolitego orzecznictwa nie jest konie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80600" y="1386720"/>
            <a:ext cx="865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ekty czasowe w postępowan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ek sądu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‎łówna rozprawa musi być wszechstronnie przygotowana (art. 272 KP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ki s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żda strona musi niezwłocznie przedstawić sądowi środki prawne dotyczące wysuwanych zarzutów lub obron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oskarżenia, zaprzeczenia, sprzeciwy, dowody) oraz musi wspomagać proces realizacji całego postępowania (art. 282 K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drzucenie spóźnionych zgłoszeń (przed zamknięciem rozprawy; po zamknięciu, żadne środki prawne dotycząc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ysuwanych zarzutów lub obrony nie będą przedkładane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Środki prawne dotyczące wysuwanych zarzutów i obr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19280" y="4437000"/>
          <a:ext cx="5848200" cy="1554120"/>
        </p:xfrm>
        <a:graphic>
          <a:graphicData uri="http://schemas.openxmlformats.org/drawingml/2006/table">
            <a:tbl>
              <a:tblPr/>
              <a:tblGrid>
                <a:gridCol w="2924280"/>
                <a:gridCol w="292392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rwsza zasad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złożone po terminie ustalonym przez sędzie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opóźniające proces i rozwiązanie sporu praw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strona nie przedstawia wystarczającego usprawiedliwi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nie będą dopuszczan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a zasad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nie zgłoszone w odpowiednim czasie (art. 28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opóźniające proces i rozwiązanie sporu praw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skutkujące znaczącym zaniedbani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według uznania sądu (sąd może odmówić ich dopuszczen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1"/>
          <p:cNvSpPr/>
          <p:nvPr/>
        </p:nvSpPr>
        <p:spPr>
          <a:xfrm>
            <a:off x="-1544760" y="4842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438520" y="4237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Aspekty czasowe w postępow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00160" y="1159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gaśnięcie praw – 1. inst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-90360" y="672840"/>
            <a:ext cx="9591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282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rminowe zgłoszenia dokonywanie w sądz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trakcie rozprawy, każda strona musi niezwłocznie przedstawić sądowi środki prawne dotyczące wysuwanych zarzutów lub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rony, w szczególności oskarżenia, zaprzeczenia, sprzeciwy, zarzuty obrony, dowody i zastrzeżenia wobec przedstawionyc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wodów, na podstawie okoliczności postępowania; oznacza to należytą realizację postępowania sądowego i służy jego wspierani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Wnioski oraz środki prawne dotyczące wysuwanych zarzutów lub obrony odnośnie tego, co jest przewidywalne, że przeciwni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 będzie w stanie na nie zareagować bez uprzedniego przeprowadzenia dochodzenia, mają zostać zakomunikowane prz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rawą w formie przygotowawczego pisma procesowego w takim terminie, aby umożliwić przeciwnikowi przeprowadzeni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zbędnego dochodze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3) Równocześnie pozwany ma wnieść wszelkie sprzeciwy dotyczące dopuszczalności powództwa i ma to uczynić prz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słuchaniem w czasie rozprawy odnośnie meritum całej sprawy. W przypadku, gdy przed rozprawą ustalony zostanie dl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go termin, w jakim ma złożyć swoją odpowiedź na pozew, ma on w tym terminie przedstawić swoje zastrzeże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-141840" y="2997000"/>
            <a:ext cx="95979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296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dmowa przyjęcia spóźnionych zgłos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zelkie sądowe środki prawne dotyczące wysuwanych zarzutów lub obrony, które zostały zgłoszone po ustalonym w ty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zględzie terminie (art. 273 (2) pkt 1, oraz pod warunkiem, że termin ten został ustalony dla danej strony, pkt 5 art. 275 (1),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e zdanie, ust. (3) i ust. (4) art. 276 (1), drugie zdanie, pkt (3) art. 277) mają być, według uznania i przekonania sądu,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puszczone tylko wówczas, jeżeli ich dopuszczenie do postępowania nie opóźniłoby procesu rozstrzygnięcia i zakończeni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nego sporu lub gdy dana strona przedstawi wystarczający powód dla takiego opóźnie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Sąd może odmówić dopuszczenia środków prawnych dotyczących wysuwanych zarzutów lub obrony, które, z naruszenie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pisów dokonanych w art. 282 (1), nie zostały przedłożone w terminie lub które, z naruszeniem zapisów w art. 282 (2), nie został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kazane do wiadomości w terminie, jeżeli według swojego uznania i przekonania, ustali, że dopuszczenie ich do postępowani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óźniłoby proces rozstrzygnięcia i zakończenia prawnego sporu oraz że opóźnienie wynika z rażącego zaniedb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3) Wszelkie złożone w zbyt późnym terminie sprzeciwy dotyczące dopuszczalności powództwa oraz te, z których pozwany moż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rezygnować, są dopuszczane tylko wówczas, gdy pozwany przedstawi wystarczające uzasadnienie takiego opóźnie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) W przypadkach, o których mowa w ust. (1) i (3), powody wykluczenia winy mają zostać uzasadnione w przypadku, gdy są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ędzie tego wymag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296a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głoszenia dokonane po zamknięciu rozpraw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 zamknięciu rozprawy, po którym ogłaszany jest wyrok, nie można przedstawiać żadnych dalszych środków prawnyc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tyczących wysuwanych zarzutów lub obrony. Nie dotyczy to art. 139 (5), art. 156 i art. 2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28880" y="1159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ygaśnięcie praw – 2. inst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8600" y="830160"/>
            <a:ext cx="87361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530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óźnienia w przedkładaniu środków prawnych dotyczących wysuwanych zarzutów lub 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przypadku gdy, z naruszeniem przepisów określonych w art. 520 i art. 521 (2), środki prawne dotyczące wysuwanyc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rzutów lub obrony nie zostaną przedstawione w stosownym terminie, art. 296 ust. (1) i (4) stosuje się mutatis mutan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531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Środki prawne dotyczące wysuwanych zarzutów lub obrony, które zostały odrzucone; nowe środki prawne dotyczące wysuwanych zarzutów lub 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zelkie środki prawne dotyczące wysuwanych zarzutów lub obrony, które zostały słusznie odrzucone w postępowaniu prowadzonym przed sądem pierwszej instancji, zostają wyklucz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Nowe środki prawne dotyczące wysuwanych zarzutów lub obrony mają zostać dopuszczone tylko wówczas, g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 Dotyczą aspektu, który sąd pierwszej instancji, w sposób jednoznaczny przeoczył lub uznał za nieznacząc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 Nie zostały utrzymane w postępowaniu prowadzonym przed sądem pierwszej instancji ze względu na błąd w postępowaniu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 Nie zostały utrzymane w postępowaniu prowadzonym przed sądem pierwszej instancji, nie ze względu na zaniedbanie przez daną stron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ąd apelacyjny może zażądać, by zosta‎ły mu przedstawione fakty, zgodnie z którymi nowe środki prawne dotyczące wysuwanych zarzutów lub obrony mogą być przedstawione w sądz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0:05:22Z</dcterms:created>
  <dc:creator>Klerch</dc:creator>
  <dc:description/>
  <dc:language>en-US</dc:language>
  <cp:lastModifiedBy>User</cp:lastModifiedBy>
  <dcterms:modified xsi:type="dcterms:W3CDTF">2013-02-14T11:12:34Z</dcterms:modified>
  <cp:revision>24</cp:revision>
  <dc:subject/>
  <dc:title>Folie 1</dc:title>
</cp:coreProperties>
</file>