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E14-1BFE-4898-9F6D-3E8B294E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022-80DA-4E82-AF11-8CB052AA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61A0-F0E1-40CC-9ECE-30DEE723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01A5-C39D-4E15-B844-74246C3E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04E7-751A-4FCE-97DA-82CA4793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340-EBD3-4AA0-86C3-161C6365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E2E-B57D-45F8-8A8E-29CEC9E8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65EA-62CA-4E81-BC5B-C9B9ED34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F30-DBB5-4DCD-A488-560D4A6E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912-FEDF-4321-8050-71E0AF17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CEE-DB8C-4911-AA07-54582D3A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B09-E7F7-4B4C-80C6-F1B2235C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7670-563C-4835-AD4C-85AE36BE9A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332000" y="2349360"/>
            <a:ext cx="6769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stres, rutyna, konflikty międzyludzki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 sądach w Niemcz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187280" y="260280"/>
            <a:ext cx="460872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zkolenia dla personelu kierownicz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50920" y="907920"/>
            <a:ext cx="576000" cy="1657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stytu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95640" y="907920"/>
            <a:ext cx="360036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deralna akademia dla sędzi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2195640" y="1341360"/>
            <a:ext cx="3600360" cy="3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zkolenia we współpracy pomiędzy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emieckimi „landami“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1187280" y="907920"/>
            <a:ext cx="86364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na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gion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1187280" y="1773360"/>
            <a:ext cx="863640" cy="79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gion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Sakson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2195640" y="1773360"/>
            <a:ext cx="3600360" cy="358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kademia administracji publiczn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2195640" y="2205000"/>
            <a:ext cx="3600360" cy="3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zkolenia organizowane przez sąd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250920" y="2852640"/>
            <a:ext cx="576000" cy="2592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em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1187280" y="2852640"/>
            <a:ext cx="460872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gólne programy szkoleniowe: zarządzenie, negocjacje, retory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1187280" y="3284640"/>
            <a:ext cx="460872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ecjalne programy szkoleniowe: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szczególności, zarządzanie konflikta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1187280" y="3716280"/>
            <a:ext cx="460872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zkolenie nt. „coroczna rozmowa z pracownikiem“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1476360" y="458136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>
            <a:off x="2843280" y="458136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4284720" y="458136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2"/>
          <p:cNvSpPr/>
          <p:nvPr/>
        </p:nvSpPr>
        <p:spPr>
          <a:xfrm>
            <a:off x="900000" y="5589720"/>
            <a:ext cx="3888000" cy="1008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zesi i kierownicy identyfikują i zajmują si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akimi problemami 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ndywidualny sposó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6012000" y="260280"/>
            <a:ext cx="295272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entralne zarządzanie konflikta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w fazie przygotowawcze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6012000" y="907920"/>
            <a:ext cx="2952720" cy="792360"/>
          </a:xfrm>
          <a:prstGeom prst="rect">
            <a:avLst/>
          </a:prstGeom>
          <a:solidFill>
            <a:srgbClr val="bde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organizowane przez sąd apelacyjny d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szystkich sądów w okręgu („land“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6012000" y="1773360"/>
            <a:ext cx="2952720" cy="792000"/>
          </a:xfrm>
          <a:prstGeom prst="rect">
            <a:avLst/>
          </a:prstGeom>
          <a:solidFill>
            <a:srgbClr val="bde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wadzone przez osoby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jące doświadcze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edagogiczne i sędziów arbitró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6"/>
          <p:cNvSpPr/>
          <p:nvPr/>
        </p:nvSpPr>
        <p:spPr>
          <a:xfrm>
            <a:off x="1187280" y="4149720"/>
            <a:ext cx="460872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zkolenie dla mediatoró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6012000" y="2852640"/>
            <a:ext cx="2952720" cy="360360"/>
          </a:xfrm>
          <a:prstGeom prst="rect">
            <a:avLst/>
          </a:prstGeom>
          <a:solidFill>
            <a:srgbClr val="b4ea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ustalenie proble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8"/>
          <p:cNvSpPr/>
          <p:nvPr/>
        </p:nvSpPr>
        <p:spPr>
          <a:xfrm>
            <a:off x="6012000" y="3284640"/>
            <a:ext cx="2952720" cy="360360"/>
          </a:xfrm>
          <a:prstGeom prst="rect">
            <a:avLst/>
          </a:prstGeom>
          <a:solidFill>
            <a:srgbClr val="b4ea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wprowadzenie,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goda na prowadzenie postępow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9"/>
          <p:cNvSpPr/>
          <p:nvPr/>
        </p:nvSpPr>
        <p:spPr>
          <a:xfrm>
            <a:off x="6012000" y="3716280"/>
            <a:ext cx="2952720" cy="360360"/>
          </a:xfrm>
          <a:prstGeom prst="rect">
            <a:avLst/>
          </a:prstGeom>
          <a:solidFill>
            <a:srgbClr val="b4ea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tematy – należy określić konflik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0"/>
          <p:cNvSpPr/>
          <p:nvPr/>
        </p:nvSpPr>
        <p:spPr>
          <a:xfrm>
            <a:off x="6012000" y="4149720"/>
            <a:ext cx="2952720" cy="360360"/>
          </a:xfrm>
          <a:prstGeom prst="rect">
            <a:avLst/>
          </a:prstGeom>
          <a:solidFill>
            <a:srgbClr val="b4ea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 określenie interesów i potrz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1"/>
          <p:cNvSpPr/>
          <p:nvPr/>
        </p:nvSpPr>
        <p:spPr>
          <a:xfrm>
            <a:off x="6012000" y="4581360"/>
            <a:ext cx="2952720" cy="360360"/>
          </a:xfrm>
          <a:prstGeom prst="rect">
            <a:avLst/>
          </a:prstGeom>
          <a:solidFill>
            <a:srgbClr val="b4ea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 okres opcji i rozwiąz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2"/>
          <p:cNvSpPr/>
          <p:nvPr/>
        </p:nvSpPr>
        <p:spPr>
          <a:xfrm>
            <a:off x="6012000" y="5013360"/>
            <a:ext cx="2952720" cy="360360"/>
          </a:xfrm>
          <a:prstGeom prst="rect">
            <a:avLst/>
          </a:prstGeom>
          <a:solidFill>
            <a:srgbClr val="b4ea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. kształtowanie się przyszł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3"/>
          <p:cNvSpPr/>
          <p:nvPr/>
        </p:nvSpPr>
        <p:spPr>
          <a:xfrm>
            <a:off x="5435640" y="5589720"/>
            <a:ext cx="3529080" cy="93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organizowane centralni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rządzanie konfliktami przez biegł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cujących w różnych sąda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4"/>
          <p:cNvSpPr/>
          <p:nvPr/>
        </p:nvSpPr>
        <p:spPr>
          <a:xfrm>
            <a:off x="6227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5"/>
          <p:cNvSpPr/>
          <p:nvPr/>
        </p:nvSpPr>
        <p:spPr>
          <a:xfrm>
            <a:off x="8459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6"/>
          <p:cNvSpPr/>
          <p:nvPr/>
        </p:nvSpPr>
        <p:spPr>
          <a:xfrm>
            <a:off x="5867280" y="189000"/>
            <a:ext cx="0" cy="54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7"/>
          <p:cNvSpPr/>
          <p:nvPr/>
        </p:nvSpPr>
        <p:spPr>
          <a:xfrm>
            <a:off x="108000" y="2708280"/>
            <a:ext cx="892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09:01:58Z</dcterms:created>
  <dc:creator>Klerch</dc:creator>
  <dc:description/>
  <dc:language>en-US</dc:language>
  <cp:lastModifiedBy>User</cp:lastModifiedBy>
  <dcterms:modified xsi:type="dcterms:W3CDTF">2013-02-14T11:14:50Z</dcterms:modified>
  <cp:revision>25</cp:revision>
  <dc:subject/>
  <dc:title>Folie 1</dc:title>
</cp:coreProperties>
</file>