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FF217-28E8-4354-87C1-F2DD75EB090B}" type="slidenum">
              <a:rPr b="0" lang="fi-FI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CF187-AAB7-469D-A095-7746CF28A404}" type="slidenum">
              <a:rPr b="0" lang="fi-FI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4D195-FC71-4074-A0F1-6DD5A623A328}" type="slidenum">
              <a:rPr b="0" lang="fi-FI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97A2D-7C29-4786-82AE-699A70A71A76}" type="slidenum">
              <a:rPr b="0" lang="fi-FI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55328-86FD-4D73-95E3-00C29542CBFF}" type="slidenum">
              <a:rPr b="0" lang="fi-FI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9E968-3C53-4598-A946-89C58C0E3F1F}" type="slidenum">
              <a:rPr b="0" lang="fi-FI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117D0-0BC1-4810-9D4B-401E98DF9F04}" type="slidenum">
              <a:rPr b="0" lang="fi-FI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3829A-616F-429F-9B69-D51549D649AD}" type="slidenum">
              <a:rPr b="0" lang="fi-FI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657-5062-46A5-B2D6-10EC2BE6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8D5-24B7-4834-9E90-849EB919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8AF-B605-465F-AFE1-9D409879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021-FDB0-46D9-87D9-B39A09BF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E08-7656-41B5-B1ED-5BD50DE5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8C2-ADDD-459B-9C9B-045010F4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2AE-B190-41F4-A657-FFE000D0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E96-4B45-4196-B26F-D4E9EE08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049-49CB-40DE-A467-8F3C6A75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2C8-634E-40CA-8884-85B1C307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97E-C4DC-435F-B658-5E43827E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B10-C493-4965-BBC7-91251ED3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A5312-E024-4688-AD43-92FA2EF0D466}" type="slidenum">
              <a:rPr b="0" lang="fi-FI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Procedura pisemna w sprawach karnyc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916280"/>
            <a:ext cx="957744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awo wprowadzone w </a:t>
            </a: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brak przesłuchania stron w sądz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ymo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kala kar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kara grzywny lub pozbawienia wolności do dwóch l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skarżony przyznaje się do w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skarżony rezygnuje z prawa do przesłuch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fiara przestępstwa, jeśli dotyczy, nie wymaga zwoływania głównego przesłuch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aksymalna przewidziana kara to pozbawienie wolności na okres 9-u miesię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Procedura pisemna w sprawach karnyc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becnie stosowana w </a:t>
            </a: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35%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szystkich spraw karnych rozpatrywanych przez są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czas trwania postępowania </a:t>
            </a: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&lt; 1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m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Przebieg konkretnej spraw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pełnia drobne przestęps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dczas przesłuchania przez policj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zyznaje się do w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świadcza, że nie chce brać udziału w głównym przesłuchaniu stron w sądz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fiara przestępstwa, jeśli dotyczy, także oświadcza, że nie chce brać udziału w głównym przesłuchaniu stron w sądz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5480" y="104760"/>
            <a:ext cx="90712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Przebieg konkretnej spraw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oku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ecyduje o skierowaniu sprawy na drogę procedury pisemne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ormułuje oskarżenie w trybie procedury pisemne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 akcie oskarżenia uwzględnia propozycję k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Przebieg konkretnej spraw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979640"/>
            <a:ext cx="957744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ąd okręgow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ędzia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ozpatruje wszystkie oskarżenia zawarte w procedurze pisemnej w ciągu jednego tygod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ędzia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twierdza rozpatrywanie oskarżenia w trybie procedury pisemne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 przypadku ofiary przestępstwa, sąd pyta o jej roszcz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ąd zajmuje się kwestią doręczenia  oskarżonemu aktu oskarżenia oraz listy roszcze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 tym samym czasie sąd ogłasza datę wydania wyroku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iątek, za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ygodnie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Przebieg konkretnej spraw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skarż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usi wypełnić formularz, w którym zrzeka się prawa do przesłuch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oże wnieść odpowiedź na akt oskarżenie lub roszczenia ofiary przestępstwa, jeśli zostały złoż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Przebieg konkretnej spraw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ąd okręgow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ędzia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głasza wyrok (ogłasza wszystkie wyroki w tym tygodniu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reść wyroku jest standardowa: „oskarżony przyznał się do win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łożona kara jest zgodna z propozycją prokuratora lub niżs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08:17:12Z</dcterms:created>
  <dc:creator/>
  <dc:description/>
  <dc:language>en-US</dc:language>
  <cp:lastModifiedBy>User</cp:lastModifiedBy>
  <dcterms:modified xsi:type="dcterms:W3CDTF">2013-02-21T13:58:53Z</dcterms:modified>
  <cp:revision>8</cp:revision>
  <dc:subject/>
  <dc:title>Procedura pisemna w sprawach karnych</dc:title>
</cp:coreProperties>
</file>